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himes.wav" ContentType="audio/x-wav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B33-B1EA-48EA-B23D-EBC4C130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D0A0-E3FC-464D-A40B-5420C28F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7625-5443-4C35-B2F8-67693CE2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BDBD-344F-427F-BA28-86010F67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9D3B7-4CA2-4090-9765-FB7CEB41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0CF3B-E15D-472F-BB16-F7EF77DB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6BC34-D8DD-4FA6-9355-0E0E2BEF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84A8C-B793-4F05-9ABD-60901045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1A0D9-8F69-48FA-BBCD-7D1A2728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E104E-C677-4C2C-818F-FF8A0BF6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05ECE-0E33-4857-8B8B-4DA0AC8F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73D-5635-4BD1-8B38-EF8BB00C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ABF9E-C779-43B6-A168-805CB451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2C6D0-8418-41BF-9B4E-D0CD107E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DC081-9DF6-4A16-9394-D19903FD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83ACE-26D7-4E4C-BDFE-4C1B6E01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D0880-AFDA-4EBE-A630-514D6216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303C-A1AA-474A-8C28-64503437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4F88-0BCA-45FA-8E9B-AA98F249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A8E4-0E22-4A01-BE26-CC2FC867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004-7E96-4C27-B3AD-F7E14068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D56D-B9D3-485A-8731-9D449FFB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A7D-B81F-4B75-9D01-5B36BDD5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50EF-D00C-4FA1-8E4E-436AFA34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9310-8F12-4795-9DD1-9FB101EC62E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3946-080D-4D16-96C9-B47A94CE6C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未知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86FE-022B-4F4C-B940-7F2134A8647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9E83-BF36-4F9C-A46F-B7327FD82B9D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2206080" y="1066680"/>
            <a:ext cx="44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人教版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·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数学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·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八年级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上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247760" y="2189160"/>
            <a:ext cx="64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因式分解课件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免费下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3719520" y="40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平方差公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99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990720" y="609480"/>
            <a:ext cx="746748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Times New Roman"/>
              </a:rPr>
              <a:t>例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6000" spc="-1" strike="noStrike">
                <a:solidFill>
                  <a:srgbClr val="000099"/>
                </a:solidFill>
                <a:latin typeface="Times New Roman"/>
              </a:rPr>
              <a:t>分解因式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(1)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en-US" sz="6000" spc="-1" strike="noStrike" baseline="30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1" lang="en-US" sz="6000" spc="-1" strike="noStrike" baseline="30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; 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6000" spc="-1" strike="noStrike" baseline="30000">
                <a:solidFill>
                  <a:srgbClr val="000099"/>
                </a:solidFill>
                <a:latin typeface="Times New Roman"/>
              </a:rPr>
              <a:t>3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 – 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ab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文本框 8199"/>
          <p:cNvSpPr/>
          <p:nvPr/>
        </p:nvSpPr>
        <p:spPr>
          <a:xfrm>
            <a:off x="1082520" y="141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990720" y="609480"/>
            <a:ext cx="74674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1" lang="zh-CN" sz="6000" spc="-1" strike="noStrike">
                <a:solidFill>
                  <a:srgbClr val="000099"/>
                </a:solidFill>
                <a:latin typeface="Times New Roman"/>
              </a:rPr>
              <a:t>分解因式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 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828800" y="1905120"/>
            <a:ext cx="5638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(1) a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b—     b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       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(2)  a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(x-y)-x+y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(3)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–a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+16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762120" y="228600"/>
            <a:ext cx="2361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尝试二</a:t>
            </a:r>
            <a:endParaRPr b="1" lang="en-US" sz="7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11606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1066680" y="228600"/>
            <a:ext cx="655344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分解因式：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）</a:t>
            </a: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-4x</a:t>
            </a:r>
            <a:r>
              <a:rPr b="1" lang="en-US" sz="60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1" lang="en-US" sz="60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-6x</a:t>
            </a:r>
            <a:r>
              <a:rPr b="1" lang="en-US" sz="6000" spc="-1" strike="noStrike" baseline="30000">
                <a:solidFill>
                  <a:srgbClr val="000099"/>
                </a:solidFill>
                <a:latin typeface="Arial"/>
              </a:rPr>
              <a:t>3</a:t>
            </a: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1" lang="en-US" sz="60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99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US" sz="60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(x-1)+b</a:t>
            </a:r>
            <a:r>
              <a:rPr b="1" lang="en-US" sz="60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(1-x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99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lang="en-US" sz="6000" spc="-1" strike="noStrike" baseline="30000">
                <a:solidFill>
                  <a:srgbClr val="000099"/>
                </a:solidFill>
                <a:latin typeface="Arial"/>
              </a:rPr>
              <a:t>3</a:t>
            </a: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-9x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黑体"/>
              </a:rPr>
              <a:t>                       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．如果多项式各项含有公因式，则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第一步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是提出这个公因式．  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．如果多项式各项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没有公因式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，则第一步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考虑用公式分解因式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黑体"/>
              </a:rPr>
              <a:t>3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．第一步分解因式以后，所含的多项式还可以继续分解，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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则需要进一步分解因式．直到每个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多项式因式都不能分解为止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WordArt 2"/>
          <p:cNvSpPr txBox="1"/>
          <p:nvPr/>
        </p:nvSpPr>
        <p:spPr>
          <a:xfrm>
            <a:off x="228600" y="304920"/>
            <a:ext cx="251460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8440">
                  <a:solidFill>
                    <a:srgbClr val="008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三、小结</a:t>
            </a:r>
            <a:endParaRPr b="1" lang="en-US" sz="1800" spc="1" strike="noStrike">
              <a:ln w="28440">
                <a:solidFill>
                  <a:srgbClr val="008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CCAD-7236-4D55-A873-163C7FB3ED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80880" y="5335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问题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：你能叙述多项式因式分解的定义吗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黑体"/>
              </a:rPr>
              <a:t>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04920" y="243828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53760"/>
                </a:solidFill>
                <a:latin typeface="Arial"/>
                <a:ea typeface="黑体"/>
              </a:rPr>
              <a:t>        </a:t>
            </a:r>
            <a:r>
              <a:rPr b="1" lang="zh-CN" sz="5400" spc="-1" strike="noStrike">
                <a:solidFill>
                  <a:srgbClr val="f53760"/>
                </a:solidFill>
                <a:latin typeface="Arial"/>
                <a:ea typeface="黑体"/>
              </a:rPr>
              <a:t>多项式的因式分解其实是整式乘法的逆用，</a:t>
            </a:r>
            <a:r>
              <a:rPr b="1" lang="zh-CN" sz="5400" spc="-1" strike="noStrike">
                <a:solidFill>
                  <a:srgbClr val="f53760"/>
                </a:solidFill>
                <a:latin typeface="Arial"/>
                <a:ea typeface="黑体"/>
              </a:rPr>
              <a:t></a:t>
            </a:r>
            <a:r>
              <a:rPr b="1" lang="zh-CN" sz="5400" spc="-1" strike="noStrike">
                <a:solidFill>
                  <a:srgbClr val="f53760"/>
                </a:solidFill>
                <a:latin typeface="Arial"/>
                <a:ea typeface="黑体"/>
              </a:rPr>
              <a:t>也就是把一个多项式化成了几个整式的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黑体"/>
              </a:rPr>
              <a:t>积的形式</a:t>
            </a:r>
            <a:r>
              <a:rPr b="1" lang="zh-CN" sz="5400" spc="-1" strike="noStrike">
                <a:solidFill>
                  <a:srgbClr val="f53760"/>
                </a:solidFill>
                <a:latin typeface="Arial"/>
                <a:ea typeface="黑体"/>
              </a:rPr>
              <a:t>．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380880" y="228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问题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：运用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黑体"/>
              </a:rPr>
              <a:t>提公因式法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分解因式的步骤是什么？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62120" y="2057400"/>
            <a:ext cx="83818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分解因式（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）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8m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n+2mn        (2)12xyz-9x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baseline="30000">
                <a:solidFill>
                  <a:srgbClr val="000099"/>
                </a:solidFill>
                <a:latin typeface="Arial"/>
              </a:rPr>
              <a:t>(3)2a(y-z)-3b(z-y)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85800" y="4648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(4)a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-b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327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09480" y="228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问题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3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：你能将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a</a:t>
            </a:r>
            <a:r>
              <a:rPr b="1" lang="en-US" sz="54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-b</a:t>
            </a:r>
            <a:r>
              <a:rPr b="1" lang="en-US" sz="54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分解     因式吗？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066680" y="2057400"/>
            <a:ext cx="8305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多项式的乘法公式的逆向应用，就是多项式的因式分解公式，如果被分解的多项式符合公式的条件，就可以直接写出因式分解的结果，这种分解因式的方法称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运用公式法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．今天我们就来学习利用平方差公式分解因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457200" y="0"/>
            <a:ext cx="8458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观察平方差公式：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a</a:t>
            </a:r>
            <a:r>
              <a:rPr b="1" lang="en-US" sz="54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-b</a:t>
            </a:r>
            <a:r>
              <a:rPr b="1" lang="en-US" sz="54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=(a+b)(a-b)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的项、指数、符号有什么特点？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380880" y="3124080"/>
            <a:ext cx="82296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（</a:t>
            </a:r>
            <a:r>
              <a:rPr b="1" lang="en-US" sz="4000" spc="-1" strike="noStrike">
                <a:solidFill>
                  <a:srgbClr val="f53760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f53760"/>
                </a:solidFill>
                <a:latin typeface="Arial"/>
                <a:ea typeface="黑体"/>
              </a:rPr>
              <a:t>）左边是二项式，每项都是平方的形式，两项的符号相反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53760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f53760"/>
                </a:solidFill>
                <a:latin typeface="Arial"/>
                <a:ea typeface="黑体"/>
              </a:rPr>
              <a:t>（</a:t>
            </a:r>
            <a:r>
              <a:rPr b="1" lang="en-US" sz="4000" spc="-1" strike="noStrike">
                <a:solidFill>
                  <a:srgbClr val="f53760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f53760"/>
                </a:solidFill>
                <a:latin typeface="Arial"/>
                <a:ea typeface="黑体"/>
              </a:rPr>
              <a:t>）右边是两个多项式的积，一个因式是两数的和，另一个因式是这两数的差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53760"/>
                </a:solidFill>
                <a:latin typeface="Arial"/>
                <a:ea typeface="黑体"/>
              </a:rPr>
              <a:t>（</a:t>
            </a:r>
            <a:r>
              <a:rPr b="1" lang="en-US" sz="4800" spc="-1" strike="noStrike">
                <a:solidFill>
                  <a:srgbClr val="f53760"/>
                </a:solidFill>
                <a:latin typeface="Arial"/>
                <a:ea typeface="黑体"/>
              </a:rPr>
              <a:t>3</a:t>
            </a:r>
            <a:r>
              <a:rPr b="1" lang="zh-CN" sz="4800" spc="-1" strike="noStrike">
                <a:solidFill>
                  <a:srgbClr val="f53760"/>
                </a:solidFill>
                <a:latin typeface="Arial"/>
                <a:ea typeface="黑体"/>
              </a:rPr>
              <a:t>）在乘法公式中，“平方差”是计算结果，而在分解因式，</a:t>
            </a:r>
            <a:r>
              <a:rPr b="1" lang="zh-CN" sz="4800" spc="-1" strike="noStrike">
                <a:solidFill>
                  <a:srgbClr val="f53760"/>
                </a:solidFill>
                <a:latin typeface="Arial"/>
                <a:ea typeface="黑体"/>
              </a:rPr>
              <a:t>“</a:t>
            </a:r>
            <a:r>
              <a:rPr b="1" lang="zh-CN" sz="4800" spc="-1" strike="noStrike">
                <a:solidFill>
                  <a:srgbClr val="f53760"/>
                </a:solidFill>
                <a:latin typeface="Arial"/>
                <a:ea typeface="黑体"/>
              </a:rPr>
              <a:t>平方差”是得分解因式的多项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228600" y="2438280"/>
            <a:ext cx="8915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由此可知如果多项式是两数差的形式，并且这两个数又都可以写成平方的形式，那么这个多项式可以运用平方差公式分解因式．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文本框 8199"/>
          <p:cNvSpPr/>
          <p:nvPr/>
        </p:nvSpPr>
        <p:spPr>
          <a:xfrm>
            <a:off x="1828800" y="46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80880" y="0"/>
            <a:ext cx="876312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[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例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1]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分解因式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：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     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）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4x</a:t>
            </a:r>
            <a:r>
              <a:rPr b="1" lang="en-US" sz="60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-9 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     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）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(x+p)</a:t>
            </a:r>
            <a:r>
              <a:rPr b="1" lang="en-US" sz="60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-(x+q)</a:t>
            </a:r>
            <a:r>
              <a:rPr b="1" lang="en-US" sz="60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0" y="-303120"/>
            <a:ext cx="9753480" cy="71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8080200" y="4299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6248520" y="3962520"/>
            <a:ext cx="1944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尝试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57200" y="-3960"/>
            <a:ext cx="9296280" cy="76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、下列多项式中，能用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平方差分解因式的是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(    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 -xy   B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 +xy 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-x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 +y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    D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+y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、分解因式：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）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 -144b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                       (2)16(x+y)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 -25(x-y)</a:t>
            </a:r>
            <a:r>
              <a:rPr b="1" lang="en-US" sz="5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9:32:56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44:43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1004000000000001024120</vt:lpwstr>
  </property>
  <property fmtid="{D5CDD505-2E9C-101B-9397-08002B2CF9AE}" pid="4" name="Version">
    <vt:r8>1</vt:r8>
  </property>
</Properties>
</file>