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4.jpeg" ContentType="image/jpeg"/>
  <Override PartName="/ppt/media/image5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8BC-9FD9-46C4-B9F3-9630DC16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C06-A165-4292-AA41-B74AE135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00A-3DF7-4218-995C-03C79E13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83E-1CAD-4B59-B350-5A308A75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9342-85EB-466F-90F3-13C72A92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596C-41FE-4CD6-AFDC-2867D884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FCA5-F047-4D37-8EEA-1C005A4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E2A2-6733-4E7B-9786-5B8D9C97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D64C-F431-43BF-8F9B-7AE96A71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BCDE-B299-4816-BFA6-1D57AFF1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49A9-09D5-4F05-A409-1C835E79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6CE-FE1C-42F8-9CAA-65093E5B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47C-CD74-4AFA-B428-10A4326A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B779-C66E-425E-B273-69A7BC9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1731-9CD2-4F7E-B495-2EACF7F3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A47F-B16A-4B61-A0CF-63A7543B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22C9-94F0-402E-86FE-B2D11F67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410-A7AE-419D-8575-1C03C95E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F94-E3FD-48E9-8E81-4B5F95D2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E9C-A07E-4FCC-8B24-E182751E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D55-390D-4664-A485-310EF2AD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BAB-DFC3-427D-941D-0CE9409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384-5523-4B9E-81CA-3ED4A1C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776-44D5-46AD-8F77-B29FFD95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BB2D-0106-4CFB-A208-AD3C9E22FB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9A0-0E59-4078-9BC9-24E60FB9527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762-8686-4B07-A08E-47AA3FDAD5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52" descr="土族漫画"/>
          <p:cNvPicPr/>
          <p:nvPr/>
        </p:nvPicPr>
        <p:blipFill>
          <a:blip r:embed="rId1"/>
          <a:stretch/>
        </p:blipFill>
        <p:spPr>
          <a:xfrm>
            <a:off x="4834080" y="620640"/>
            <a:ext cx="3859200" cy="561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53"/>
          <p:cNvSpPr/>
          <p:nvPr/>
        </p:nvSpPr>
        <p:spPr>
          <a:xfrm>
            <a:off x="755640" y="126828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艺 术 民 俗 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054"/>
          <p:cNvSpPr/>
          <p:nvPr/>
        </p:nvSpPr>
        <p:spPr>
          <a:xfrm>
            <a:off x="1187280" y="256536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演讲者：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××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时    间：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××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第一章    艺术民俗学的研究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第二章    物质民俗与艺术审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第三章    社会民俗与艺术境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第四章    信仰民俗中的艺术纬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第五章    岁时人生与艺术关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第六章    游艺民俗及其艺术学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内容占位符 4104" descr="彩色剪纸5"/>
          <p:cNvPicPr/>
          <p:nvPr/>
        </p:nvPicPr>
        <p:blipFill>
          <a:blip r:embed="rId1"/>
          <a:stretch/>
        </p:blipFill>
        <p:spPr>
          <a:xfrm>
            <a:off x="6300720" y="4437000"/>
            <a:ext cx="1816200" cy="1471680"/>
          </a:xfrm>
          <a:prstGeom prst="rect">
            <a:avLst/>
          </a:prstGeom>
          <a:ln w="0">
            <a:noFill/>
          </a:ln>
        </p:spPr>
      </p:pic>
      <p:pic>
        <p:nvPicPr>
          <p:cNvPr id="89" name="内容占位符 4106" descr="黑白剪纸1"/>
          <p:cNvPicPr/>
          <p:nvPr/>
        </p:nvPicPr>
        <p:blipFill>
          <a:blip r:embed="rId2"/>
          <a:stretch/>
        </p:blipFill>
        <p:spPr>
          <a:xfrm>
            <a:off x="324000" y="333360"/>
            <a:ext cx="1152360" cy="1079640"/>
          </a:xfrm>
          <a:prstGeom prst="rect">
            <a:avLst/>
          </a:prstGeom>
          <a:ln w="0">
            <a:noFill/>
          </a:ln>
        </p:spPr>
      </p:pic>
      <p:sp>
        <p:nvSpPr>
          <p:cNvPr id="9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d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 民俗的分类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物质民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人民在创造和消费物质财富过程中所不断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重复的、带有模式性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活动，以及由这些活动所产生的带有类型性的产品形式。包括生产民俗、商贸民俗、饮食民俗、服饰民俗、居住民俗、交通民俗、医药保健民俗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精神民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指在物质文化和制度文化基础上形成的有关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意识形态方面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民俗。它是人类在认识自然和改造自然的过程中形成的心理经验，这种经验一旦成为集体的心理习惯，并表现为特定的行为方式并世代传承，就成为精神民俗。主要包括民间信仰、民间巫术、民间哲学伦理观念以及民间艺术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内容占位符 9219" descr="吉祥结1"/>
          <p:cNvPicPr/>
          <p:nvPr/>
        </p:nvPicPr>
        <p:blipFill>
          <a:blip r:embed="rId1"/>
          <a:stretch/>
        </p:blipFill>
        <p:spPr>
          <a:xfrm>
            <a:off x="1042920" y="549360"/>
            <a:ext cx="79056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内容占位符 9221" descr="按钮"/>
          <p:cNvPicPr/>
          <p:nvPr/>
        </p:nvPicPr>
        <p:blipFill>
          <a:blip r:embed="rId2"/>
          <a:stretch/>
        </p:blipFill>
        <p:spPr>
          <a:xfrm>
            <a:off x="324000" y="170028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9223" descr="按钮"/>
          <p:cNvPicPr/>
          <p:nvPr/>
        </p:nvPicPr>
        <p:blipFill>
          <a:blip r:embed="rId3"/>
          <a:stretch/>
        </p:blipFill>
        <p:spPr>
          <a:xfrm>
            <a:off x="324000" y="3933720"/>
            <a:ext cx="476280" cy="381240"/>
          </a:xfrm>
          <a:prstGeom prst="rect">
            <a:avLst/>
          </a:prstGeom>
          <a:ln w="0">
            <a:noFill/>
          </a:ln>
        </p:spPr>
      </p:pic>
      <p:sp>
        <p:nvSpPr>
          <p:cNvPr id="9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d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社会民俗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也称社会组织及制度民俗，指人们在特定条件下所结成的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社会关系的惯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它所关涉到的是从个人到家庭、家族、乡里、民族、国家乃至国际社会在结合、交往过程中使用并传承的集体行为方式。主要包括社会组织民俗（血缘组织、地缘组织、业缘组织等）、社会制度民俗（如习惯法、人生礼仪等）、岁时节日民俗以及民间娱乐习俗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zh-CN" sz="2400" spc="-1" strike="noStrike">
                <a:solidFill>
                  <a:srgbClr val="ff3300"/>
                </a:solidFill>
                <a:latin typeface="Arial"/>
              </a:rPr>
              <a:t>口承语言民俗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指通过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口语约定俗成、集体传承的信息交流系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包括两大部分（民俗语言与民间文学）。民俗语言指在一个民族或者地区中流行的那些具有特定含义，并且反复出现的套语，如民间俗语、谚语、谜语、歇后语、街头流行语、黑话、酒令等等。民间文学指由人民集体创作和流传的口头文学，主要有神话、民间传说、民间故事、民间歌谣、民间说唱等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内容占位符 10244" descr="古典2"/>
          <p:cNvPicPr/>
          <p:nvPr/>
        </p:nvPicPr>
        <p:blipFill>
          <a:blip r:embed="rId1"/>
          <a:stretch/>
        </p:blipFill>
        <p:spPr>
          <a:xfrm>
            <a:off x="1403280" y="260280"/>
            <a:ext cx="77148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10247" descr="按钮"/>
          <p:cNvPicPr/>
          <p:nvPr/>
        </p:nvPicPr>
        <p:blipFill>
          <a:blip r:embed="rId2"/>
          <a:stretch/>
        </p:blipFill>
        <p:spPr>
          <a:xfrm>
            <a:off x="324000" y="371628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0250" descr="按钮"/>
          <p:cNvPicPr/>
          <p:nvPr/>
        </p:nvPicPr>
        <p:blipFill>
          <a:blip r:embed="rId3"/>
          <a:stretch/>
        </p:blipFill>
        <p:spPr>
          <a:xfrm>
            <a:off x="395280" y="1341360"/>
            <a:ext cx="476280" cy="381240"/>
          </a:xfrm>
          <a:prstGeom prst="rect">
            <a:avLst/>
          </a:prstGeom>
          <a:ln w="0">
            <a:noFill/>
          </a:ln>
        </p:spPr>
      </p:pic>
      <p:sp>
        <p:nvSpPr>
          <p:cNvPr id="10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少数民族民间艺术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民 间 舞 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民 间 歌 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民 族 服 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民 间 说 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民 间 节 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民 间 美 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5366" descr="插花"/>
          <p:cNvPicPr/>
          <p:nvPr/>
        </p:nvPicPr>
        <p:blipFill>
          <a:blip r:embed="rId1"/>
          <a:stretch/>
        </p:blipFill>
        <p:spPr>
          <a:xfrm>
            <a:off x="7093080" y="4292640"/>
            <a:ext cx="12794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5367" descr="琵琶"/>
          <p:cNvPicPr/>
          <p:nvPr/>
        </p:nvPicPr>
        <p:blipFill>
          <a:blip r:embed="rId2"/>
          <a:stretch/>
        </p:blipFill>
        <p:spPr>
          <a:xfrm>
            <a:off x="2771640" y="4292640"/>
            <a:ext cx="129708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5368" descr="桌子"/>
          <p:cNvPicPr/>
          <p:nvPr/>
        </p:nvPicPr>
        <p:blipFill>
          <a:blip r:embed="rId3"/>
          <a:stretch/>
        </p:blipFill>
        <p:spPr>
          <a:xfrm>
            <a:off x="684360" y="4292640"/>
            <a:ext cx="132876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5369" descr="太师椅1"/>
          <p:cNvPicPr/>
          <p:nvPr/>
        </p:nvPicPr>
        <p:blipFill>
          <a:blip r:embed="rId4"/>
          <a:stretch/>
        </p:blipFill>
        <p:spPr>
          <a:xfrm>
            <a:off x="5003640" y="4292640"/>
            <a:ext cx="1278000" cy="1800360"/>
          </a:xfrm>
          <a:prstGeom prst="rect">
            <a:avLst/>
          </a:prstGeom>
          <a:ln w="0">
            <a:noFill/>
          </a:ln>
        </p:spPr>
      </p:pic>
      <p:sp>
        <p:nvSpPr>
          <p:cNvPr id="10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1507" descr="财神"/>
          <p:cNvPicPr/>
          <p:nvPr/>
        </p:nvPicPr>
        <p:blipFill>
          <a:blip r:embed="rId1"/>
          <a:stretch/>
        </p:blipFill>
        <p:spPr>
          <a:xfrm>
            <a:off x="5003640" y="549360"/>
            <a:ext cx="1079640" cy="14396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1508" descr="彩色剪纸4"/>
          <p:cNvPicPr/>
          <p:nvPr/>
        </p:nvPicPr>
        <p:blipFill>
          <a:blip r:embed="rId2"/>
          <a:stretch/>
        </p:blipFill>
        <p:spPr>
          <a:xfrm>
            <a:off x="900000" y="620640"/>
            <a:ext cx="106200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1509" descr="彩色剪纸6"/>
          <p:cNvPicPr/>
          <p:nvPr/>
        </p:nvPicPr>
        <p:blipFill>
          <a:blip r:embed="rId3"/>
          <a:stretch/>
        </p:blipFill>
        <p:spPr>
          <a:xfrm>
            <a:off x="2556000" y="620640"/>
            <a:ext cx="1584360" cy="11098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1510" descr="黑白剪纸2"/>
          <p:cNvPicPr/>
          <p:nvPr/>
        </p:nvPicPr>
        <p:blipFill>
          <a:blip r:embed="rId4"/>
          <a:stretch/>
        </p:blipFill>
        <p:spPr>
          <a:xfrm>
            <a:off x="826920" y="2349360"/>
            <a:ext cx="1729080" cy="13320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1511" descr="荷包1"/>
          <p:cNvPicPr/>
          <p:nvPr/>
        </p:nvPicPr>
        <p:blipFill>
          <a:blip r:embed="rId5"/>
          <a:stretch/>
        </p:blipFill>
        <p:spPr>
          <a:xfrm>
            <a:off x="5435640" y="3860640"/>
            <a:ext cx="2087640" cy="14828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1512" descr="彩色剪纸2"/>
          <p:cNvPicPr/>
          <p:nvPr/>
        </p:nvPicPr>
        <p:blipFill>
          <a:blip r:embed="rId6"/>
          <a:stretch/>
        </p:blipFill>
        <p:spPr>
          <a:xfrm>
            <a:off x="6804000" y="620640"/>
            <a:ext cx="1655640" cy="12258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1513" descr="荷包4"/>
          <p:cNvPicPr/>
          <p:nvPr/>
        </p:nvPicPr>
        <p:blipFill>
          <a:blip r:embed="rId7"/>
          <a:stretch/>
        </p:blipFill>
        <p:spPr>
          <a:xfrm>
            <a:off x="1403280" y="3933720"/>
            <a:ext cx="2016360" cy="14320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1514" descr="剪纸1"/>
          <p:cNvPicPr/>
          <p:nvPr/>
        </p:nvPicPr>
        <p:blipFill>
          <a:blip r:embed="rId8"/>
          <a:stretch/>
        </p:blipFill>
        <p:spPr>
          <a:xfrm>
            <a:off x="6227640" y="227664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1515" descr="纽花"/>
          <p:cNvPicPr/>
          <p:nvPr/>
        </p:nvPicPr>
        <p:blipFill>
          <a:blip r:embed="rId9"/>
          <a:stretch/>
        </p:blipFill>
        <p:spPr>
          <a:xfrm>
            <a:off x="3492360" y="2060640"/>
            <a:ext cx="1640160" cy="165564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21516"/>
          <p:cNvSpPr/>
          <p:nvPr/>
        </p:nvSpPr>
        <p:spPr>
          <a:xfrm>
            <a:off x="1763640" y="57913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民间工艺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剪纸、刺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19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谢                 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9:34Z</dcterms:created>
  <dc:creator/>
  <dc:description/>
  <dc:language>en-US</dc:language>
  <cp:lastModifiedBy>An</cp:lastModifiedBy>
  <dcterms:modified xsi:type="dcterms:W3CDTF">2016-05-01T00:59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