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4B8-4D6B-4A24-881B-BFAC011BD3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DFF-B161-4CB8-BB11-9B810FBE20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F5E-1A22-43C0-8A69-07E5C30B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975-0A49-4895-8365-D388583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942-3DE9-498B-9B9D-FE2F1274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302-B72C-4B68-8996-07F8367E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497-EC45-4BD6-9F6E-17C07F4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0B6-A958-4144-A9C6-396E2CC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709-E1AB-489F-AB2B-DC91400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0C4B-A50A-4AB4-B187-2131E72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F13-9EF6-4DB2-B6E1-2EBFCF1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5EE8-792A-423A-A8AE-79BBBEDE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FCE-6845-4620-98C8-190C237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DF7-673B-4309-8038-E1D39D3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9F8-40AE-4C73-9264-7153114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7F4-EE80-4CBF-8464-4D44E47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EDB-F470-4E40-8C7B-16EF0980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DC7-83BD-4CCF-BE0F-527CC108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916-0BF6-45A7-AB3A-757A2DBF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C7D-833A-44A7-A6F7-D994514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9E7-9A49-4FD4-988B-32B29D1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3F0-F70A-4E4A-89EB-1F40B7A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715-5C23-4605-BAAB-433345C8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D54-DCBB-4672-9250-67A8E70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3E1-8706-49F4-BC18-3569AD0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696-4B7B-4558-8B2D-EB9580B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B6A-4F43-453E-93F8-837E6FB1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7B7E-AF18-48E9-8C47-29D075F8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5" descr=""/>
          <p:cNvPicPr/>
          <p:nvPr/>
        </p:nvPicPr>
        <p:blipFill>
          <a:blip r:embed="rId1"/>
          <a:stretch/>
        </p:blipFill>
        <p:spPr>
          <a:xfrm>
            <a:off x="0" y="1994040"/>
            <a:ext cx="9144000" cy="486396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212840" y="1128600"/>
            <a:ext cx="676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液体之间的溶解现象</a:t>
            </a:r>
            <a:endParaRPr b="1" lang="en-US" sz="4800" spc="-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21038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3366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"/>
          <p:cNvPicPr/>
          <p:nvPr/>
        </p:nvPicPr>
        <p:blipFill>
          <a:blip r:embed="rId1"/>
          <a:stretch/>
        </p:blipFill>
        <p:spPr>
          <a:xfrm>
            <a:off x="468360" y="333360"/>
            <a:ext cx="4464000" cy="30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2"/>
          <a:stretch/>
        </p:blipFill>
        <p:spPr>
          <a:xfrm>
            <a:off x="468360" y="3718080"/>
            <a:ext cx="4464000" cy="2489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435640" y="126828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盐、高锰酸钾这些固体在水中溶解了。形成均匀、透明、稳定的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508720" y="436572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液体也能像食盐、高锰酸钾那样溶解在水中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187280" y="6364440"/>
            <a:ext cx="54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9"/>
          <p:cNvSpPr/>
          <p:nvPr/>
        </p:nvSpPr>
        <p:spPr>
          <a:xfrm>
            <a:off x="1541520" y="22035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08000" y="40464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洗发液和胶水能溶解在水中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26920" y="1268280"/>
            <a:ext cx="7856640" cy="2087640"/>
            <a:chOff x="826920" y="1268280"/>
            <a:chExt cx="7856640" cy="2087640"/>
          </a:xfrm>
        </p:grpSpPr>
        <p:pic>
          <p:nvPicPr>
            <p:cNvPr id="102" name="Picture 4" descr="1"/>
            <p:cNvPicPr/>
            <p:nvPr/>
          </p:nvPicPr>
          <p:blipFill>
            <a:blip r:embed="rId1"/>
            <a:stretch/>
          </p:blipFill>
          <p:spPr>
            <a:xfrm>
              <a:off x="826920" y="1339560"/>
              <a:ext cx="19717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" descr="2"/>
            <p:cNvPicPr/>
            <p:nvPr/>
          </p:nvPicPr>
          <p:blipFill>
            <a:blip r:embed="rId2"/>
            <a:stretch/>
          </p:blipFill>
          <p:spPr>
            <a:xfrm>
              <a:off x="2987640" y="1339560"/>
              <a:ext cx="148248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3"/>
            <p:cNvPicPr/>
            <p:nvPr/>
          </p:nvPicPr>
          <p:blipFill>
            <a:blip r:embed="rId3"/>
            <a:stretch/>
          </p:blipFill>
          <p:spPr>
            <a:xfrm>
              <a:off x="4716360" y="1339560"/>
              <a:ext cx="216036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4"/>
            <p:cNvPicPr/>
            <p:nvPr/>
          </p:nvPicPr>
          <p:blipFill>
            <a:blip r:embed="rId4"/>
            <a:stretch/>
          </p:blipFill>
          <p:spPr>
            <a:xfrm>
              <a:off x="7019640" y="1268280"/>
              <a:ext cx="166392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8"/>
          <p:cNvSpPr/>
          <p:nvPr/>
        </p:nvSpPr>
        <p:spPr>
          <a:xfrm>
            <a:off x="2249640" y="3718080"/>
            <a:ext cx="48747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猜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洗发液和胶水能溶解在水中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468360" y="333360"/>
            <a:ext cx="8064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实验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倒出一勺的胶水或洗发液倒入装有水的玻璃杯里，仔细观察它是怎样进入水中的，在水中是飘浮还是下沉。当杯子静静地放着时，胶水或洗发液是怎样扩散的，把你观察到的现象记录在实验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记录好之后，再用小棒轻轻地搅拌一下，你又会看到胶水或洗发液产生什么变化，把你观察到的现象记录在实验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最后用小棒充分地搅拌，胶水或洗发液在水中溶解了吗？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1547640" y="1341360"/>
            <a:ext cx="5793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与食盐和高锰酸钾的溶解相比，胶水或洗发液的溶解有什么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163440" y="83664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醋、酒精和食用油能溶解在水中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6720" y="2738160"/>
            <a:ext cx="82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三个试管中，各盛入约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-1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的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别往试管中加入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-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的醋、酒精和食用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充分振荡后，静置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察、描述这三种物质在水中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组同学边观察边记录，记录在实验记录单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332000" y="1125360"/>
            <a:ext cx="6510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与醋与酒精的溶解相比，食用油在水中的状态有什么特点？食用油能溶解在水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能区分液体之间的溶解或不溶解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547640" y="1628640"/>
            <a:ext cx="59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在生活中见过哪些液体之间的溶解现象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3333cc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0D6-7499-44D8-80FF-3A8EC2D038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47Z</dcterms:modified>
  <cp:revision>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4c03000000000001024120</vt:lpwstr>
  </property>
</Properties>
</file>