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0CC-33AD-499D-B8F7-56AC9D63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999-F5E3-4E0D-A65A-A9B60B88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524-03FD-4150-B99C-B83B2882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A0F-1F51-4053-A8B2-586E282E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41D-C422-4157-A2BE-59125D03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1ED-2636-4CB8-9784-A30D1AF4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5FB-1F19-4BC1-9B7F-DD40F610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6BF-424E-452B-9A30-F3EE958E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675-B5B5-4A35-959B-15BAC453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9D6-D7C9-49FC-B6C2-483AED59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5B1-6B9E-4B28-89B9-27BD0750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151-FF72-45B0-A113-F83A95B8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9434-2E37-4890-8645-9DF354B27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258920" y="1700280"/>
            <a:ext cx="6481800" cy="19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用字母表示数</a:t>
            </a:r>
            <a:endParaRPr b="0" lang="en-US" sz="66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45000" y="6145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762120" y="2286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　　用字母表示数可以简明地表达数量关系、运算定律和计算公式，为研究和解决问题带来很多方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5580000" y="6021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990720" y="2819520"/>
            <a:ext cx="72388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路程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速度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时间，那么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809880" y="3429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v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266480" y="1295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219320" y="609480"/>
            <a:ext cx="1828800" cy="4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想一想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14400" y="1676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在一个含有字母的式子里，数与字母、字母与字母相乘，应该怎样写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28800" y="4952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以写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还可以写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219320" y="4114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以写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×4.5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5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90720" y="3352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乘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4.5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可以怎样写？　　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乘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可以怎样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838080" y="685800"/>
            <a:ext cx="2133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说一说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16765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校买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足球，每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，又买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篮球，每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.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066680" y="25909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（　　　　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066680" y="3352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.6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（　　　　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066680" y="4114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.6b – 9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（　　　　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990720" y="4952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a + 45.6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（　　　　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492120" y="626436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219320" y="838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线段把左右两边相等的数连接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27"/>
          <p:cNvGrpSpPr/>
          <p:nvPr/>
        </p:nvGrpSpPr>
        <p:grpSpPr>
          <a:xfrm>
            <a:off x="1219320" y="1752480"/>
            <a:ext cx="2895480" cy="4443480"/>
            <a:chOff x="1219320" y="1752480"/>
            <a:chExt cx="2895480" cy="4443480"/>
          </a:xfrm>
        </p:grpSpPr>
        <p:sp>
          <p:nvSpPr>
            <p:cNvPr id="62" name="Text Box 5"/>
            <p:cNvSpPr/>
            <p:nvPr/>
          </p:nvSpPr>
          <p:spPr>
            <a:xfrm>
              <a:off x="1219320" y="17524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比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多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6"/>
            <p:cNvSpPr/>
            <p:nvPr/>
          </p:nvSpPr>
          <p:spPr>
            <a:xfrm>
              <a:off x="1219320" y="2438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比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少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7"/>
            <p:cNvSpPr/>
            <p:nvPr/>
          </p:nvSpPr>
          <p:spPr>
            <a:xfrm>
              <a:off x="1219320" y="32767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个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相加的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8"/>
            <p:cNvSpPr/>
            <p:nvPr/>
          </p:nvSpPr>
          <p:spPr>
            <a:xfrm>
              <a:off x="1219320" y="40384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个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相乘的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1295280" y="48006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1219320" y="55627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Picture 12" descr=""/>
            <p:cNvPicPr/>
            <p:nvPr/>
          </p:nvPicPr>
          <p:blipFill>
            <a:blip r:embed="rId1"/>
            <a:stretch/>
          </p:blipFill>
          <p:spPr>
            <a:xfrm>
              <a:off x="2133720" y="5410080"/>
              <a:ext cx="25380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Line 19"/>
          <p:cNvSpPr/>
          <p:nvPr/>
        </p:nvSpPr>
        <p:spPr>
          <a:xfrm>
            <a:off x="3276720" y="2057400"/>
            <a:ext cx="3047760" cy="1447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3200400" y="2743200"/>
            <a:ext cx="2971800" cy="1676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1"/>
          <p:cNvSpPr/>
          <p:nvPr/>
        </p:nvSpPr>
        <p:spPr>
          <a:xfrm flipV="1">
            <a:off x="3429000" y="2666520"/>
            <a:ext cx="2819520" cy="838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2"/>
          <p:cNvSpPr/>
          <p:nvPr/>
        </p:nvSpPr>
        <p:spPr>
          <a:xfrm flipV="1">
            <a:off x="3429000" y="1905120"/>
            <a:ext cx="2971800" cy="2209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3"/>
          <p:cNvSpPr/>
          <p:nvPr/>
        </p:nvSpPr>
        <p:spPr>
          <a:xfrm flipV="1">
            <a:off x="2895480" y="2666880"/>
            <a:ext cx="3505320" cy="228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4"/>
          <p:cNvSpPr/>
          <p:nvPr/>
        </p:nvSpPr>
        <p:spPr>
          <a:xfrm>
            <a:off x="2743200" y="5791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26"/>
          <p:cNvGrpSpPr/>
          <p:nvPr/>
        </p:nvGrpSpPr>
        <p:grpSpPr>
          <a:xfrm>
            <a:off x="6250320" y="1447920"/>
            <a:ext cx="968760" cy="4671720"/>
            <a:chOff x="6250320" y="1447920"/>
            <a:chExt cx="968760" cy="4671720"/>
          </a:xfrm>
        </p:grpSpPr>
        <p:pic>
          <p:nvPicPr>
            <p:cNvPr id="76" name="Picture 3" descr=""/>
            <p:cNvPicPr/>
            <p:nvPr/>
          </p:nvPicPr>
          <p:blipFill>
            <a:blip r:embed="rId2"/>
            <a:stretch/>
          </p:blipFill>
          <p:spPr>
            <a:xfrm>
              <a:off x="6400800" y="5181480"/>
              <a:ext cx="3049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4"/>
            <p:cNvSpPr/>
            <p:nvPr/>
          </p:nvSpPr>
          <p:spPr>
            <a:xfrm>
              <a:off x="6400800" y="1523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5"/>
            <p:cNvSpPr/>
            <p:nvPr/>
          </p:nvSpPr>
          <p:spPr>
            <a:xfrm>
              <a:off x="6250320" y="4267080"/>
              <a:ext cx="81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-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6"/>
            <p:cNvSpPr/>
            <p:nvPr/>
          </p:nvSpPr>
          <p:spPr>
            <a:xfrm>
              <a:off x="6326640" y="320040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+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7"/>
            <p:cNvSpPr/>
            <p:nvPr/>
          </p:nvSpPr>
          <p:spPr>
            <a:xfrm>
              <a:off x="6402240" y="228600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25"/>
            <p:cNvSpPr/>
            <p:nvPr/>
          </p:nvSpPr>
          <p:spPr>
            <a:xfrm>
              <a:off x="6553080" y="144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WordArt 28"/>
          <p:cNvSpPr txBox="1"/>
          <p:nvPr/>
        </p:nvSpPr>
        <p:spPr>
          <a:xfrm>
            <a:off x="380880" y="304920"/>
            <a:ext cx="1752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练一练</a:t>
            </a:r>
            <a:endParaRPr b="0" lang="en-US" sz="2400" spc="1" strike="noStrike">
              <a:ln w="9360">
                <a:solidFill>
                  <a:srgbClr val="ff6600"/>
                </a:solidFill>
                <a:round/>
              </a:ln>
              <a:solidFill>
                <a:srgbClr val="99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685800" y="304920"/>
            <a:ext cx="2133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做一做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600200" y="16002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含有字母的式子表示下面的数量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219320" y="3124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学校去年植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棵，今年比去年多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棵，今年植树多少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21932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练习本每本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，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要用多少元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1905120" y="2362320"/>
            <a:ext cx="5257800" cy="18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再见</a:t>
            </a:r>
            <a:endParaRPr b="0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ffcc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CF9A-ECD8-4AAB-99FA-D846A0D6A8D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00:36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2:26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