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typ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274-1C5E-4809-AFE5-375DC6B4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C4D-0F1E-4810-ADB4-ADAFDE97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666-9E1E-4132-A7D8-93985FEE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FD9-652C-4B61-91CA-02845440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B3E-5BEC-4FD9-86F4-3B352A8F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381-4DA7-4045-9209-2211F37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D5D-B2E8-4BE0-9826-66A1B16A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A6D-0A56-439E-B65F-245A0802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954-9D5F-42AD-BDBA-D6A8D3D1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1D0-EBFF-4A5C-BF1F-1B54E72F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33D-00DD-4CB1-A39A-A5A3D9E0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8FE-3559-4B4A-BF77-768430DE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606D-71B5-4DAE-B116-5AA07A693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000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2700360" y="126828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一株紫丁香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4" name="Picture 9" descr="zw3-4"/>
          <p:cNvPicPr/>
          <p:nvPr/>
        </p:nvPicPr>
        <p:blipFill>
          <a:blip r:embed="rId17"/>
          <a:stretch/>
        </p:blipFill>
        <p:spPr>
          <a:xfrm>
            <a:off x="3851280" y="3500280"/>
            <a:ext cx="1792440" cy="2738520"/>
          </a:xfrm>
          <a:prstGeom prst="rect">
            <a:avLst/>
          </a:prstGeom>
          <a:ln w="0">
            <a:noFill/>
          </a:ln>
        </p:spPr>
      </p:pic>
      <p:sp>
        <p:nvSpPr>
          <p:cNvPr id="45" name="矩形 8"/>
          <p:cNvSpPr/>
          <p:nvPr/>
        </p:nvSpPr>
        <p:spPr>
          <a:xfrm>
            <a:off x="248904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6"/>
          <p:cNvGrpSpPr/>
          <p:nvPr/>
        </p:nvGrpSpPr>
        <p:grpSpPr>
          <a:xfrm>
            <a:off x="826920" y="2925720"/>
            <a:ext cx="1729080" cy="1655640"/>
            <a:chOff x="826920" y="2925720"/>
            <a:chExt cx="1729080" cy="1655640"/>
          </a:xfrm>
        </p:grpSpPr>
        <p:sp>
          <p:nvSpPr>
            <p:cNvPr id="116" name="Rectangle 7"/>
            <p:cNvSpPr/>
            <p:nvPr/>
          </p:nvSpPr>
          <p:spPr>
            <a:xfrm>
              <a:off x="826920" y="292572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69236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826920" y="378936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3492360" y="2925720"/>
            <a:ext cx="1729080" cy="1655640"/>
            <a:chOff x="3492360" y="2925720"/>
            <a:chExt cx="1729080" cy="1655640"/>
          </a:xfrm>
        </p:grpSpPr>
        <p:sp>
          <p:nvSpPr>
            <p:cNvPr id="120" name="Rectangle 11"/>
            <p:cNvSpPr/>
            <p:nvPr/>
          </p:nvSpPr>
          <p:spPr>
            <a:xfrm>
              <a:off x="3492360" y="292572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435780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>
              <a:off x="3492360" y="378936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4"/>
          <p:cNvGrpSpPr/>
          <p:nvPr/>
        </p:nvGrpSpPr>
        <p:grpSpPr>
          <a:xfrm>
            <a:off x="6227640" y="2925720"/>
            <a:ext cx="1729080" cy="1655640"/>
            <a:chOff x="6227640" y="2925720"/>
            <a:chExt cx="1729080" cy="1655640"/>
          </a:xfrm>
        </p:grpSpPr>
        <p:sp>
          <p:nvSpPr>
            <p:cNvPr id="124" name="Rectangle 15"/>
            <p:cNvSpPr/>
            <p:nvPr/>
          </p:nvSpPr>
          <p:spPr>
            <a:xfrm>
              <a:off x="6227640" y="292572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>
              <a:off x="7093080" y="2925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7"/>
            <p:cNvSpPr/>
            <p:nvPr/>
          </p:nvSpPr>
          <p:spPr>
            <a:xfrm>
              <a:off x="6227640" y="378936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8"/>
          <p:cNvSpPr/>
          <p:nvPr/>
        </p:nvSpPr>
        <p:spPr>
          <a:xfrm>
            <a:off x="755640" y="620640"/>
            <a:ext cx="18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3635280" y="62064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372360" y="549360"/>
            <a:ext cx="151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2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3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3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00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6"/>
          <p:cNvGrpSpPr/>
          <p:nvPr/>
        </p:nvGrpSpPr>
        <p:grpSpPr>
          <a:xfrm>
            <a:off x="1763640" y="2924280"/>
            <a:ext cx="1728720" cy="1655640"/>
            <a:chOff x="1763640" y="2924280"/>
            <a:chExt cx="1728720" cy="1655640"/>
          </a:xfrm>
        </p:grpSpPr>
        <p:sp>
          <p:nvSpPr>
            <p:cNvPr id="132" name="Rectangle 7"/>
            <p:cNvSpPr/>
            <p:nvPr/>
          </p:nvSpPr>
          <p:spPr>
            <a:xfrm>
              <a:off x="176364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262872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176364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"/>
          <p:cNvGrpSpPr/>
          <p:nvPr/>
        </p:nvGrpSpPr>
        <p:grpSpPr>
          <a:xfrm>
            <a:off x="5435640" y="2924280"/>
            <a:ext cx="1728720" cy="1655640"/>
            <a:chOff x="5435640" y="2924280"/>
            <a:chExt cx="1728720" cy="1655640"/>
          </a:xfrm>
        </p:grpSpPr>
        <p:sp>
          <p:nvSpPr>
            <p:cNvPr id="136" name="Rectangle 11"/>
            <p:cNvSpPr/>
            <p:nvPr/>
          </p:nvSpPr>
          <p:spPr>
            <a:xfrm>
              <a:off x="543564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630072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543564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4"/>
          <p:cNvSpPr/>
          <p:nvPr/>
        </p:nvSpPr>
        <p:spPr>
          <a:xfrm>
            <a:off x="1763640" y="62064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5364000" y="620640"/>
            <a:ext cx="18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1562040" y="5958000"/>
            <a:ext cx="50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4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4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6"/>
          <p:cNvGrpSpPr/>
          <p:nvPr/>
        </p:nvGrpSpPr>
        <p:grpSpPr>
          <a:xfrm>
            <a:off x="611280" y="800280"/>
            <a:ext cx="1728720" cy="1655640"/>
            <a:chOff x="611280" y="800280"/>
            <a:chExt cx="1728720" cy="1655640"/>
          </a:xfrm>
        </p:grpSpPr>
        <p:sp>
          <p:nvSpPr>
            <p:cNvPr id="144" name="Rectangle 7"/>
            <p:cNvSpPr/>
            <p:nvPr/>
          </p:nvSpPr>
          <p:spPr>
            <a:xfrm>
              <a:off x="611280" y="800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147636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611280" y="1663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2771640" y="800280"/>
            <a:ext cx="1729080" cy="1655640"/>
            <a:chOff x="2771640" y="800280"/>
            <a:chExt cx="1729080" cy="1655640"/>
          </a:xfrm>
        </p:grpSpPr>
        <p:sp>
          <p:nvSpPr>
            <p:cNvPr id="148" name="Rectangle 11"/>
            <p:cNvSpPr/>
            <p:nvPr/>
          </p:nvSpPr>
          <p:spPr>
            <a:xfrm>
              <a:off x="2771640" y="80028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363708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>
              <a:off x="2771640" y="166392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4"/>
          <p:cNvGrpSpPr/>
          <p:nvPr/>
        </p:nvGrpSpPr>
        <p:grpSpPr>
          <a:xfrm>
            <a:off x="4859280" y="801720"/>
            <a:ext cx="1728720" cy="1655640"/>
            <a:chOff x="4859280" y="801720"/>
            <a:chExt cx="1728720" cy="1655640"/>
          </a:xfrm>
        </p:grpSpPr>
        <p:sp>
          <p:nvSpPr>
            <p:cNvPr id="152" name="Rectangle 15"/>
            <p:cNvSpPr/>
            <p:nvPr/>
          </p:nvSpPr>
          <p:spPr>
            <a:xfrm>
              <a:off x="4859280" y="80172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5724360" y="80172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>
              <a:off x="4859280" y="166536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8"/>
          <p:cNvGrpSpPr/>
          <p:nvPr/>
        </p:nvGrpSpPr>
        <p:grpSpPr>
          <a:xfrm>
            <a:off x="6948360" y="800280"/>
            <a:ext cx="1729080" cy="1655640"/>
            <a:chOff x="6948360" y="800280"/>
            <a:chExt cx="1729080" cy="1655640"/>
          </a:xfrm>
        </p:grpSpPr>
        <p:sp>
          <p:nvSpPr>
            <p:cNvPr id="156" name="Rectangle 19"/>
            <p:cNvSpPr/>
            <p:nvPr/>
          </p:nvSpPr>
          <p:spPr>
            <a:xfrm>
              <a:off x="6948360" y="80028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7813800" y="800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>
              <a:off x="6948360" y="166392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2"/>
          <p:cNvGrpSpPr/>
          <p:nvPr/>
        </p:nvGrpSpPr>
        <p:grpSpPr>
          <a:xfrm>
            <a:off x="611280" y="3573360"/>
            <a:ext cx="1728720" cy="1655640"/>
            <a:chOff x="611280" y="3573360"/>
            <a:chExt cx="1728720" cy="1655640"/>
          </a:xfrm>
        </p:grpSpPr>
        <p:sp>
          <p:nvSpPr>
            <p:cNvPr id="160" name="Rectangle 23"/>
            <p:cNvSpPr/>
            <p:nvPr/>
          </p:nvSpPr>
          <p:spPr>
            <a:xfrm>
              <a:off x="61128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4"/>
            <p:cNvSpPr/>
            <p:nvPr/>
          </p:nvSpPr>
          <p:spPr>
            <a:xfrm>
              <a:off x="147636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>
              <a:off x="61128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6"/>
          <p:cNvGrpSpPr/>
          <p:nvPr/>
        </p:nvGrpSpPr>
        <p:grpSpPr>
          <a:xfrm>
            <a:off x="2771640" y="3573360"/>
            <a:ext cx="1729080" cy="1655640"/>
            <a:chOff x="2771640" y="3573360"/>
            <a:chExt cx="1729080" cy="1655640"/>
          </a:xfrm>
        </p:grpSpPr>
        <p:sp>
          <p:nvSpPr>
            <p:cNvPr id="164" name="Rectangle 27"/>
            <p:cNvSpPr/>
            <p:nvPr/>
          </p:nvSpPr>
          <p:spPr>
            <a:xfrm>
              <a:off x="2771640" y="357336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363708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2771640" y="443700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0"/>
          <p:cNvGrpSpPr/>
          <p:nvPr/>
        </p:nvGrpSpPr>
        <p:grpSpPr>
          <a:xfrm>
            <a:off x="4859280" y="3573360"/>
            <a:ext cx="1728720" cy="1655640"/>
            <a:chOff x="4859280" y="3573360"/>
            <a:chExt cx="1728720" cy="1655640"/>
          </a:xfrm>
        </p:grpSpPr>
        <p:sp>
          <p:nvSpPr>
            <p:cNvPr id="168" name="Rectangle 31"/>
            <p:cNvSpPr/>
            <p:nvPr/>
          </p:nvSpPr>
          <p:spPr>
            <a:xfrm>
              <a:off x="4859280" y="357336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2"/>
            <p:cNvSpPr/>
            <p:nvPr/>
          </p:nvSpPr>
          <p:spPr>
            <a:xfrm>
              <a:off x="572436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3"/>
            <p:cNvSpPr/>
            <p:nvPr/>
          </p:nvSpPr>
          <p:spPr>
            <a:xfrm>
              <a:off x="4859280" y="443700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4"/>
          <p:cNvGrpSpPr/>
          <p:nvPr/>
        </p:nvGrpSpPr>
        <p:grpSpPr>
          <a:xfrm>
            <a:off x="6948360" y="3573360"/>
            <a:ext cx="1729080" cy="1655640"/>
            <a:chOff x="6948360" y="3573360"/>
            <a:chExt cx="1729080" cy="1655640"/>
          </a:xfrm>
        </p:grpSpPr>
        <p:sp>
          <p:nvSpPr>
            <p:cNvPr id="172" name="Rectangle 35"/>
            <p:cNvSpPr/>
            <p:nvPr/>
          </p:nvSpPr>
          <p:spPr>
            <a:xfrm>
              <a:off x="6948360" y="357336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6"/>
            <p:cNvSpPr/>
            <p:nvPr/>
          </p:nvSpPr>
          <p:spPr>
            <a:xfrm>
              <a:off x="7813800" y="3573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7"/>
            <p:cNvSpPr/>
            <p:nvPr/>
          </p:nvSpPr>
          <p:spPr>
            <a:xfrm>
              <a:off x="6948360" y="443700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8"/>
          <p:cNvSpPr/>
          <p:nvPr/>
        </p:nvSpPr>
        <p:spPr>
          <a:xfrm>
            <a:off x="539640" y="73332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窗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9"/>
          <p:cNvSpPr/>
          <p:nvPr/>
        </p:nvSpPr>
        <p:spPr>
          <a:xfrm>
            <a:off x="2843280" y="733320"/>
            <a:ext cx="16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0"/>
          <p:cNvSpPr/>
          <p:nvPr/>
        </p:nvSpPr>
        <p:spPr>
          <a:xfrm>
            <a:off x="4859280" y="69228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脚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5"/>
          <p:cNvSpPr/>
          <p:nvPr/>
        </p:nvSpPr>
        <p:spPr>
          <a:xfrm>
            <a:off x="6948360" y="73332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6"/>
          <p:cNvSpPr/>
          <p:nvPr/>
        </p:nvSpPr>
        <p:spPr>
          <a:xfrm>
            <a:off x="4788000" y="3541680"/>
            <a:ext cx="1871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7"/>
          <p:cNvSpPr/>
          <p:nvPr/>
        </p:nvSpPr>
        <p:spPr>
          <a:xfrm>
            <a:off x="539640" y="3541680"/>
            <a:ext cx="18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8"/>
          <p:cNvSpPr/>
          <p:nvPr/>
        </p:nvSpPr>
        <p:spPr>
          <a:xfrm>
            <a:off x="2914560" y="354168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歌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9"/>
          <p:cNvSpPr/>
          <p:nvPr/>
        </p:nvSpPr>
        <p:spPr>
          <a:xfrm>
            <a:off x="7091280" y="3500280"/>
            <a:ext cx="151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2"/>
          <p:cNvSpPr txBox="1"/>
          <p:nvPr/>
        </p:nvSpPr>
        <p:spPr>
          <a:xfrm rot="20387400">
            <a:off x="1527120" y="1858680"/>
            <a:ext cx="1801800" cy="21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1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再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1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85" name="WordArt 3"/>
          <p:cNvSpPr txBox="1"/>
          <p:nvPr/>
        </p:nvSpPr>
        <p:spPr>
          <a:xfrm rot="936000">
            <a:off x="5562720" y="1109520"/>
            <a:ext cx="1407960" cy="18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70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70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86" name="WordArt 4"/>
          <p:cNvSpPr txBox="1"/>
          <p:nvPr/>
        </p:nvSpPr>
        <p:spPr>
          <a:xfrm rot="1923600">
            <a:off x="7419600" y="1711440"/>
            <a:ext cx="32868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769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！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769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448-3324-4E61-813B-5701EE9E84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116000" y="15638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紫丁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490920" y="15638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浓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796000" y="15638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解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89080" y="31719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眨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490920" y="31719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挂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5796000" y="31719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枝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900000" y="98100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116000" y="907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ĭ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 x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rial"/>
              </a:rPr>
              <a:t>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492360" y="907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 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796000" y="90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ě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1116000" y="25653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ǎ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492360" y="256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ɡuà q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867280" y="256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50920" y="134136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284720" y="134136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1692360" y="1268280"/>
            <a:ext cx="647640" cy="64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1693800" y="220500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3"/>
          <p:cNvGrpSpPr/>
          <p:nvPr/>
        </p:nvGrpSpPr>
        <p:grpSpPr>
          <a:xfrm>
            <a:off x="5940360" y="1268280"/>
            <a:ext cx="647640" cy="1441440"/>
            <a:chOff x="5940360" y="1268280"/>
            <a:chExt cx="647640" cy="1441440"/>
          </a:xfrm>
        </p:grpSpPr>
        <p:sp>
          <p:nvSpPr>
            <p:cNvPr id="66" name="Line 9"/>
            <p:cNvSpPr/>
            <p:nvPr/>
          </p:nvSpPr>
          <p:spPr>
            <a:xfrm flipV="1">
              <a:off x="5940360" y="1268280"/>
              <a:ext cx="647640" cy="6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1"/>
            <p:cNvSpPr/>
            <p:nvPr/>
          </p:nvSpPr>
          <p:spPr>
            <a:xfrm>
              <a:off x="5940360" y="2205000"/>
              <a:ext cx="574560" cy="50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411280" y="98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266920" y="242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156360" y="9079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156360" y="24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002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11280" y="711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紫丁香是谁栽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987640" y="18302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为什么要把紫丁香栽在老师的窗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284720" y="363060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紫丁香是怎样和老师做伴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1042920" y="90972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3564000" y="213372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4788000" y="393372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1258920" y="765000"/>
            <a:ext cx="6121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您听，您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风里沙沙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是我们给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帮您解除一天的疲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332000" y="1484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绿 叶 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500720" y="2349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唱 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1547640" y="476280"/>
            <a:ext cx="583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您看，您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盛开的小花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是我们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感谢您时时把我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692360" y="1268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  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14036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笑  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43564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挂 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258920" y="820800"/>
            <a:ext cx="66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深了，星星困得眨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，您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花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梦啊，准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49092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休息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700360" y="2349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飘进您的梦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492360" y="31417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又香又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0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3"/>
          <p:cNvSpPr/>
          <p:nvPr/>
        </p:nvSpPr>
        <p:spPr>
          <a:xfrm>
            <a:off x="324000" y="836640"/>
            <a:ext cx="1511280" cy="863640"/>
          </a:xfrm>
          <a:prstGeom prst="cloudCallout">
            <a:avLst>
              <a:gd name="adj1" fmla="val 49370"/>
              <a:gd name="adj2" fmla="val 8878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68360" y="18367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花香飘进老师的梦里，老师会梦见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539640" y="105264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想一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001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Line 13"/>
          <p:cNvSpPr/>
          <p:nvPr/>
        </p:nvSpPr>
        <p:spPr>
          <a:xfrm>
            <a:off x="169236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898560" y="2924280"/>
            <a:ext cx="1728720" cy="1655640"/>
            <a:chOff x="898560" y="2924280"/>
            <a:chExt cx="1728720" cy="1655640"/>
          </a:xfrm>
        </p:grpSpPr>
        <p:sp>
          <p:nvSpPr>
            <p:cNvPr id="100" name="Rectangle 11"/>
            <p:cNvSpPr/>
            <p:nvPr/>
          </p:nvSpPr>
          <p:spPr>
            <a:xfrm>
              <a:off x="89856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176364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7"/>
            <p:cNvSpPr/>
            <p:nvPr/>
          </p:nvSpPr>
          <p:spPr>
            <a:xfrm>
              <a:off x="89856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9"/>
          <p:cNvGrpSpPr/>
          <p:nvPr/>
        </p:nvGrpSpPr>
        <p:grpSpPr>
          <a:xfrm>
            <a:off x="3780000" y="2924280"/>
            <a:ext cx="1728720" cy="1655640"/>
            <a:chOff x="3780000" y="2924280"/>
            <a:chExt cx="1728720" cy="1655640"/>
          </a:xfrm>
        </p:grpSpPr>
        <p:sp>
          <p:nvSpPr>
            <p:cNvPr id="104" name="Rectangle 20"/>
            <p:cNvSpPr/>
            <p:nvPr/>
          </p:nvSpPr>
          <p:spPr>
            <a:xfrm>
              <a:off x="3780000" y="2924280"/>
              <a:ext cx="17287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1"/>
            <p:cNvSpPr/>
            <p:nvPr/>
          </p:nvSpPr>
          <p:spPr>
            <a:xfrm>
              <a:off x="4645080" y="292428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2"/>
            <p:cNvSpPr/>
            <p:nvPr/>
          </p:nvSpPr>
          <p:spPr>
            <a:xfrm>
              <a:off x="3780000" y="3787920"/>
              <a:ext cx="172872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"/>
          <p:cNvGrpSpPr/>
          <p:nvPr/>
        </p:nvGrpSpPr>
        <p:grpSpPr>
          <a:xfrm>
            <a:off x="6588000" y="2997360"/>
            <a:ext cx="1729080" cy="1655640"/>
            <a:chOff x="6588000" y="2997360"/>
            <a:chExt cx="1729080" cy="1655640"/>
          </a:xfrm>
        </p:grpSpPr>
        <p:sp>
          <p:nvSpPr>
            <p:cNvPr id="108" name="Rectangle 24"/>
            <p:cNvSpPr/>
            <p:nvPr/>
          </p:nvSpPr>
          <p:spPr>
            <a:xfrm>
              <a:off x="6588000" y="2997360"/>
              <a:ext cx="172908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7453440" y="2997360"/>
              <a:ext cx="0" cy="1655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>
              <a:off x="6588000" y="3861000"/>
              <a:ext cx="1729080" cy="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7"/>
          <p:cNvSpPr/>
          <p:nvPr/>
        </p:nvSpPr>
        <p:spPr>
          <a:xfrm>
            <a:off x="826920" y="620640"/>
            <a:ext cx="187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窗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3851280" y="620640"/>
            <a:ext cx="165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6659640" y="620640"/>
            <a:ext cx="165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脚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0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1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11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0" dur="1" fill="hold"/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4:54:47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21:36Z</dcterms:modified>
  <cp:revision>13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