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8685-4044-462B-A499-864221F6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E680-03E0-449C-BC06-B7D0422E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AC74-C497-4FE9-8FDD-4B230435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F328-13AE-4532-8DF6-C7B8C898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C94E-A5A7-41DD-AE0E-97C4EA34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FD88-1BCB-4119-B6E7-B169328C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BEB9-86B5-4006-839E-EFF028B0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F008-AAF4-47C6-ADCF-E694A7D4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2527-C4B9-41F5-AD63-4918C478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7B4A-5434-4592-8D1E-59C0CD42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6F40-EBC9-4D28-B106-1E658996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DCB3-8287-460B-B472-1AB3198D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3E8D-B91A-457F-A6A7-C0F0D0E46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32440;&#33337;&#21644;&#39118;&#31581;.exe" TargetMode="Externa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0"/>
          <p:cNvSpPr/>
          <p:nvPr/>
        </p:nvSpPr>
        <p:spPr>
          <a:xfrm>
            <a:off x="1332000" y="458136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3780000" y="2852640"/>
            <a:ext cx="16556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和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6084720" y="2060640"/>
            <a:ext cx="244800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风筝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468360" y="1773360"/>
            <a:ext cx="2808360" cy="174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宋体"/>
              </a:rPr>
              <a:t>纸船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  <p:pic>
        <p:nvPicPr>
          <p:cNvPr id="45" name="Picture 10" descr="MCj02903360000[1]"/>
          <p:cNvPicPr/>
          <p:nvPr/>
        </p:nvPicPr>
        <p:blipFill>
          <a:blip r:embed="rId1"/>
          <a:stretch/>
        </p:blipFill>
        <p:spPr>
          <a:xfrm>
            <a:off x="395280" y="3971880"/>
            <a:ext cx="2717640" cy="1258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MCj02372620000[1]"/>
          <p:cNvPicPr/>
          <p:nvPr/>
        </p:nvPicPr>
        <p:blipFill>
          <a:blip r:embed="rId2"/>
          <a:stretch/>
        </p:blipFill>
        <p:spPr>
          <a:xfrm>
            <a:off x="5292720" y="1125360"/>
            <a:ext cx="2344680" cy="2025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5"/>
          <p:cNvSpPr/>
          <p:nvPr/>
        </p:nvSpPr>
        <p:spPr>
          <a:xfrm>
            <a:off x="5943600" y="571356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1667520" y="57387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</a:rPr>
              <a:t>选择一题完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再美美地读一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为动画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纸船和风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配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MCj02903360000[1]"/>
          <p:cNvPicPr/>
          <p:nvPr/>
        </p:nvPicPr>
        <p:blipFill>
          <a:blip r:embed="rId1"/>
          <a:stretch/>
        </p:blipFill>
        <p:spPr>
          <a:xfrm>
            <a:off x="380880" y="5943600"/>
            <a:ext cx="1352520" cy="627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MCj02372620000[1]"/>
          <p:cNvPicPr/>
          <p:nvPr/>
        </p:nvPicPr>
        <p:blipFill>
          <a:blip r:embed="rId2"/>
          <a:stretch/>
        </p:blipFill>
        <p:spPr>
          <a:xfrm>
            <a:off x="8305920" y="380880"/>
            <a:ext cx="533160" cy="522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16">
            <a:hlinkClick r:id="rId1"/>
          </p:cNvPr>
          <p:cNvSpPr/>
          <p:nvPr/>
        </p:nvSpPr>
        <p:spPr>
          <a:xfrm>
            <a:off x="4114800" y="3048120"/>
            <a:ext cx="990720" cy="106668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8" descr="MCj02903360000[1]"/>
          <p:cNvPicPr/>
          <p:nvPr/>
        </p:nvPicPr>
        <p:blipFill>
          <a:blip r:embed="rId2"/>
          <a:stretch/>
        </p:blipFill>
        <p:spPr>
          <a:xfrm>
            <a:off x="380880" y="5943600"/>
            <a:ext cx="1352520" cy="627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9" descr="MCj02372620000[1]"/>
          <p:cNvPicPr/>
          <p:nvPr/>
        </p:nvPicPr>
        <p:blipFill>
          <a:blip r:embed="rId3"/>
          <a:stretch/>
        </p:blipFill>
        <p:spPr>
          <a:xfrm>
            <a:off x="8305920" y="380880"/>
            <a:ext cx="533160" cy="522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245880" y="914400"/>
            <a:ext cx="8227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世界上最宽阔的东西是海洋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比海洋更宽阔的是天空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比天空更宽阔的是人的心灵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————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雨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MCj02903360000[1]"/>
          <p:cNvPicPr/>
          <p:nvPr/>
        </p:nvPicPr>
        <p:blipFill>
          <a:blip r:embed="rId1"/>
          <a:stretch/>
        </p:blipFill>
        <p:spPr>
          <a:xfrm>
            <a:off x="380880" y="5943600"/>
            <a:ext cx="1352520" cy="627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MCj02372620000[1]"/>
          <p:cNvPicPr/>
          <p:nvPr/>
        </p:nvPicPr>
        <p:blipFill>
          <a:blip r:embed="rId2"/>
          <a:stretch/>
        </p:blipFill>
        <p:spPr>
          <a:xfrm>
            <a:off x="8305920" y="380880"/>
            <a:ext cx="533160" cy="522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371E-1A08-42E8-888C-07CD6B774E5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山顶  山脚  小溪  纸船  风筝  松果  草莓  纸条  门口  幸福  快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MCj02903360000[1]"/>
          <p:cNvPicPr/>
          <p:nvPr/>
        </p:nvPicPr>
        <p:blipFill>
          <a:blip r:embed="rId2"/>
          <a:stretch/>
        </p:blipFill>
        <p:spPr>
          <a:xfrm>
            <a:off x="380880" y="5943600"/>
            <a:ext cx="1352520" cy="627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MCj02372620000[1]"/>
          <p:cNvPicPr/>
          <p:nvPr/>
        </p:nvPicPr>
        <p:blipFill>
          <a:blip r:embed="rId3"/>
          <a:stretch/>
        </p:blipFill>
        <p:spPr>
          <a:xfrm>
            <a:off x="8305920" y="380880"/>
            <a:ext cx="533160" cy="522360"/>
          </a:xfrm>
          <a:prstGeom prst="rect">
            <a:avLst/>
          </a:prstGeom>
          <a:ln w="0">
            <a:noFill/>
          </a:ln>
        </p:spPr>
      </p:pic>
      <p:sp>
        <p:nvSpPr>
          <p:cNvPr id="54" name="文本框 1"/>
          <p:cNvSpPr/>
          <p:nvPr/>
        </p:nvSpPr>
        <p:spPr>
          <a:xfrm>
            <a:off x="1895400" y="6380280"/>
            <a:ext cx="69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松鼠和小熊住在一座山上。松鼠住在山顶，小熊住在山脚。山上的小溪往下流，正好从小熊的家门口流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松鼠折了一只纸船，放在小溪里。纸船漂呀漂，漂到小熊的家门口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小熊拿起纸船一看，乐坏了。纸船里放着一个小松果，松果上挂着一张纸条，上面写着：“祝你快乐！”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小熊也想折一只纸船送给松鼠，可是纸船不能漂到山上去。怎么办呢？他想了想，就扎了一只风筝。风筝乘着风，飘呀飘，飘到了松鼠家门口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松鼠一把抓住风筝的线一看，也乐坏了。风筝上挂着一个草莓，风筝的翅膀上写着：“祝你幸福！”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纸船和风筝让他们俩成了好朋友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MCj02903360000[1]"/>
          <p:cNvPicPr/>
          <p:nvPr/>
        </p:nvPicPr>
        <p:blipFill>
          <a:blip r:embed="rId2"/>
          <a:stretch/>
        </p:blipFill>
        <p:spPr>
          <a:xfrm>
            <a:off x="380880" y="5943600"/>
            <a:ext cx="1352520" cy="62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MCj02372620000[1]"/>
          <p:cNvPicPr/>
          <p:nvPr/>
        </p:nvPicPr>
        <p:blipFill>
          <a:blip r:embed="rId3"/>
          <a:stretch/>
        </p:blipFill>
        <p:spPr>
          <a:xfrm>
            <a:off x="8305920" y="380880"/>
            <a:ext cx="533160" cy="522360"/>
          </a:xfrm>
          <a:prstGeom prst="rect">
            <a:avLst/>
          </a:prstGeom>
          <a:ln w="0">
            <a:noFill/>
          </a:ln>
        </p:spPr>
      </p:pic>
      <p:pic>
        <p:nvPicPr>
          <p:cNvPr id="59" name="快乐.mp3" descr=""/>
          <p:cNvPicPr/>
          <p:nvPr/>
        </p:nvPicPr>
        <p:blipFill>
          <a:blip r:embed="rId4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是有一天，他们俩为了一点小事吵了一架。山顶上再也看不到飘荡的风筝，小溪里再也看不到漂流的纸船了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小熊很难过。他还是每天扎一只风筝，但是不好意思把风筝放起来，就把风筝挂在高高的树枝上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松鼠也很难过。他还是每天折一只纸船，他也不好意思把纸船放进小溪，就把纸船放到屋顶上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过了几天，松鼠再也受不了啦。他在一只折好的纸船上写了一句话：“如果你愿意和好，就放一只风筝吧！”他把这只纸船放进了小溪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傍晚，松鼠看见一只美丽的风筝朝他飞来。松鼠高兴得哭了。他连忙爬上屋顶，把一只只纸船放到了小溪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MCj02903360000[1]"/>
          <p:cNvPicPr/>
          <p:nvPr/>
        </p:nvPicPr>
        <p:blipFill>
          <a:blip r:embed="rId2"/>
          <a:stretch/>
        </p:blipFill>
        <p:spPr>
          <a:xfrm>
            <a:off x="380880" y="5943600"/>
            <a:ext cx="1352520" cy="627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MCj02372620000[1]"/>
          <p:cNvPicPr/>
          <p:nvPr/>
        </p:nvPicPr>
        <p:blipFill>
          <a:blip r:embed="rId3"/>
          <a:stretch/>
        </p:blipFill>
        <p:spPr>
          <a:xfrm>
            <a:off x="8305920" y="380880"/>
            <a:ext cx="533160" cy="522360"/>
          </a:xfrm>
          <a:prstGeom prst="rect">
            <a:avLst/>
          </a:prstGeom>
          <a:ln w="0">
            <a:noFill/>
          </a:ln>
        </p:spPr>
      </p:pic>
      <p:pic>
        <p:nvPicPr>
          <p:cNvPr id="64" name="悲哀.mp3" descr=""/>
          <p:cNvPicPr/>
          <p:nvPr/>
        </p:nvPicPr>
        <p:blipFill>
          <a:blip r:embed="rId4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可以这样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到（               ）的时候，我（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MCj02903360000[1]"/>
          <p:cNvPicPr/>
          <p:nvPr/>
        </p:nvPicPr>
        <p:blipFill>
          <a:blip r:embed="rId2"/>
          <a:stretch/>
        </p:blipFill>
        <p:spPr>
          <a:xfrm>
            <a:off x="380880" y="5943600"/>
            <a:ext cx="1352520" cy="627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MCj02372620000[1]"/>
          <p:cNvPicPr/>
          <p:nvPr/>
        </p:nvPicPr>
        <p:blipFill>
          <a:blip r:embed="rId3"/>
          <a:stretch/>
        </p:blipFill>
        <p:spPr>
          <a:xfrm>
            <a:off x="8305920" y="380880"/>
            <a:ext cx="533160" cy="522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可是有一天，他们俩为了一点小事吵了一架。山顶上再也看不到</a:t>
            </a:r>
            <a:r>
              <a:rPr b="0" lang="zh-CN" sz="4400" spc="-1" strike="noStrike">
                <a:solidFill>
                  <a:srgbClr val="cc3300"/>
                </a:solidFill>
                <a:latin typeface="Arial"/>
              </a:rPr>
              <a:t>飘荡的风筝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小溪里再也看不到</a:t>
            </a:r>
            <a:r>
              <a:rPr b="0" lang="zh-CN" sz="4400" spc="-1" strike="noStrike">
                <a:solidFill>
                  <a:srgbClr val="cc3300"/>
                </a:solidFill>
                <a:latin typeface="Arial"/>
              </a:rPr>
              <a:t>漂流的纸船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了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MCj02903360000[1]"/>
          <p:cNvPicPr/>
          <p:nvPr/>
        </p:nvPicPr>
        <p:blipFill>
          <a:blip r:embed="rId2"/>
          <a:stretch/>
        </p:blipFill>
        <p:spPr>
          <a:xfrm>
            <a:off x="380880" y="5943600"/>
            <a:ext cx="1352520" cy="627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MCj02372620000[1]"/>
          <p:cNvPicPr/>
          <p:nvPr/>
        </p:nvPicPr>
        <p:blipFill>
          <a:blip r:embed="rId3"/>
          <a:stretch/>
        </p:blipFill>
        <p:spPr>
          <a:xfrm>
            <a:off x="8305920" y="380880"/>
            <a:ext cx="533160" cy="522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MCj02903360000[1]"/>
          <p:cNvPicPr/>
          <p:nvPr/>
        </p:nvPicPr>
        <p:blipFill>
          <a:blip r:embed="rId1"/>
          <a:stretch/>
        </p:blipFill>
        <p:spPr>
          <a:xfrm>
            <a:off x="380880" y="5943600"/>
            <a:ext cx="1352520" cy="627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MCj02372620000[1]"/>
          <p:cNvPicPr/>
          <p:nvPr/>
        </p:nvPicPr>
        <p:blipFill>
          <a:blip r:embed="rId2"/>
          <a:stretch/>
        </p:blipFill>
        <p:spPr>
          <a:xfrm>
            <a:off x="8305920" y="380880"/>
            <a:ext cx="533160" cy="5223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3"/>
          <p:cNvSpPr/>
          <p:nvPr/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是有一天，他们俩为了一点小事吵了一架。山顶上再也看不到飘荡的风筝，小溪里再也看不到漂流的纸船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小熊很难过。他还是每天扎一只风筝，但是不好意思把风筝放起来，就把风筝挂在高高的树枝上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松鼠也很难过。他还是每天折一只纸船，他也不好意思把纸船放进小溪，就把纸船放到屋顶上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过了几天，松鼠再也受不了啦。他在一只折好的纸船上写了一句话：“如果你愿意和好，就放一只风筝吧！”他把这只纸船放进了小溪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傍晚，松鼠看见一只美丽的风筝朝他飞来。松鼠高兴得哭了。他连忙爬上屋顶，把一只只纸船放到了小溪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悲哀.mp3" descr=""/>
          <p:cNvPicPr/>
          <p:nvPr/>
        </p:nvPicPr>
        <p:blipFill>
          <a:blip r:embed="rId3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70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70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风雨之后又见彩虹！美丽的风筝又飘荡在空中了，小小的纸船又漂流在小      溪里了。经历了一番波折的小熊和松鼠终于又和好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知这次的纸船和风筝带着小熊和松鼠怎样的心里话？在纸船和风筝下写一写。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MCj02903360000[1]"/>
          <p:cNvPicPr/>
          <p:nvPr/>
        </p:nvPicPr>
        <p:blipFill>
          <a:blip r:embed="rId1"/>
          <a:stretch/>
        </p:blipFill>
        <p:spPr>
          <a:xfrm>
            <a:off x="1154160" y="2079720"/>
            <a:ext cx="2644560" cy="1225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MCj02372620000[1]"/>
          <p:cNvPicPr/>
          <p:nvPr/>
        </p:nvPicPr>
        <p:blipFill>
          <a:blip r:embed="rId2"/>
          <a:stretch/>
        </p:blipFill>
        <p:spPr>
          <a:xfrm>
            <a:off x="5494320" y="1679400"/>
            <a:ext cx="2344680" cy="202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457200" y="3938760"/>
          <a:ext cx="4038480" cy="25905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648320" y="3938760"/>
          <a:ext cx="4038480" cy="25905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快乐.mp3" descr=""/>
          <p:cNvPicPr/>
          <p:nvPr/>
        </p:nvPicPr>
        <p:blipFill>
          <a:blip r:embed="rId3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</a:rPr>
              <a:t>我们会合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组内交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取长补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拿出代表组里最高水平的一组句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并分配好角色朗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MCj02903360000[1]"/>
          <p:cNvPicPr/>
          <p:nvPr/>
        </p:nvPicPr>
        <p:blipFill>
          <a:blip r:embed="rId2"/>
          <a:stretch/>
        </p:blipFill>
        <p:spPr>
          <a:xfrm>
            <a:off x="380880" y="5943600"/>
            <a:ext cx="1352520" cy="627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MCj02372620000[1]"/>
          <p:cNvPicPr/>
          <p:nvPr/>
        </p:nvPicPr>
        <p:blipFill>
          <a:blip r:embed="rId3"/>
          <a:stretch/>
        </p:blipFill>
        <p:spPr>
          <a:xfrm>
            <a:off x="8305920" y="380880"/>
            <a:ext cx="533160" cy="522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6T15:53:02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6:07:01Z</dcterms:modified>
  <cp:revision>40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