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6.jpeg" ContentType="image/jpeg"/>
  <Override PartName="/ppt/media/image9.png" ContentType="image/png"/>
  <Override PartName="/ppt/media/audio6.wav" ContentType="audio/x-wav"/>
  <Override PartName="/ppt/media/audio1.wav" ContentType="audio/x-wav"/>
  <Override PartName="/ppt/media/audio2.wav" ContentType="audio/x-wav"/>
  <Override PartName="/ppt/media/image2.png" ContentType="image/png"/>
  <Override PartName="/ppt/media/audio4.wav" ContentType="audio/x-wav"/>
  <Override PartName="/ppt/media/image4.jpeg" ContentType="image/jpeg"/>
  <Override PartName="/ppt/media/audio3.wav" ContentType="audio/x-wav"/>
  <Override PartName="/ppt/media/image5.png" ContentType="image/png"/>
  <Override PartName="/ppt/media/image8.jpeg" ContentType="image/jpeg"/>
  <Override PartName="/ppt/media/audio7.wav" ContentType="audio/x-wav"/>
  <Override PartName="/ppt/media/image3.png" ContentType="image/png"/>
  <Override PartName="/ppt/media/audio5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23E6B-D1AD-4797-A559-7A0DA5514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F5997F-E37A-4CF2-BAC1-B57C1C88F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AB7-C443-4FE4-AF35-0230BDCD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4BC-6BD7-4756-928D-E57D0C7F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066-326C-4F4D-B40B-21183E49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E29-F893-4392-BB38-C4E9E0D4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E23-C980-42FC-9060-CA210C8F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141-10C0-4465-A1F4-C5A27561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05B-7D71-48C8-B364-0CFB5D8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394-0524-4443-B4D4-01ED2AB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851-A347-4031-B578-57919441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92E-78AA-4099-9C28-1E296E0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77F-97A6-43BE-BECB-837FDEC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2D9-6A35-4EB4-A401-B1056A1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B8F0D-4701-4007-B100-7A5EC4B57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DOCUME~1/a/LOCALS~1/Temp/Rar$DI00.797/&#36724;&#23545;&#31216;.swf" TargetMode="External"/><Relationship Id="rId2" Type="http://schemas.openxmlformats.org/officeDocument/2006/relationships/image" Target="../media/image9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udio3.wav"/><Relationship Id="rId2" Type="http://schemas.openxmlformats.org/officeDocument/2006/relationships/audio" Target="../media/audio3.wav"/><Relationship Id="rId3" Type="http://schemas.openxmlformats.org/officeDocument/2006/relationships/audio" Target="../media/audio3.wav"/><Relationship Id="rId4" Type="http://schemas.openxmlformats.org/officeDocument/2006/relationships/audio" Target="../media/audio3.wav"/><Relationship Id="rId5" Type="http://schemas.openxmlformats.org/officeDocument/2006/relationships/audio" Target="../media/audio3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OCUME~1/a/LOCALS~1/Temp/Rar$DI00.797/&#34619;&#34579;.swf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DOCUME~1/a/LOCALS~1/Temp/Rar$DI00.797/&#22825;&#24179;.swf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DOCUME~1/a/LOCALS~1/Temp/Rar$DI00.797/&#26071;&#24092;.swf" TargetMode="External"/><Relationship Id="rId6" Type="http://schemas.openxmlformats.org/officeDocument/2006/relationships/image" Target="../media/image4.jpeg"/><Relationship Id="rId7" Type="http://schemas.openxmlformats.org/officeDocument/2006/relationships/hyperlink" Target="file:///DOCUME~1/a/LOCALS~1/Temp/Rar$DI00.797/&#36710;.swf" TargetMode="External"/><Relationship Id="rId8" Type="http://schemas.openxmlformats.org/officeDocument/2006/relationships/image" Target="../media/image5.png"/><Relationship Id="rId9" Type="http://schemas.openxmlformats.org/officeDocument/2006/relationships/audio" Target="../media/audio1.wav"/><Relationship Id="rId10" Type="http://schemas.openxmlformats.org/officeDocument/2006/relationships/audio" Target="../media/audio2.wav"/><Relationship Id="rId11" Type="http://schemas.openxmlformats.org/officeDocument/2006/relationships/audio" Target="../media/audio2.wav"/><Relationship Id="rId12" Type="http://schemas.openxmlformats.org/officeDocument/2006/relationships/audio" Target="../media/audio2.wav"/><Relationship Id="rId13" Type="http://schemas.openxmlformats.org/officeDocument/2006/relationships/audio" Target="../media/audio2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OCUME~1/a/LOCALS~1/My%20Documents/&#36724;&#23545;&#31216;/&#32447;&#27573;.gsp" TargetMode="External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audio" Target="../media/audio3.wav"/><Relationship Id="rId5" Type="http://schemas.openxmlformats.org/officeDocument/2006/relationships/audio" Target="../media/audio2.wav"/><Relationship Id="rId6" Type="http://schemas.openxmlformats.org/officeDocument/2006/relationships/audio" Target="../media/audio3.wav"/><Relationship Id="rId7" Type="http://schemas.openxmlformats.org/officeDocument/2006/relationships/audio" Target="../media/audio3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OCUME~1/a/LOCALS~1/My%20Documents/&#36724;&#23545;&#31216;/&#36724;&#23545;&#31216;&#22270;&#24418;&#24179;&#34892;&#22235;&#36793;&#24418;.gsp" TargetMode="External"/><Relationship Id="rId2" Type="http://schemas.openxmlformats.org/officeDocument/2006/relationships/audio" Target="../media/audio4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OCUME~1/a/LOCALS~1/My%20Documents/&#36724;&#23545;&#31216;/&#36724;&#23545;&#31216;&#22270;&#24418;&#30697;&#24418;&#27491;&#26041;&#24418;.gsp" TargetMode="External"/><Relationship Id="rId2" Type="http://schemas.openxmlformats.org/officeDocument/2006/relationships/audio" Target="../media/audio3.wav"/><Relationship Id="rId3" Type="http://schemas.openxmlformats.org/officeDocument/2006/relationships/audio" Target="../media/audio2.wav"/><Relationship Id="rId4" Type="http://schemas.openxmlformats.org/officeDocument/2006/relationships/audio" Target="../media/audio3.wav"/><Relationship Id="rId5" Type="http://schemas.openxmlformats.org/officeDocument/2006/relationships/audio" Target="../media/audio3.wav"/><Relationship Id="rId6" Type="http://schemas.openxmlformats.org/officeDocument/2006/relationships/audio" Target="../media/audio3.wav"/><Relationship Id="rId7" Type="http://schemas.openxmlformats.org/officeDocument/2006/relationships/audio" Target="../media/audio5.wav"/><Relationship Id="rId8" Type="http://schemas.openxmlformats.org/officeDocument/2006/relationships/audio" Target="../media/audio5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audio" Target="../media/audio3.wav"/><Relationship Id="rId13" Type="http://schemas.openxmlformats.org/officeDocument/2006/relationships/audio" Target="../media/audio2.wav"/><Relationship Id="rId14" Type="http://schemas.openxmlformats.org/officeDocument/2006/relationships/audio" Target="../media/audio2.wav"/><Relationship Id="rId15" Type="http://schemas.openxmlformats.org/officeDocument/2006/relationships/audio" Target="../media/audio3.wav"/><Relationship Id="rId16" Type="http://schemas.openxmlformats.org/officeDocument/2006/relationships/audio" Target="../media/audio3.wav"/><Relationship Id="rId17" Type="http://schemas.openxmlformats.org/officeDocument/2006/relationships/audio" Target="../media/audio3.wav"/><Relationship Id="rId18" Type="http://schemas.openxmlformats.org/officeDocument/2006/relationships/audio" Target="../media/audio2.wav"/><Relationship Id="rId19" Type="http://schemas.openxmlformats.org/officeDocument/2006/relationships/audio" Target="../media/audio2.wav"/><Relationship Id="rId20" Type="http://schemas.openxmlformats.org/officeDocument/2006/relationships/audio" Target="../media/audio3.wav"/><Relationship Id="rId21" Type="http://schemas.openxmlformats.org/officeDocument/2006/relationships/audio" Target="../media/audio3.wav"/><Relationship Id="rId22" Type="http://schemas.openxmlformats.org/officeDocument/2006/relationships/audio" Target="../media/audio3.wav"/><Relationship Id="rId23" Type="http://schemas.openxmlformats.org/officeDocument/2006/relationships/audio" Target="../media/audio3.wav"/><Relationship Id="rId24" Type="http://schemas.openxmlformats.org/officeDocument/2006/relationships/audio" Target="../media/audio2.wav"/><Relationship Id="rId25" Type="http://schemas.openxmlformats.org/officeDocument/2006/relationships/audio" Target="../media/audio2.wav"/><Relationship Id="rId26" Type="http://schemas.openxmlformats.org/officeDocument/2006/relationships/audio" Target="../media/audio2.wav"/><Relationship Id="rId27" Type="http://schemas.openxmlformats.org/officeDocument/2006/relationships/audio" Target="../media/audio2.wav"/><Relationship Id="rId28" Type="http://schemas.openxmlformats.org/officeDocument/2006/relationships/audio" Target="../media/audio3.wav"/><Relationship Id="rId29" Type="http://schemas.openxmlformats.org/officeDocument/2006/relationships/audio" Target="../media/audio3.wav"/><Relationship Id="rId30" Type="http://schemas.openxmlformats.org/officeDocument/2006/relationships/audio" Target="../media/audio3.wav"/><Relationship Id="rId31" Type="http://schemas.openxmlformats.org/officeDocument/2006/relationships/audio" Target="../media/audio3.wav"/><Relationship Id="rId32" Type="http://schemas.openxmlformats.org/officeDocument/2006/relationships/audio" Target="../media/audio2.wav"/><Relationship Id="rId33" Type="http://schemas.openxmlformats.org/officeDocument/2006/relationships/audio" Target="../media/audio5.wav"/><Relationship Id="rId34" Type="http://schemas.openxmlformats.org/officeDocument/2006/relationships/audio" Target="../media/audio5.wav"/><Relationship Id="rId35" Type="http://schemas.openxmlformats.org/officeDocument/2006/relationships/audio" Target="../media/audio5.wav"/><Relationship Id="rId36" Type="http://schemas.openxmlformats.org/officeDocument/2006/relationships/audio" Target="../media/audio5.wav"/><Relationship Id="rId37" Type="http://schemas.openxmlformats.org/officeDocument/2006/relationships/audio" Target="../media/audio2.wav"/><Relationship Id="rId38" Type="http://schemas.openxmlformats.org/officeDocument/2006/relationships/audio" Target="../media/audio3.wav"/><Relationship Id="rId39" Type="http://schemas.openxmlformats.org/officeDocument/2006/relationships/audio" Target="../media/audio3.wav"/><Relationship Id="rId40" Type="http://schemas.openxmlformats.org/officeDocument/2006/relationships/audio" Target="../media/audio3.wav"/><Relationship Id="rId41" Type="http://schemas.openxmlformats.org/officeDocument/2006/relationships/audio" Target="../media/audio2.wav"/><Relationship Id="rId42" Type="http://schemas.openxmlformats.org/officeDocument/2006/relationships/audio" Target="../media/audio3.wav"/><Relationship Id="rId43" Type="http://schemas.openxmlformats.org/officeDocument/2006/relationships/audio" Target="../media/audio3.wav"/><Relationship Id="rId4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audio" Target="../media/audio1.wav"/><Relationship Id="rId5" Type="http://schemas.openxmlformats.org/officeDocument/2006/relationships/audio" Target="../media/audio6.wav"/><Relationship Id="rId6" Type="http://schemas.openxmlformats.org/officeDocument/2006/relationships/audio" Target="../media/audio6.wav"/><Relationship Id="rId7" Type="http://schemas.openxmlformats.org/officeDocument/2006/relationships/audio" Target="../media/audio7.wav"/><Relationship Id="rId8" Type="http://schemas.openxmlformats.org/officeDocument/2006/relationships/audio" Target="../media/audio6.wav"/><Relationship Id="rId9" Type="http://schemas.openxmlformats.org/officeDocument/2006/relationships/audio" Target="../media/audio7.wav"/><Relationship Id="rId10" Type="http://schemas.openxmlformats.org/officeDocument/2006/relationships/audio" Target="../media/audio6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1.wav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3"/>
          <p:cNvSpPr txBox="1"/>
          <p:nvPr/>
        </p:nvSpPr>
        <p:spPr>
          <a:xfrm>
            <a:off x="1898640" y="1233360"/>
            <a:ext cx="632412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轴对称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91400" y="6381720"/>
            <a:ext cx="356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933560" y="1847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195720" y="22906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57360" y="425520"/>
            <a:ext cx="7995960" cy="185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  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关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关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？为什么？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关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各是哪一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3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7400" y="2332080"/>
            <a:ext cx="5451120" cy="3161880"/>
          </a:xfrm>
          <a:prstGeom prst="rect">
            <a:avLst/>
          </a:prstGeom>
          <a:ln w="9525">
            <a:noFill/>
          </a:ln>
        </p:spPr>
      </p:pic>
      <p:sp>
        <p:nvSpPr>
          <p:cNvPr id="221" name="Text Box 9"/>
          <p:cNvSpPr/>
          <p:nvPr/>
        </p:nvSpPr>
        <p:spPr>
          <a:xfrm>
            <a:off x="-50760" y="5473800"/>
            <a:ext cx="919440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△ 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关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0"/>
          <p:cNvGrpSpPr/>
          <p:nvPr/>
        </p:nvGrpSpPr>
        <p:grpSpPr>
          <a:xfrm>
            <a:off x="7620120" y="6470640"/>
            <a:ext cx="1218600" cy="380520"/>
            <a:chOff x="7620120" y="6470640"/>
            <a:chExt cx="1218600" cy="380520"/>
          </a:xfrm>
        </p:grpSpPr>
        <p:sp>
          <p:nvSpPr>
            <p:cNvPr id="223" name="AutoShape 11">
              <a:hlinkClick r:id="" action="ppaction://hlinkshowjump?jump=previousslide"/>
            </p:cNvPr>
            <p:cNvSpPr/>
            <p:nvPr/>
          </p:nvSpPr>
          <p:spPr>
            <a:xfrm>
              <a:off x="7620120" y="647064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24" name="AutoShape 12">
              <a:hlinkClick r:id="" action="ppaction://hlinkshowjump?jump=nextslide"/>
            </p:cNvPr>
            <p:cNvSpPr/>
            <p:nvPr/>
          </p:nvSpPr>
          <p:spPr>
            <a:xfrm>
              <a:off x="8153280" y="647064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8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9080" y="-1260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6" name="AutoShape 4">
            <a:hlinkClick r:id="" action="ppaction://hlinkshowjump?jump=previousslide"/>
          </p:cNvPr>
          <p:cNvSpPr/>
          <p:nvPr/>
        </p:nvSpPr>
        <p:spPr>
          <a:xfrm>
            <a:off x="7620120" y="6400800"/>
            <a:ext cx="533160" cy="380520"/>
          </a:xfrm>
          <a:prstGeom prst="actionButtonBackPrevious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7" name="AutoShape 5">
            <a:hlinkClick r:id="" action="ppaction://hlinkshowjump?jump=nextslide"/>
          </p:cNvPr>
          <p:cNvSpPr/>
          <p:nvPr/>
        </p:nvSpPr>
        <p:spPr>
          <a:xfrm>
            <a:off x="8153280" y="6400800"/>
            <a:ext cx="685440" cy="380520"/>
          </a:xfrm>
          <a:prstGeom prst="actionButtonForwardNex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647640" y="2892600"/>
            <a:ext cx="8145000" cy="224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轴对称图形”是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同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部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某直线翻折时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部分重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轴对称”是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个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位于某条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线的两侧，且沿这条直线翻折时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个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合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9"/>
          <p:cNvSpPr txBox="1"/>
          <p:nvPr/>
        </p:nvSpPr>
        <p:spPr>
          <a:xfrm>
            <a:off x="831960" y="609480"/>
            <a:ext cx="7716600" cy="1218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4167"/>
                <a:gd name="adj2" fmla="val -56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轴对称图形”与“轴对称”的区别和联系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701640" y="1979640"/>
            <a:ext cx="13903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区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8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27200" y="2319480"/>
            <a:ext cx="78688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中都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一条对称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都要沿着这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条直线折叠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0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234" name="AutoShape 11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35" name="AutoShape 12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1000080" y="3581280"/>
            <a:ext cx="786564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把成轴对称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个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看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一个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整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这个整体的图形就是轴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称图形；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把一个轴对称图形沿着对称轴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成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部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看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个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这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图形是轴对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>
            <a:off x="831960" y="609480"/>
            <a:ext cx="7716600" cy="1218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4167"/>
                <a:gd name="adj2" fmla="val -56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6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轴对称图形”与“轴对称”的区别和联系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776160" y="1779480"/>
            <a:ext cx="1217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联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9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9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9677160" cy="7094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80880" y="228600"/>
            <a:ext cx="12013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80880" y="685800"/>
            <a:ext cx="159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990720" y="1066680"/>
            <a:ext cx="7924320" cy="200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轴对称图形必有对称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轴对称图形至少有一条对称轴  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某直线成轴对称的两个图形必能互相重合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完全互相重合的图形必是轴对称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33520" y="3657600"/>
            <a:ext cx="801504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符合下列哪个条件的图形是轴对称图形？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能够互相重合的两个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图形在某直线翻折，能与另一个图形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图形在某直线两旁部分的形状大小都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图形沿某直线翻折，直线两旁的部分能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互相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80880" y="3276720"/>
            <a:ext cx="159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选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2"/>
          <p:cNvGrpSpPr/>
          <p:nvPr/>
        </p:nvGrpSpPr>
        <p:grpSpPr>
          <a:xfrm>
            <a:off x="5983200" y="1239480"/>
            <a:ext cx="609480" cy="228600"/>
            <a:chOff x="5983200" y="1239480"/>
            <a:chExt cx="609480" cy="228600"/>
          </a:xfrm>
        </p:grpSpPr>
        <p:sp>
          <p:nvSpPr>
            <p:cNvPr id="246" name="Line 10"/>
            <p:cNvSpPr/>
            <p:nvPr/>
          </p:nvSpPr>
          <p:spPr>
            <a:xfrm>
              <a:off x="5983200" y="1315800"/>
              <a:ext cx="75960" cy="15228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 flipV="1">
              <a:off x="6059160" y="1239480"/>
              <a:ext cx="533520" cy="22860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248" name="Group 15"/>
          <p:cNvGrpSpPr/>
          <p:nvPr/>
        </p:nvGrpSpPr>
        <p:grpSpPr>
          <a:xfrm>
            <a:off x="6808680" y="2819160"/>
            <a:ext cx="417600" cy="330120"/>
            <a:chOff x="6808680" y="2819160"/>
            <a:chExt cx="417600" cy="330120"/>
          </a:xfrm>
        </p:grpSpPr>
        <p:sp>
          <p:nvSpPr>
            <p:cNvPr id="249" name="Line 13"/>
            <p:cNvSpPr/>
            <p:nvPr/>
          </p:nvSpPr>
          <p:spPr>
            <a:xfrm flipV="1">
              <a:off x="6808680" y="2819160"/>
              <a:ext cx="417600" cy="30492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6878160" y="2819160"/>
              <a:ext cx="326160" cy="33012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251" name="Group 16"/>
          <p:cNvGrpSpPr/>
          <p:nvPr/>
        </p:nvGrpSpPr>
        <p:grpSpPr>
          <a:xfrm>
            <a:off x="6005160" y="1771560"/>
            <a:ext cx="609840" cy="228600"/>
            <a:chOff x="6005160" y="1771560"/>
            <a:chExt cx="609840" cy="228600"/>
          </a:xfrm>
        </p:grpSpPr>
        <p:sp>
          <p:nvSpPr>
            <p:cNvPr id="252" name="Line 17"/>
            <p:cNvSpPr/>
            <p:nvPr/>
          </p:nvSpPr>
          <p:spPr>
            <a:xfrm>
              <a:off x="6005160" y="1847520"/>
              <a:ext cx="76320" cy="15264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 flipV="1">
              <a:off x="6081480" y="1771560"/>
              <a:ext cx="533520" cy="22860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254" name="Group 19"/>
          <p:cNvGrpSpPr/>
          <p:nvPr/>
        </p:nvGrpSpPr>
        <p:grpSpPr>
          <a:xfrm>
            <a:off x="7922880" y="2314440"/>
            <a:ext cx="609840" cy="228600"/>
            <a:chOff x="7922880" y="2314440"/>
            <a:chExt cx="609840" cy="228600"/>
          </a:xfrm>
        </p:grpSpPr>
        <p:sp>
          <p:nvSpPr>
            <p:cNvPr id="255" name="Line 20"/>
            <p:cNvSpPr/>
            <p:nvPr/>
          </p:nvSpPr>
          <p:spPr>
            <a:xfrm>
              <a:off x="7922880" y="2390760"/>
              <a:ext cx="76320" cy="15228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 flipV="1">
              <a:off x="7999200" y="2314440"/>
              <a:ext cx="533520" cy="228600"/>
            </a:xfrm>
            <a:prstGeom prst="line">
              <a:avLst/>
            </a:prstGeom>
            <a:ln w="28575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257" name="Text Box 22"/>
          <p:cNvSpPr/>
          <p:nvPr/>
        </p:nvSpPr>
        <p:spPr>
          <a:xfrm>
            <a:off x="7110360" y="3645000"/>
            <a:ext cx="888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259" name="AutoShape 28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60" name="AutoShape 29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0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0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1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4"/>
          <p:cNvSpPr/>
          <p:nvPr/>
        </p:nvSpPr>
        <p:spPr>
          <a:xfrm>
            <a:off x="0" y="0"/>
            <a:ext cx="9677160" cy="7094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262" name="Group 15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263" name="AutoShape 16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64" name="AutoShape 17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265" name="Group 22"/>
          <p:cNvGrpSpPr/>
          <p:nvPr/>
        </p:nvGrpSpPr>
        <p:grpSpPr>
          <a:xfrm>
            <a:off x="1442880" y="1039680"/>
            <a:ext cx="1712880" cy="3244680"/>
            <a:chOff x="1442880" y="1039680"/>
            <a:chExt cx="1712880" cy="3244680"/>
          </a:xfrm>
        </p:grpSpPr>
        <p:sp>
          <p:nvSpPr>
            <p:cNvPr id="266" name="Line 18"/>
            <p:cNvSpPr/>
            <p:nvPr/>
          </p:nvSpPr>
          <p:spPr>
            <a:xfrm>
              <a:off x="2292120" y="1039680"/>
              <a:ext cx="360" cy="32446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67" name="Oval 20"/>
            <p:cNvSpPr/>
            <p:nvPr/>
          </p:nvSpPr>
          <p:spPr>
            <a:xfrm>
              <a:off x="2316240" y="1452600"/>
              <a:ext cx="839520" cy="839520"/>
            </a:xfrm>
            <a:prstGeom prst="ellipse">
              <a:avLst/>
            </a:prstGeom>
            <a:noFill/>
            <a:ln w="381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1442880" y="3008160"/>
              <a:ext cx="839520" cy="839520"/>
            </a:xfrm>
            <a:prstGeom prst="ellipse">
              <a:avLst/>
            </a:prstGeom>
            <a:noFill/>
            <a:ln w="381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269" name="Group 29"/>
          <p:cNvGrpSpPr/>
          <p:nvPr/>
        </p:nvGrpSpPr>
        <p:grpSpPr>
          <a:xfrm>
            <a:off x="5829480" y="1054080"/>
            <a:ext cx="1725120" cy="3244680"/>
            <a:chOff x="5829480" y="1054080"/>
            <a:chExt cx="1725120" cy="3244680"/>
          </a:xfrm>
        </p:grpSpPr>
        <p:sp>
          <p:nvSpPr>
            <p:cNvPr id="270" name="Line 24"/>
            <p:cNvSpPr/>
            <p:nvPr/>
          </p:nvSpPr>
          <p:spPr>
            <a:xfrm>
              <a:off x="6690960" y="1054080"/>
              <a:ext cx="360" cy="324468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71" name="Oval 25"/>
            <p:cNvSpPr/>
            <p:nvPr/>
          </p:nvSpPr>
          <p:spPr>
            <a:xfrm>
              <a:off x="6715080" y="2179800"/>
              <a:ext cx="839520" cy="839520"/>
            </a:xfrm>
            <a:prstGeom prst="ellipse">
              <a:avLst/>
            </a:prstGeom>
            <a:noFill/>
            <a:ln w="381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72" name="Oval 26"/>
            <p:cNvSpPr/>
            <p:nvPr/>
          </p:nvSpPr>
          <p:spPr>
            <a:xfrm>
              <a:off x="5829480" y="2195640"/>
              <a:ext cx="839520" cy="839520"/>
            </a:xfrm>
            <a:prstGeom prst="ellipse">
              <a:avLst/>
            </a:prstGeom>
            <a:noFill/>
            <a:ln w="381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273" name="Text Box 27"/>
          <p:cNvSpPr/>
          <p:nvPr/>
        </p:nvSpPr>
        <p:spPr>
          <a:xfrm>
            <a:off x="1585800" y="619200"/>
            <a:ext cx="1334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6189840" y="612720"/>
            <a:ext cx="1096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"/>
          <p:cNvSpPr/>
          <p:nvPr/>
        </p:nvSpPr>
        <p:spPr>
          <a:xfrm>
            <a:off x="360360" y="6108840"/>
            <a:ext cx="8018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尽在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278" name="AutoShape 4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79" name="AutoShape 5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1393920" y="587520"/>
            <a:ext cx="5893920" cy="6003720"/>
            <a:chOff x="1393920" y="587520"/>
            <a:chExt cx="5893920" cy="6003720"/>
          </a:xfrm>
        </p:grpSpPr>
        <p:sp>
          <p:nvSpPr>
            <p:cNvPr id="281" name="AutoShape 6"/>
            <p:cNvSpPr/>
            <p:nvPr/>
          </p:nvSpPr>
          <p:spPr>
            <a:xfrm>
              <a:off x="1393920" y="587520"/>
              <a:ext cx="5893920" cy="60037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bfdff"/>
                </a:gs>
                <a:gs pos="100000">
                  <a:srgbClr val="99ccff"/>
                </a:gs>
              </a:gsLst>
              <a:lin ang="5400000"/>
            </a:gradFill>
            <a:ln w="41275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82" name="WordArt 7"/>
            <p:cNvSpPr txBox="1"/>
            <p:nvPr/>
          </p:nvSpPr>
          <p:spPr>
            <a:xfrm>
              <a:off x="2720160" y="1102680"/>
              <a:ext cx="3474720" cy="12272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  <a:ea typeface="宋体"/>
                </a:rPr>
                <a:t>课后作业</a:t>
              </a:r>
              <a:endPara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2167560" y="2570760"/>
              <a:ext cx="43466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          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册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2182680" y="3330720"/>
              <a:ext cx="4371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课一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1961640" y="3926160"/>
              <a:ext cx="5077440" cy="973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5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、填空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二、选择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D7352A3C-B664-488A-9022-41D86F3D846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-533520" y="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0" name="Picture 7" descr="未命名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828800"/>
            <a:ext cx="3050640" cy="1874520"/>
          </a:xfrm>
          <a:prstGeom prst="rect">
            <a:avLst/>
          </a:prstGeom>
          <a:ln w="9525">
            <a:noFill/>
          </a:ln>
        </p:spPr>
      </p:pic>
      <p:pic>
        <p:nvPicPr>
          <p:cNvPr id="51" name="Picture 19" descr="qqq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91120"/>
            <a:ext cx="4571640" cy="1504440"/>
          </a:xfrm>
          <a:prstGeom prst="rect">
            <a:avLst/>
          </a:prstGeom>
          <a:ln w="9525">
            <a:noFill/>
          </a:ln>
        </p:spPr>
      </p:pic>
      <p:sp>
        <p:nvSpPr>
          <p:cNvPr id="52" name="WordArt 21"/>
          <p:cNvSpPr txBox="1"/>
          <p:nvPr/>
        </p:nvSpPr>
        <p:spPr>
          <a:xfrm>
            <a:off x="228600" y="228600"/>
            <a:ext cx="8381520" cy="1301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7708"/>
                <a:gd name="adj2" fmla="val -178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请大家观察下列图形有哪些共同特征？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" descr="可用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1676520"/>
            <a:ext cx="4028760" cy="198072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26" descr="d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3962520"/>
            <a:ext cx="2838240" cy="2250720"/>
          </a:xfrm>
          <a:prstGeom prst="rect">
            <a:avLst/>
          </a:prstGeom>
          <a:ln w="9525">
            <a:noFill/>
          </a:ln>
        </p:spPr>
      </p:pic>
      <p:sp>
        <p:nvSpPr>
          <p:cNvPr id="55" name="Text Box 27"/>
          <p:cNvSpPr/>
          <p:nvPr/>
        </p:nvSpPr>
        <p:spPr>
          <a:xfrm>
            <a:off x="965160" y="6243480"/>
            <a:ext cx="7519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沿某一条直线翻折后，直线两旁的两个部分能完全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2362320" y="3657600"/>
            <a:ext cx="761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781680" y="3581280"/>
            <a:ext cx="761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401920" y="5638680"/>
            <a:ext cx="761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792840" y="5803920"/>
            <a:ext cx="761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2"/>
          <p:cNvGrpSpPr/>
          <p:nvPr/>
        </p:nvGrpSpPr>
        <p:grpSpPr>
          <a:xfrm>
            <a:off x="7804080" y="6657840"/>
            <a:ext cx="877680" cy="250560"/>
            <a:chOff x="7804080" y="6657840"/>
            <a:chExt cx="877680" cy="250560"/>
          </a:xfrm>
        </p:grpSpPr>
        <p:sp>
          <p:nvSpPr>
            <p:cNvPr id="61" name="AutoShape 33">
              <a:hlinkClick r:id="" action="ppaction://hlinkshowjump?jump=previousslide"/>
            </p:cNvPr>
            <p:cNvSpPr/>
            <p:nvPr/>
          </p:nvSpPr>
          <p:spPr>
            <a:xfrm>
              <a:off x="7804080" y="6657840"/>
              <a:ext cx="383760" cy="25056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62" name="AutoShape 34">
              <a:hlinkClick r:id="" action="ppaction://hlinkshowjump?jump=nextslide"/>
            </p:cNvPr>
            <p:cNvSpPr/>
            <p:nvPr/>
          </p:nvSpPr>
          <p:spPr>
            <a:xfrm>
              <a:off x="8188200" y="6657840"/>
              <a:ext cx="493560" cy="25056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63" name="Line 35"/>
          <p:cNvSpPr/>
          <p:nvPr/>
        </p:nvSpPr>
        <p:spPr>
          <a:xfrm>
            <a:off x="2754000" y="1487160"/>
            <a:ext cx="1800" cy="2302200"/>
          </a:xfrm>
          <a:prstGeom prst="line">
            <a:avLst/>
          </a:prstGeom>
          <a:ln w="28575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7167240" y="1720800"/>
            <a:ext cx="360" cy="2028600"/>
          </a:xfrm>
          <a:prstGeom prst="line">
            <a:avLst/>
          </a:prstGeom>
          <a:ln w="28575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" name="Line 37"/>
          <p:cNvSpPr/>
          <p:nvPr/>
        </p:nvSpPr>
        <p:spPr>
          <a:xfrm>
            <a:off x="2738160" y="4143240"/>
            <a:ext cx="360" cy="1511280"/>
          </a:xfrm>
          <a:prstGeom prst="line">
            <a:avLst/>
          </a:prstGeom>
          <a:ln w="28575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" name="Line 38"/>
          <p:cNvSpPr/>
          <p:nvPr/>
        </p:nvSpPr>
        <p:spPr>
          <a:xfrm flipH="1">
            <a:off x="7178400" y="3931920"/>
            <a:ext cx="1800" cy="1914840"/>
          </a:xfrm>
          <a:prstGeom prst="line">
            <a:avLst/>
          </a:prstGeom>
          <a:ln w="28575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184320" y="6232680"/>
            <a:ext cx="901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81040" y="2049480"/>
            <a:ext cx="8762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696969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6969"/>
                </a:solidFill>
                <a:latin typeface="Times New Roman"/>
                <a:ea typeface="宋体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把一个图形沿着某一条直线翻折，如果直线两旁的部分能够互相重合，这个图形就是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轴对称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30080" y="4537080"/>
            <a:ext cx="8776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696969"/>
                </a:solidFill>
                <a:latin typeface="Times New Roman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696969"/>
                </a:solidFill>
                <a:latin typeface="Times New Roman"/>
                <a:ea typeface="宋体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这条直线是这个图形的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对称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previousslide"/>
          </p:cNvPr>
          <p:cNvSpPr/>
          <p:nvPr/>
        </p:nvSpPr>
        <p:spPr>
          <a:xfrm>
            <a:off x="7620120" y="6400800"/>
            <a:ext cx="533160" cy="380520"/>
          </a:xfrm>
          <a:prstGeom prst="actionButtonBackPrevious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8153280" y="6400800"/>
            <a:ext cx="685440" cy="380520"/>
          </a:xfrm>
          <a:prstGeom prst="actionButtonForwardNex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73" name="Group 9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74" name="AutoShape 10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75" name="AutoShape 11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76" name="Text Box 16"/>
          <p:cNvSpPr/>
          <p:nvPr/>
        </p:nvSpPr>
        <p:spPr>
          <a:xfrm>
            <a:off x="266760" y="1095480"/>
            <a:ext cx="7356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 轴对称图形和对称轴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80880" y="299880"/>
            <a:ext cx="8762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(1) </a:t>
            </a:r>
            <a:r>
              <a:rPr b="1" lang="zh-CN" sz="32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我们学过的线段和角是不是轴对称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9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80" name="AutoShape 80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81" name="AutoShape 81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82" name="Group 182"/>
          <p:cNvGrpSpPr/>
          <p:nvPr/>
        </p:nvGrpSpPr>
        <p:grpSpPr>
          <a:xfrm>
            <a:off x="1201680" y="2787480"/>
            <a:ext cx="3169800" cy="112320"/>
            <a:chOff x="1201680" y="2787480"/>
            <a:chExt cx="3169800" cy="112320"/>
          </a:xfrm>
        </p:grpSpPr>
        <p:sp>
          <p:nvSpPr>
            <p:cNvPr id="83" name="Oval 129"/>
            <p:cNvSpPr/>
            <p:nvPr/>
          </p:nvSpPr>
          <p:spPr>
            <a:xfrm>
              <a:off x="1201680" y="2787480"/>
              <a:ext cx="145800" cy="112320"/>
            </a:xfrm>
            <a:prstGeom prst="ellipse">
              <a:avLst/>
            </a:prstGeom>
            <a:solidFill>
              <a:srgbClr val="ff3300"/>
            </a:solidFill>
            <a:ln w="9525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84" name="Oval 130"/>
            <p:cNvSpPr/>
            <p:nvPr/>
          </p:nvSpPr>
          <p:spPr>
            <a:xfrm>
              <a:off x="4238640" y="2787480"/>
              <a:ext cx="132840" cy="112320"/>
            </a:xfrm>
            <a:prstGeom prst="ellipse">
              <a:avLst/>
            </a:prstGeom>
            <a:solidFill>
              <a:srgbClr val="ff3300"/>
            </a:solidFill>
            <a:ln w="9525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85" name="Line 133"/>
            <p:cNvSpPr/>
            <p:nvPr/>
          </p:nvSpPr>
          <p:spPr>
            <a:xfrm>
              <a:off x="1358640" y="2852640"/>
              <a:ext cx="2887920" cy="360"/>
            </a:xfrm>
            <a:prstGeom prst="line">
              <a:avLst/>
            </a:prstGeom>
            <a:ln w="5715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86" name="Line 146"/>
          <p:cNvSpPr/>
          <p:nvPr/>
        </p:nvSpPr>
        <p:spPr>
          <a:xfrm>
            <a:off x="2808000" y="1595160"/>
            <a:ext cx="360" cy="2862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7" name="Text Box 151"/>
          <p:cNvSpPr/>
          <p:nvPr/>
        </p:nvSpPr>
        <p:spPr>
          <a:xfrm>
            <a:off x="2432160" y="998640"/>
            <a:ext cx="764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2"/>
          <p:cNvSpPr/>
          <p:nvPr/>
        </p:nvSpPr>
        <p:spPr>
          <a:xfrm>
            <a:off x="6327720" y="1008000"/>
            <a:ext cx="764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60"/>
          <p:cNvGrpSpPr/>
          <p:nvPr/>
        </p:nvGrpSpPr>
        <p:grpSpPr>
          <a:xfrm>
            <a:off x="5411520" y="1660320"/>
            <a:ext cx="2741760" cy="2413080"/>
            <a:chOff x="5411520" y="1660320"/>
            <a:chExt cx="2741760" cy="2413080"/>
          </a:xfrm>
        </p:grpSpPr>
        <p:sp>
          <p:nvSpPr>
            <p:cNvPr id="90" name="Line 157"/>
            <p:cNvSpPr/>
            <p:nvPr/>
          </p:nvSpPr>
          <p:spPr>
            <a:xfrm flipV="1">
              <a:off x="5451120" y="1660320"/>
              <a:ext cx="1145160" cy="2413080"/>
            </a:xfrm>
            <a:prstGeom prst="line">
              <a:avLst/>
            </a:prstGeom>
            <a:ln w="5715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91" name="Line 158"/>
            <p:cNvSpPr/>
            <p:nvPr/>
          </p:nvSpPr>
          <p:spPr>
            <a:xfrm flipV="1">
              <a:off x="5411520" y="4050720"/>
              <a:ext cx="2741760" cy="2880"/>
            </a:xfrm>
            <a:prstGeom prst="line">
              <a:avLst/>
            </a:prstGeom>
            <a:ln w="5715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92" name="Line 163"/>
          <p:cNvSpPr/>
          <p:nvPr/>
        </p:nvSpPr>
        <p:spPr>
          <a:xfrm flipH="1">
            <a:off x="5101920" y="2344680"/>
            <a:ext cx="3135600" cy="19033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93" name="AutoShape 181">
            <a:hlinkClick r:id="rId1"/>
          </p:cNvPr>
          <p:cNvSpPr/>
          <p:nvPr/>
        </p:nvSpPr>
        <p:spPr>
          <a:xfrm>
            <a:off x="4280040" y="6311880"/>
            <a:ext cx="533160" cy="151920"/>
          </a:xfrm>
          <a:prstGeom prst="curvedDownArrow">
            <a:avLst>
              <a:gd name="adj1" fmla="val 47412"/>
              <a:gd name="adj2" fmla="val 150694"/>
              <a:gd name="adj3" fmla="val 22394"/>
            </a:avLst>
          </a:prstGeom>
          <a:solidFill>
            <a:srgbClr val="33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94" name="Text Box 183"/>
          <p:cNvSpPr/>
          <p:nvPr/>
        </p:nvSpPr>
        <p:spPr>
          <a:xfrm>
            <a:off x="-76320" y="4908600"/>
            <a:ext cx="91692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线段是轴对称图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它的对称轴是这条线段的垂直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4"/>
          <p:cNvSpPr/>
          <p:nvPr/>
        </p:nvSpPr>
        <p:spPr>
          <a:xfrm>
            <a:off x="-163440" y="5389560"/>
            <a:ext cx="7878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角是轴对称图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它的对称轴是这个角的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5"/>
          <p:cNvSpPr/>
          <p:nvPr/>
        </p:nvSpPr>
        <p:spPr>
          <a:xfrm>
            <a:off x="7155000" y="5372280"/>
            <a:ext cx="22921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所在的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677160" cy="6857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cf5187"/>
              </a:solidFill>
              <a:latin typeface="Times New Roman"/>
              <a:ea typeface="宋体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962520" y="3809880"/>
            <a:ext cx="4933440" cy="2057040"/>
          </a:xfrm>
          <a:prstGeom prst="flowChartInputOutput">
            <a:avLst/>
          </a:prstGeom>
          <a:noFill/>
          <a:ln w="5715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100" name="AutoShape 5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101" name="AutoShape 6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102" name="AutoShape 13"/>
          <p:cNvSpPr/>
          <p:nvPr/>
        </p:nvSpPr>
        <p:spPr>
          <a:xfrm rot="10863000">
            <a:off x="257400" y="-148680"/>
            <a:ext cx="7071840" cy="3803400"/>
          </a:xfrm>
          <a:prstGeom prst="cloudCallout">
            <a:avLst>
              <a:gd name="adj1" fmla="val -2546"/>
              <a:gd name="adj2" fmla="val -82731"/>
            </a:avLst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lin ang="5400000"/>
          </a:gra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cc"/>
              </a:solidFill>
              <a:latin typeface="Times New Roman"/>
              <a:ea typeface="宋体"/>
            </a:endParaRPr>
          </a:p>
        </p:txBody>
      </p:sp>
      <p:sp>
        <p:nvSpPr>
          <p:cNvPr id="103" name="Text Box 4"/>
          <p:cNvSpPr/>
          <p:nvPr/>
        </p:nvSpPr>
        <p:spPr>
          <a:xfrm rot="21075000">
            <a:off x="549360" y="556920"/>
            <a:ext cx="65624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1" lang="zh-CN" sz="54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请大家想一想平行  四边行是否为轴对称图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>
            <a:hlinkClick r:id="rId1"/>
          </p:cNvPr>
          <p:cNvSpPr/>
          <p:nvPr/>
        </p:nvSpPr>
        <p:spPr>
          <a:xfrm>
            <a:off x="4267080" y="6324480"/>
            <a:ext cx="533160" cy="151920"/>
          </a:xfrm>
          <a:prstGeom prst="curvedDownArrow">
            <a:avLst>
              <a:gd name="adj1" fmla="val 47412"/>
              <a:gd name="adj2" fmla="val 150694"/>
              <a:gd name="adj3" fmla="val 22394"/>
            </a:avLst>
          </a:prstGeom>
          <a:solidFill>
            <a:srgbClr val="33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34960" y="5173560"/>
            <a:ext cx="2991960" cy="106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zh-CN" sz="28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平行四边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不是</a:t>
            </a:r>
            <a:r>
              <a:rPr b="1" lang="zh-CN" sz="28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轴对称图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-685800"/>
            <a:ext cx="9677160" cy="7543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aphicFrame>
        <p:nvGraphicFramePr>
          <p:cNvPr id="107" name="Group 586"/>
          <p:cNvGraphicFramePr/>
          <p:nvPr/>
        </p:nvGraphicFramePr>
        <p:xfrm>
          <a:off x="114480" y="652320"/>
          <a:ext cx="8915040" cy="5927400"/>
        </p:xfrm>
        <a:graphic>
          <a:graphicData uri="http://schemas.openxmlformats.org/drawingml/2006/table">
            <a:tbl>
              <a:tblPr/>
              <a:tblGrid>
                <a:gridCol w="2127240"/>
                <a:gridCol w="1116000"/>
                <a:gridCol w="1639800"/>
                <a:gridCol w="1164960"/>
                <a:gridCol w="2866680"/>
              </a:tblGrid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ff3300"/>
                        </a:solidFill>
                        <a:latin typeface="隶书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</a:tabLst>
                      </a:pPr>
                      <a:endParaRPr b="1" lang="en-US" sz="2400" spc="-1" strike="noStrike">
                        <a:solidFill>
                          <a:srgbClr val="ff3300"/>
                        </a:solidFill>
                        <a:latin typeface="隶书"/>
                        <a:ea typeface="隶书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AutoShape 47"/>
          <p:cNvSpPr/>
          <p:nvPr/>
        </p:nvSpPr>
        <p:spPr>
          <a:xfrm>
            <a:off x="1258920" y="2035080"/>
            <a:ext cx="833040" cy="685440"/>
          </a:xfrm>
          <a:prstGeom prst="flowChartExtra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09" name="Rectangle 48">
            <a:hlinkClick r:id="rId1"/>
          </p:cNvPr>
          <p:cNvSpPr/>
          <p:nvPr/>
        </p:nvSpPr>
        <p:spPr>
          <a:xfrm>
            <a:off x="1193760" y="3002040"/>
            <a:ext cx="941040" cy="420480"/>
          </a:xfrm>
          <a:prstGeom prst="re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1360440" y="5078520"/>
            <a:ext cx="685440" cy="685440"/>
          </a:xfrm>
          <a:prstGeom prst="ellipse">
            <a:avLst/>
          </a:prstGeom>
          <a:noFill/>
          <a:ln w="3810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1" name="AutoShape 118"/>
          <p:cNvSpPr/>
          <p:nvPr/>
        </p:nvSpPr>
        <p:spPr>
          <a:xfrm>
            <a:off x="1093680" y="3695760"/>
            <a:ext cx="1069560" cy="496440"/>
          </a:xfrm>
          <a:prstGeom prst="flowChartDecision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2" name="Rectangle 119"/>
          <p:cNvSpPr/>
          <p:nvPr/>
        </p:nvSpPr>
        <p:spPr>
          <a:xfrm>
            <a:off x="1374840" y="4378320"/>
            <a:ext cx="622080" cy="544320"/>
          </a:xfrm>
          <a:prstGeom prst="re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3" name="Text Box 312"/>
          <p:cNvSpPr/>
          <p:nvPr/>
        </p:nvSpPr>
        <p:spPr>
          <a:xfrm>
            <a:off x="0" y="4406760"/>
            <a:ext cx="1309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3"/>
          <p:cNvSpPr/>
          <p:nvPr/>
        </p:nvSpPr>
        <p:spPr>
          <a:xfrm>
            <a:off x="192240" y="2892600"/>
            <a:ext cx="914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4"/>
          <p:cNvSpPr/>
          <p:nvPr/>
        </p:nvSpPr>
        <p:spPr>
          <a:xfrm>
            <a:off x="0" y="1951200"/>
            <a:ext cx="14475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等边     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5"/>
          <p:cNvSpPr/>
          <p:nvPr/>
        </p:nvSpPr>
        <p:spPr>
          <a:xfrm>
            <a:off x="204840" y="3693960"/>
            <a:ext cx="914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7"/>
          <p:cNvSpPr/>
          <p:nvPr/>
        </p:nvSpPr>
        <p:spPr>
          <a:xfrm>
            <a:off x="257040" y="5146560"/>
            <a:ext cx="914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8"/>
          <p:cNvSpPr/>
          <p:nvPr/>
        </p:nvSpPr>
        <p:spPr>
          <a:xfrm>
            <a:off x="206280" y="5796000"/>
            <a:ext cx="1014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等腰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4"/>
          <p:cNvSpPr/>
          <p:nvPr/>
        </p:nvSpPr>
        <p:spPr>
          <a:xfrm>
            <a:off x="4863960" y="684360"/>
            <a:ext cx="142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对称轴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3"/>
          <p:cNvSpPr/>
          <p:nvPr/>
        </p:nvSpPr>
        <p:spPr>
          <a:xfrm>
            <a:off x="5168880" y="2101680"/>
            <a:ext cx="794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4"/>
          <p:cNvSpPr/>
          <p:nvPr/>
        </p:nvSpPr>
        <p:spPr>
          <a:xfrm>
            <a:off x="5218200" y="4405320"/>
            <a:ext cx="718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5"/>
          <p:cNvSpPr/>
          <p:nvPr/>
        </p:nvSpPr>
        <p:spPr>
          <a:xfrm>
            <a:off x="4927680" y="2916360"/>
            <a:ext cx="129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6"/>
          <p:cNvSpPr/>
          <p:nvPr/>
        </p:nvSpPr>
        <p:spPr>
          <a:xfrm>
            <a:off x="5133960" y="5975280"/>
            <a:ext cx="858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7"/>
          <p:cNvSpPr/>
          <p:nvPr/>
        </p:nvSpPr>
        <p:spPr>
          <a:xfrm>
            <a:off x="4911840" y="5151600"/>
            <a:ext cx="129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无数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0"/>
          <p:cNvSpPr/>
          <p:nvPr/>
        </p:nvSpPr>
        <p:spPr>
          <a:xfrm>
            <a:off x="5130720" y="3722760"/>
            <a:ext cx="8442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5"/>
          <p:cNvSpPr/>
          <p:nvPr/>
        </p:nvSpPr>
        <p:spPr>
          <a:xfrm>
            <a:off x="325440" y="0"/>
            <a:ext cx="88182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2)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常见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3"/>
          <p:cNvSpPr/>
          <p:nvPr/>
        </p:nvSpPr>
        <p:spPr>
          <a:xfrm>
            <a:off x="6789600" y="736560"/>
            <a:ext cx="1611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对称轴的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7"/>
          <p:cNvSpPr/>
          <p:nvPr/>
        </p:nvSpPr>
        <p:spPr>
          <a:xfrm>
            <a:off x="6175440" y="2971800"/>
            <a:ext cx="27954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长和宽的中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8"/>
          <p:cNvSpPr/>
          <p:nvPr/>
        </p:nvSpPr>
        <p:spPr>
          <a:xfrm>
            <a:off x="6080040" y="4232160"/>
            <a:ext cx="3063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两条邻边的中垂线和对角线所在的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89"/>
          <p:cNvSpPr/>
          <p:nvPr/>
        </p:nvSpPr>
        <p:spPr>
          <a:xfrm>
            <a:off x="6191280" y="2106720"/>
            <a:ext cx="27954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三条边的中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90"/>
          <p:cNvSpPr/>
          <p:nvPr/>
        </p:nvSpPr>
        <p:spPr>
          <a:xfrm>
            <a:off x="6251400" y="3724200"/>
            <a:ext cx="1341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对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92"/>
          <p:cNvSpPr/>
          <p:nvPr/>
        </p:nvSpPr>
        <p:spPr>
          <a:xfrm>
            <a:off x="6348240" y="5156280"/>
            <a:ext cx="2557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直径所在的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93"/>
          <p:cNvSpPr/>
          <p:nvPr/>
        </p:nvSpPr>
        <p:spPr>
          <a:xfrm>
            <a:off x="6348240" y="5978520"/>
            <a:ext cx="249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一条底的中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9"/>
          <p:cNvSpPr/>
          <p:nvPr/>
        </p:nvSpPr>
        <p:spPr>
          <a:xfrm flipV="1">
            <a:off x="1184400" y="5945040"/>
            <a:ext cx="998280" cy="506160"/>
          </a:xfrm>
          <a:prstGeom prst="flowChartManualOperation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Rectangle 341"/>
          <p:cNvSpPr/>
          <p:nvPr/>
        </p:nvSpPr>
        <p:spPr>
          <a:xfrm>
            <a:off x="3662280" y="2948040"/>
            <a:ext cx="1142640" cy="533160"/>
          </a:xfrm>
          <a:prstGeom prst="re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6" name="Line 353"/>
          <p:cNvSpPr/>
          <p:nvPr/>
        </p:nvSpPr>
        <p:spPr>
          <a:xfrm>
            <a:off x="3555720" y="3198600"/>
            <a:ext cx="135900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7" name="Line 354"/>
          <p:cNvSpPr/>
          <p:nvPr/>
        </p:nvSpPr>
        <p:spPr>
          <a:xfrm>
            <a:off x="4235400" y="2860560"/>
            <a:ext cx="360" cy="6890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8" name="Oval 346"/>
          <p:cNvSpPr/>
          <p:nvPr/>
        </p:nvSpPr>
        <p:spPr>
          <a:xfrm>
            <a:off x="3916440" y="5100480"/>
            <a:ext cx="685440" cy="685440"/>
          </a:xfrm>
          <a:prstGeom prst="ellipse">
            <a:avLst/>
          </a:prstGeom>
          <a:noFill/>
          <a:ln w="3810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9" name="Line 355"/>
          <p:cNvSpPr/>
          <p:nvPr/>
        </p:nvSpPr>
        <p:spPr>
          <a:xfrm>
            <a:off x="3741480" y="5464080"/>
            <a:ext cx="104292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0" name="Line 356"/>
          <p:cNvSpPr/>
          <p:nvPr/>
        </p:nvSpPr>
        <p:spPr>
          <a:xfrm>
            <a:off x="4252680" y="5060880"/>
            <a:ext cx="360" cy="79380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1" name="Line 357"/>
          <p:cNvSpPr/>
          <p:nvPr/>
        </p:nvSpPr>
        <p:spPr>
          <a:xfrm flipV="1">
            <a:off x="4027320" y="5040000"/>
            <a:ext cx="488880" cy="76860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2" name="Line 358"/>
          <p:cNvSpPr/>
          <p:nvPr/>
        </p:nvSpPr>
        <p:spPr>
          <a:xfrm>
            <a:off x="4020840" y="5076720"/>
            <a:ext cx="473040" cy="7491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3" name="Line 359"/>
          <p:cNvSpPr/>
          <p:nvPr/>
        </p:nvSpPr>
        <p:spPr>
          <a:xfrm>
            <a:off x="3801960" y="5222520"/>
            <a:ext cx="901800" cy="4813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4" name="Line 362"/>
          <p:cNvSpPr/>
          <p:nvPr/>
        </p:nvSpPr>
        <p:spPr>
          <a:xfrm flipH="1">
            <a:off x="3811320" y="5211720"/>
            <a:ext cx="887400" cy="5047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5" name="AutoShape 340"/>
          <p:cNvSpPr/>
          <p:nvPr/>
        </p:nvSpPr>
        <p:spPr>
          <a:xfrm>
            <a:off x="3790800" y="2017800"/>
            <a:ext cx="833040" cy="685440"/>
          </a:xfrm>
          <a:prstGeom prst="flowChartExtra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6" name="Line 363"/>
          <p:cNvSpPr/>
          <p:nvPr/>
        </p:nvSpPr>
        <p:spPr>
          <a:xfrm>
            <a:off x="4206600" y="1954080"/>
            <a:ext cx="360" cy="811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7" name="Line 364"/>
          <p:cNvSpPr/>
          <p:nvPr/>
        </p:nvSpPr>
        <p:spPr>
          <a:xfrm>
            <a:off x="3825720" y="2212920"/>
            <a:ext cx="863640" cy="5428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8" name="Line 365"/>
          <p:cNvSpPr/>
          <p:nvPr/>
        </p:nvSpPr>
        <p:spPr>
          <a:xfrm flipH="1">
            <a:off x="3690720" y="2224080"/>
            <a:ext cx="916200" cy="5443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9" name="AutoShape 347"/>
          <p:cNvSpPr/>
          <p:nvPr/>
        </p:nvSpPr>
        <p:spPr>
          <a:xfrm>
            <a:off x="3586320" y="3664080"/>
            <a:ext cx="1307880" cy="523440"/>
          </a:xfrm>
          <a:prstGeom prst="flowChartDecision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0" name="Line 377"/>
          <p:cNvSpPr/>
          <p:nvPr/>
        </p:nvSpPr>
        <p:spPr>
          <a:xfrm>
            <a:off x="3501720" y="3922560"/>
            <a:ext cx="146376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1" name="Line 378"/>
          <p:cNvSpPr/>
          <p:nvPr/>
        </p:nvSpPr>
        <p:spPr>
          <a:xfrm>
            <a:off x="4233600" y="3578040"/>
            <a:ext cx="360" cy="7016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2" name="Text Box 503"/>
          <p:cNvSpPr/>
          <p:nvPr/>
        </p:nvSpPr>
        <p:spPr>
          <a:xfrm>
            <a:off x="7143840" y="3733920"/>
            <a:ext cx="1999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所在的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0"/>
          <p:cNvSpPr/>
          <p:nvPr/>
        </p:nvSpPr>
        <p:spPr>
          <a:xfrm>
            <a:off x="0" y="1136520"/>
            <a:ext cx="14475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等腰     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11"/>
          <p:cNvSpPr/>
          <p:nvPr/>
        </p:nvSpPr>
        <p:spPr>
          <a:xfrm>
            <a:off x="1477800" y="1238400"/>
            <a:ext cx="401400" cy="626760"/>
          </a:xfrm>
          <a:prstGeom prst="flowChartExtra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5" name="Text Box 515"/>
          <p:cNvSpPr/>
          <p:nvPr/>
        </p:nvSpPr>
        <p:spPr>
          <a:xfrm>
            <a:off x="3467160" y="70632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对称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40"/>
          <p:cNvSpPr/>
          <p:nvPr/>
        </p:nvSpPr>
        <p:spPr>
          <a:xfrm>
            <a:off x="3998880" y="1201680"/>
            <a:ext cx="401400" cy="626760"/>
          </a:xfrm>
          <a:prstGeom prst="flowChartExtra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7" name="Line 542"/>
          <p:cNvSpPr/>
          <p:nvPr/>
        </p:nvSpPr>
        <p:spPr>
          <a:xfrm>
            <a:off x="4194000" y="1169640"/>
            <a:ext cx="360" cy="7207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8" name="Text Box 546"/>
          <p:cNvSpPr/>
          <p:nvPr/>
        </p:nvSpPr>
        <p:spPr>
          <a:xfrm>
            <a:off x="5135400" y="1266840"/>
            <a:ext cx="858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7"/>
          <p:cNvSpPr/>
          <p:nvPr/>
        </p:nvSpPr>
        <p:spPr>
          <a:xfrm>
            <a:off x="6332400" y="1268280"/>
            <a:ext cx="2542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底边的中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70"/>
          <p:cNvSpPr/>
          <p:nvPr/>
        </p:nvSpPr>
        <p:spPr>
          <a:xfrm>
            <a:off x="2230560" y="582480"/>
            <a:ext cx="11268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隶书"/>
              </a:rPr>
              <a:t>是不是轴对称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71"/>
          <p:cNvSpPr/>
          <p:nvPr/>
        </p:nvSpPr>
        <p:spPr>
          <a:xfrm>
            <a:off x="2448000" y="5994360"/>
            <a:ext cx="731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72"/>
          <p:cNvSpPr/>
          <p:nvPr/>
        </p:nvSpPr>
        <p:spPr>
          <a:xfrm>
            <a:off x="2411280" y="2952720"/>
            <a:ext cx="796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73"/>
          <p:cNvSpPr/>
          <p:nvPr/>
        </p:nvSpPr>
        <p:spPr>
          <a:xfrm>
            <a:off x="2417760" y="1316160"/>
            <a:ext cx="731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74"/>
          <p:cNvSpPr/>
          <p:nvPr/>
        </p:nvSpPr>
        <p:spPr>
          <a:xfrm>
            <a:off x="2479680" y="3701880"/>
            <a:ext cx="691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75"/>
          <p:cNvSpPr/>
          <p:nvPr/>
        </p:nvSpPr>
        <p:spPr>
          <a:xfrm>
            <a:off x="2357280" y="2146320"/>
            <a:ext cx="875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76"/>
          <p:cNvSpPr/>
          <p:nvPr/>
        </p:nvSpPr>
        <p:spPr>
          <a:xfrm>
            <a:off x="2459160" y="5189400"/>
            <a:ext cx="731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77"/>
          <p:cNvSpPr/>
          <p:nvPr/>
        </p:nvSpPr>
        <p:spPr>
          <a:xfrm>
            <a:off x="2460600" y="4437000"/>
            <a:ext cx="691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1"/>
          <p:cNvSpPr/>
          <p:nvPr/>
        </p:nvSpPr>
        <p:spPr>
          <a:xfrm>
            <a:off x="3932280" y="4368960"/>
            <a:ext cx="622080" cy="544320"/>
          </a:xfrm>
          <a:prstGeom prst="rect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69" name="Line 367"/>
          <p:cNvSpPr/>
          <p:nvPr/>
        </p:nvSpPr>
        <p:spPr>
          <a:xfrm>
            <a:off x="3870000" y="4644720"/>
            <a:ext cx="75564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70" name="Line 368"/>
          <p:cNvSpPr/>
          <p:nvPr/>
        </p:nvSpPr>
        <p:spPr>
          <a:xfrm>
            <a:off x="3924000" y="4324320"/>
            <a:ext cx="660600" cy="6476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71" name="Line 369"/>
          <p:cNvSpPr/>
          <p:nvPr/>
        </p:nvSpPr>
        <p:spPr>
          <a:xfrm>
            <a:off x="4268520" y="4311360"/>
            <a:ext cx="360" cy="684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72" name="Line 370"/>
          <p:cNvSpPr/>
          <p:nvPr/>
        </p:nvSpPr>
        <p:spPr>
          <a:xfrm flipV="1">
            <a:off x="3924000" y="4317840"/>
            <a:ext cx="668520" cy="6602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173" name="Group 582"/>
          <p:cNvGrpSpPr/>
          <p:nvPr/>
        </p:nvGrpSpPr>
        <p:grpSpPr>
          <a:xfrm>
            <a:off x="7620120" y="6626160"/>
            <a:ext cx="1218600" cy="155160"/>
            <a:chOff x="7620120" y="6626160"/>
            <a:chExt cx="1218600" cy="155160"/>
          </a:xfrm>
        </p:grpSpPr>
        <p:sp>
          <p:nvSpPr>
            <p:cNvPr id="174" name="AutoShape 583">
              <a:hlinkClick r:id="" action="ppaction://hlinkshowjump?jump=previousslide"/>
            </p:cNvPr>
            <p:cNvSpPr/>
            <p:nvPr/>
          </p:nvSpPr>
          <p:spPr>
            <a:xfrm>
              <a:off x="7620120" y="6626160"/>
              <a:ext cx="533160" cy="15516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175" name="AutoShape 584">
              <a:hlinkClick r:id="" action="ppaction://hlinkshowjump?jump=nextslide"/>
            </p:cNvPr>
            <p:cNvSpPr/>
            <p:nvPr/>
          </p:nvSpPr>
          <p:spPr>
            <a:xfrm>
              <a:off x="8153280" y="6626160"/>
              <a:ext cx="685440" cy="15516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176" name="AutoShape 585"/>
          <p:cNvSpPr/>
          <p:nvPr/>
        </p:nvSpPr>
        <p:spPr>
          <a:xfrm flipV="1">
            <a:off x="3754440" y="5946840"/>
            <a:ext cx="998280" cy="506160"/>
          </a:xfrm>
          <a:prstGeom prst="flowChartManualOperation">
            <a:avLst/>
          </a:prstGeom>
          <a:noFill/>
          <a:ln w="381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77" name="Line 384"/>
          <p:cNvSpPr/>
          <p:nvPr/>
        </p:nvSpPr>
        <p:spPr>
          <a:xfrm>
            <a:off x="4267080" y="5860800"/>
            <a:ext cx="1440" cy="6904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5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6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7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8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9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9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6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7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2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8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2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9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3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4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5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6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7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8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9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8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0" y="-152280"/>
            <a:ext cx="9677160" cy="72385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79" name="Picture 5" descr="对称图形3"/>
          <p:cNvPicPr/>
          <p:nvPr/>
        </p:nvPicPr>
        <p:blipFill>
          <a:blip r:embed="rId1"/>
          <a:stretch/>
        </p:blipFill>
        <p:spPr>
          <a:xfrm>
            <a:off x="0" y="-228600"/>
            <a:ext cx="9600840" cy="7279920"/>
          </a:xfrm>
          <a:prstGeom prst="rect">
            <a:avLst/>
          </a:prstGeom>
          <a:ln w="9525">
            <a:noFill/>
          </a:ln>
        </p:spPr>
      </p:pic>
      <p:grpSp>
        <p:nvGrpSpPr>
          <p:cNvPr id="180" name="Group 11"/>
          <p:cNvGrpSpPr/>
          <p:nvPr/>
        </p:nvGrpSpPr>
        <p:grpSpPr>
          <a:xfrm>
            <a:off x="7620120" y="6400800"/>
            <a:ext cx="1218600" cy="380520"/>
            <a:chOff x="7620120" y="6400800"/>
            <a:chExt cx="1218600" cy="380520"/>
          </a:xfrm>
        </p:grpSpPr>
        <p:sp>
          <p:nvSpPr>
            <p:cNvPr id="181" name="AutoShape 12">
              <a:hlinkClick r:id="" action="ppaction://hlinkshowjump?jump=previousslide"/>
            </p:cNvPr>
            <p:cNvSpPr/>
            <p:nvPr/>
          </p:nvSpPr>
          <p:spPr>
            <a:xfrm>
              <a:off x="7620120" y="640080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182" name="AutoShape 13">
              <a:hlinkClick r:id="" action="ppaction://hlinkshowjump?jump=nextslide"/>
            </p:cNvPr>
            <p:cNvSpPr/>
            <p:nvPr/>
          </p:nvSpPr>
          <p:spPr>
            <a:xfrm>
              <a:off x="8153280" y="640080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677160" cy="7543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184" name="Group 26"/>
          <p:cNvGrpSpPr/>
          <p:nvPr/>
        </p:nvGrpSpPr>
        <p:grpSpPr>
          <a:xfrm>
            <a:off x="666720" y="1711440"/>
            <a:ext cx="4349520" cy="3357360"/>
            <a:chOff x="666720" y="1711440"/>
            <a:chExt cx="4349520" cy="3357360"/>
          </a:xfrm>
        </p:grpSpPr>
        <p:sp>
          <p:nvSpPr>
            <p:cNvPr id="185" name="Rectangle 13"/>
            <p:cNvSpPr/>
            <p:nvPr/>
          </p:nvSpPr>
          <p:spPr>
            <a:xfrm>
              <a:off x="666720" y="1711440"/>
              <a:ext cx="4349520" cy="3357360"/>
            </a:xfrm>
            <a:prstGeom prst="rect">
              <a:avLst/>
            </a:prstGeom>
            <a:solidFill>
              <a:srgbClr val="d0ffc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pic>
          <p:nvPicPr>
            <p:cNvPr id="186" name="Picture 4" descr="未命dfg"/>
            <p:cNvPicPr/>
            <p:nvPr/>
          </p:nvPicPr>
          <p:blipFill>
            <a:blip r:embed="rId1"/>
            <a:stretch/>
          </p:blipFill>
          <p:spPr>
            <a:xfrm>
              <a:off x="2668680" y="1747800"/>
              <a:ext cx="2169720" cy="32605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87" name="Picture 5" descr="未命dfg"/>
            <p:cNvPicPr/>
            <p:nvPr/>
          </p:nvPicPr>
          <p:blipFill>
            <a:blip r:embed="rId2"/>
            <a:stretch/>
          </p:blipFill>
          <p:spPr>
            <a:xfrm>
              <a:off x="806400" y="1766880"/>
              <a:ext cx="2126880" cy="32176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88" name="Text Box 6"/>
          <p:cNvSpPr/>
          <p:nvPr/>
        </p:nvSpPr>
        <p:spPr>
          <a:xfrm>
            <a:off x="304920" y="0"/>
            <a:ext cx="8838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下列</a:t>
            </a:r>
            <a:r>
              <a:rPr b="1" lang="en-US" sz="44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(1) (2)</a:t>
            </a:r>
            <a:r>
              <a:rPr b="1" lang="zh-CN" sz="4400" spc="-1" strike="noStrike">
                <a:solidFill>
                  <a:srgbClr val="cf5187"/>
                </a:solidFill>
                <a:latin typeface="Times New Roman"/>
                <a:ea typeface="方正舒体"/>
              </a:rPr>
              <a:t>两个图形有什么区别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men"/>
          <p:cNvPicPr/>
          <p:nvPr/>
        </p:nvPicPr>
        <p:blipFill>
          <a:blip r:embed="rId3"/>
          <a:stretch/>
        </p:blipFill>
        <p:spPr>
          <a:xfrm>
            <a:off x="6019920" y="1295280"/>
            <a:ext cx="2263320" cy="4228920"/>
          </a:xfrm>
          <a:prstGeom prst="rect">
            <a:avLst/>
          </a:prstGeom>
          <a:ln w="9525">
            <a:noFill/>
          </a:ln>
        </p:spPr>
      </p:pic>
      <p:sp>
        <p:nvSpPr>
          <p:cNvPr id="190" name="Text Box 8"/>
          <p:cNvSpPr/>
          <p:nvPr/>
        </p:nvSpPr>
        <p:spPr>
          <a:xfrm>
            <a:off x="2163600" y="819000"/>
            <a:ext cx="1334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629400" y="838080"/>
            <a:ext cx="1096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576440" y="5840280"/>
            <a:ext cx="2437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轴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6046920" y="5859360"/>
            <a:ext cx="2273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轴对称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601640" y="5432400"/>
            <a:ext cx="2568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个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2831760" y="1703160"/>
            <a:ext cx="360" cy="3429000"/>
          </a:xfrm>
          <a:prstGeom prst="line">
            <a:avLst/>
          </a:prstGeom>
          <a:ln w="3810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7175160" y="1185840"/>
            <a:ext cx="1800" cy="4460760"/>
          </a:xfrm>
          <a:prstGeom prst="line">
            <a:avLst/>
          </a:prstGeom>
          <a:ln w="3810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7" name="AutoShape 20">
            <a:hlinkClick r:id="" action="ppaction://hlinkshowjump?jump=previousslide"/>
          </p:cNvPr>
          <p:cNvSpPr/>
          <p:nvPr/>
        </p:nvSpPr>
        <p:spPr>
          <a:xfrm>
            <a:off x="7620120" y="6400800"/>
            <a:ext cx="533160" cy="380520"/>
          </a:xfrm>
          <a:prstGeom prst="actionButtonBackPrevious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98" name="AutoShape 21">
            <a:hlinkClick r:id="" action="ppaction://hlinkshowjump?jump=nextslide"/>
          </p:cNvPr>
          <p:cNvSpPr/>
          <p:nvPr/>
        </p:nvSpPr>
        <p:spPr>
          <a:xfrm>
            <a:off x="8153280" y="6400800"/>
            <a:ext cx="685440" cy="380520"/>
          </a:xfrm>
          <a:prstGeom prst="actionButtonForwardNex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1781280" y="1820880"/>
            <a:ext cx="1983960" cy="93240"/>
            <a:chOff x="1781280" y="1820880"/>
            <a:chExt cx="1983960" cy="93240"/>
          </a:xfrm>
        </p:grpSpPr>
        <p:sp>
          <p:nvSpPr>
            <p:cNvPr id="200" name="Oval 23"/>
            <p:cNvSpPr/>
            <p:nvPr/>
          </p:nvSpPr>
          <p:spPr>
            <a:xfrm>
              <a:off x="1781280" y="1825560"/>
              <a:ext cx="88560" cy="88560"/>
            </a:xfrm>
            <a:prstGeom prst="ellipse">
              <a:avLst/>
            </a:prstGeom>
            <a:solidFill>
              <a:srgbClr val="ff3300"/>
            </a:solidFill>
            <a:ln w="9525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01" name="Oval 24"/>
            <p:cNvSpPr/>
            <p:nvPr/>
          </p:nvSpPr>
          <p:spPr>
            <a:xfrm>
              <a:off x="3676680" y="1820880"/>
              <a:ext cx="88560" cy="88560"/>
            </a:xfrm>
            <a:prstGeom prst="ellipse">
              <a:avLst/>
            </a:prstGeom>
            <a:solidFill>
              <a:srgbClr val="ff3300"/>
            </a:solidFill>
            <a:ln w="9525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202" name="Text Box 28"/>
          <p:cNvSpPr/>
          <p:nvPr/>
        </p:nvSpPr>
        <p:spPr>
          <a:xfrm>
            <a:off x="5923080" y="5438880"/>
            <a:ext cx="2417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0"/>
          <p:cNvSpPr/>
          <p:nvPr/>
        </p:nvSpPr>
        <p:spPr>
          <a:xfrm>
            <a:off x="2784600" y="2530440"/>
            <a:ext cx="126720" cy="124920"/>
          </a:xfrm>
          <a:prstGeom prst="ellipse">
            <a:avLst/>
          </a:prstGeom>
          <a:solidFill>
            <a:srgbClr val="ff3300"/>
          </a:solidFill>
          <a:ln w="9525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7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3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7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0"/>
            <a:ext cx="9677160" cy="7543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01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35080" y="1160640"/>
            <a:ext cx="8757720" cy="124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en-US" sz="2400" spc="-1" strike="noStrike">
                <a:solidFill>
                  <a:srgbClr val="696969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平面上的两个图形，将其中一个图形沿着某一条直线翻折过去，如果它能够与另一个图形重合，那么就说这两个图形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关于这条直线对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 简称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轴对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这条直线叫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对称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00120" y="552600"/>
            <a:ext cx="5186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轴对称和对称点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7620120" y="6477120"/>
            <a:ext cx="1218600" cy="380520"/>
            <a:chOff x="7620120" y="6477120"/>
            <a:chExt cx="1218600" cy="380520"/>
          </a:xfrm>
        </p:grpSpPr>
        <p:sp>
          <p:nvSpPr>
            <p:cNvPr id="208" name="AutoShape 7">
              <a:hlinkClick r:id="" action="ppaction://hlinkshowjump?jump=previousslide"/>
            </p:cNvPr>
            <p:cNvSpPr/>
            <p:nvPr/>
          </p:nvSpPr>
          <p:spPr>
            <a:xfrm>
              <a:off x="7620120" y="6477120"/>
              <a:ext cx="533160" cy="380520"/>
            </a:xfrm>
            <a:prstGeom prst="actionButtonBackPrevious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  <p:sp>
          <p:nvSpPr>
            <p:cNvPr id="209" name="AutoShape 8">
              <a:hlinkClick r:id="" action="ppaction://hlinkshowjump?jump=nextslide"/>
            </p:cNvPr>
            <p:cNvSpPr/>
            <p:nvPr/>
          </p:nvSpPr>
          <p:spPr>
            <a:xfrm>
              <a:off x="8153280" y="6477120"/>
              <a:ext cx="685440" cy="380520"/>
            </a:xfrm>
            <a:prstGeom prst="actionButtonForwardNex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210" name="Text Box 9"/>
          <p:cNvSpPr/>
          <p:nvPr/>
        </p:nvSpPr>
        <p:spPr>
          <a:xfrm>
            <a:off x="614520" y="5873760"/>
            <a:ext cx="10378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98520" y="3852720"/>
            <a:ext cx="854352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2400" spc="-1" strike="noStrike">
                <a:solidFill>
                  <a:srgbClr val="696969"/>
                </a:solidFill>
                <a:latin typeface="Times New Roman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696969"/>
                </a:solidFill>
                <a:latin typeface="Times New Roman"/>
                <a:ea typeface="宋体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两个图形中的对应点（即两图形重合时互相重合的点）叫做关于这条直线的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对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728120" y="5924520"/>
            <a:ext cx="1415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它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3"/>
          <p:cNvGrpSpPr/>
          <p:nvPr/>
        </p:nvGrpSpPr>
        <p:grpSpPr>
          <a:xfrm>
            <a:off x="1590840" y="5938920"/>
            <a:ext cx="7391160" cy="516240"/>
            <a:chOff x="1590840" y="5938920"/>
            <a:chExt cx="7391160" cy="516240"/>
          </a:xfrm>
        </p:grpSpPr>
        <p:sp>
          <p:nvSpPr>
            <p:cNvPr id="214" name="Text Box 5"/>
            <p:cNvSpPr/>
            <p:nvPr/>
          </p:nvSpPr>
          <p:spPr>
            <a:xfrm>
              <a:off x="1590840" y="5938920"/>
              <a:ext cx="63640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果一点在对称轴上，它的对称点就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>
              <a:off x="7816680" y="6400800"/>
              <a:ext cx="116532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7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329</Words>
  <Paragraphs>1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2-10-01T13:52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xinxing</cp:lastModifiedBy>
  <dcterms:modified xsi:type="dcterms:W3CDTF">2017-04-16T16:11:04Z</dcterms:modified>
  <cp:revision>3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