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331-E701-4875-8637-7FD42EF5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9958-4926-4B33-A3F6-F8129637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E65-15EB-453B-B8A8-E6DBC75D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5A0-F579-452D-B48C-F172B09E8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3A02-D444-4610-A188-08095AC3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EC7-3241-467C-869B-86BFC992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310-A489-4225-83C1-6A5BF71A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843E-15B7-4638-A891-5E60A109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EEA-C085-4528-9D8D-1505EC11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D1B-FA8E-408C-B4E2-E9A0E2E1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C92D-96FA-4F4B-92BE-61BFE753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30F0-3EBC-45D2-BFDF-09A9113D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4DF7-1749-47AD-82A1-F227BBB34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326240" y="611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教版小学数学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042920" y="2276640"/>
            <a:ext cx="704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《</a:t>
            </a: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轴对称图形</a:t>
            </a:r>
            <a:r>
              <a:rPr b="1" lang="en-US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》</a:t>
            </a:r>
            <a:endParaRPr b="0" lang="en-US" sz="8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296440" y="61531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1752480"/>
            <a:ext cx="609480" cy="1524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447920" y="2286000"/>
            <a:ext cx="99036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2743200" y="1981080"/>
            <a:ext cx="129528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0" name="Oval 5"/>
          <p:cNvSpPr/>
          <p:nvPr/>
        </p:nvSpPr>
        <p:spPr>
          <a:xfrm>
            <a:off x="4191120" y="1905120"/>
            <a:ext cx="1371600" cy="1371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7772400" y="1981080"/>
            <a:ext cx="1143000" cy="1219320"/>
          </a:xfrm>
          <a:prstGeom prst="rtTriangl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638680" y="2438280"/>
            <a:ext cx="1905120" cy="762120"/>
          </a:xfrm>
          <a:prstGeom prst="triangle">
            <a:avLst>
              <a:gd name="adj" fmla="val 7591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457200" y="4038480"/>
            <a:ext cx="914400" cy="1447920"/>
          </a:xfrm>
          <a:prstGeom prst="flowChartDelay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1600200" y="4114800"/>
            <a:ext cx="685800" cy="13716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2590920" y="4495680"/>
            <a:ext cx="1295280" cy="990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4267080" y="3886200"/>
            <a:ext cx="1067040" cy="1600200"/>
          </a:xfrm>
          <a:prstGeom prst="diamond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5562720" y="4572000"/>
            <a:ext cx="144756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8" name="AutoShape 13"/>
          <p:cNvSpPr/>
          <p:nvPr/>
        </p:nvSpPr>
        <p:spPr>
          <a:xfrm>
            <a:off x="6934320" y="4648320"/>
            <a:ext cx="2057400" cy="838080"/>
          </a:xfrm>
          <a:prstGeom prst="parallelogram">
            <a:avLst>
              <a:gd name="adj" fmla="val 6137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65592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17542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32022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477072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647892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81550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7621560" y="571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6021360" y="571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4573440" y="571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3049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17542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61128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609480" y="533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练一练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2" name="Text Box 27"/>
          <p:cNvSpPr/>
          <p:nvPr/>
        </p:nvSpPr>
        <p:spPr>
          <a:xfrm>
            <a:off x="2666880" y="5335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下列图形中哪些是轴对称图形？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4" name="AutoShape 2"/>
          <p:cNvSpPr/>
          <p:nvPr/>
        </p:nvSpPr>
        <p:spPr>
          <a:xfrm>
            <a:off x="1143000" y="2133720"/>
            <a:ext cx="1828800" cy="8380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lnTo>
                  <a:pt x="5399" y="108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5638680" y="1905120"/>
            <a:ext cx="1219320" cy="1752480"/>
          </a:xfrm>
          <a:prstGeom prst="upDownArrow">
            <a:avLst>
              <a:gd name="adj1" fmla="val 50000"/>
              <a:gd name="adj2" fmla="val 2861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685800" y="4038480"/>
            <a:ext cx="2133720" cy="2057400"/>
          </a:xfrm>
          <a:custGeom>
            <a:avLst/>
            <a:gdLst>
              <a:gd name="textAreaLeft" fmla="*/ 879120 w 2133720"/>
              <a:gd name="textAreaRight" fmla="*/ 1254600 w 2133720"/>
              <a:gd name="textAreaTop" fmla="*/ 847800 h 2057400"/>
              <a:gd name="textAreaBottom" fmla="*/ 12096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3581280" y="4038480"/>
            <a:ext cx="1676520" cy="1600200"/>
          </a:xfrm>
          <a:custGeom>
            <a:avLst/>
            <a:gdLst/>
            <a:ahLst/>
            <a:rect l="l" t="t" r="r" b="b"/>
            <a:pathLst>
              <a:path w="1676400" h="1600200">
                <a:moveTo>
                  <a:pt x="1" y="611220"/>
                </a:moveTo>
                <a:lnTo>
                  <a:pt x="640331" y="611224"/>
                </a:lnTo>
                <a:lnTo>
                  <a:pt x="838200" y="0"/>
                </a:lnTo>
                <a:lnTo>
                  <a:pt x="1036068" y="611224"/>
                </a:lnTo>
                <a:lnTo>
                  <a:pt x="1676398" y="611220"/>
                </a:lnTo>
                <a:lnTo>
                  <a:pt x="1158358" y="988973"/>
                </a:lnTo>
                <a:lnTo>
                  <a:pt x="1356234" y="1600195"/>
                </a:lnTo>
                <a:lnTo>
                  <a:pt x="838200" y="1222435"/>
                </a:lnTo>
                <a:lnTo>
                  <a:pt x="320165" y="1600195"/>
                </a:lnTo>
                <a:lnTo>
                  <a:pt x="518041" y="98897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6553080" y="4267080"/>
            <a:ext cx="1524240" cy="175284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609480" y="533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练一练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2666880" y="53352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指出下列轴对称图形的对称轴，每个轴对称图形的对称轴有几条？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2" name="Line 2"/>
          <p:cNvSpPr/>
          <p:nvPr/>
        </p:nvSpPr>
        <p:spPr>
          <a:xfrm>
            <a:off x="762120" y="2590920"/>
            <a:ext cx="2361960" cy="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5029200" y="2743200"/>
            <a:ext cx="2362320" cy="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4" name="Line 4"/>
          <p:cNvSpPr/>
          <p:nvPr/>
        </p:nvSpPr>
        <p:spPr>
          <a:xfrm flipV="1">
            <a:off x="6246720" y="1598400"/>
            <a:ext cx="1800" cy="236196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1143000" y="4419720"/>
            <a:ext cx="1143000" cy="121896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1752480" y="3657600"/>
            <a:ext cx="0" cy="297180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4419720" y="3657600"/>
            <a:ext cx="0" cy="213372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7315200" y="3886200"/>
            <a:ext cx="0" cy="297180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9" name="Line 9"/>
          <p:cNvSpPr/>
          <p:nvPr/>
        </p:nvSpPr>
        <p:spPr>
          <a:xfrm flipH="1">
            <a:off x="5881320" y="4494240"/>
            <a:ext cx="2635560" cy="1373040"/>
          </a:xfrm>
          <a:prstGeom prst="line">
            <a:avLst/>
          </a:prstGeom>
          <a:ln cap="rnd" w="7632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1143000" y="2133720"/>
            <a:ext cx="1828800" cy="8380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lnTo>
                  <a:pt x="5399" y="108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5638680" y="1905120"/>
            <a:ext cx="1219320" cy="1752480"/>
          </a:xfrm>
          <a:prstGeom prst="upDownArrow">
            <a:avLst>
              <a:gd name="adj1" fmla="val 50000"/>
              <a:gd name="adj2" fmla="val 28612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685800" y="4038480"/>
            <a:ext cx="2133720" cy="2057400"/>
          </a:xfrm>
          <a:custGeom>
            <a:avLst/>
            <a:gdLst>
              <a:gd name="textAreaLeft" fmla="*/ 879120 w 2133720"/>
              <a:gd name="textAreaRight" fmla="*/ 1254600 w 2133720"/>
              <a:gd name="textAreaTop" fmla="*/ 847800 h 2057400"/>
              <a:gd name="textAreaBottom" fmla="*/ 12096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3" name="AutoShape 13"/>
          <p:cNvSpPr/>
          <p:nvPr/>
        </p:nvSpPr>
        <p:spPr>
          <a:xfrm>
            <a:off x="3581280" y="4038480"/>
            <a:ext cx="1676520" cy="1600200"/>
          </a:xfrm>
          <a:custGeom>
            <a:avLst/>
            <a:gdLst/>
            <a:ahLst/>
            <a:rect l="l" t="t" r="r" b="b"/>
            <a:pathLst>
              <a:path w="1676400" h="1600200">
                <a:moveTo>
                  <a:pt x="1" y="611220"/>
                </a:moveTo>
                <a:lnTo>
                  <a:pt x="640331" y="611224"/>
                </a:lnTo>
                <a:lnTo>
                  <a:pt x="838200" y="0"/>
                </a:lnTo>
                <a:lnTo>
                  <a:pt x="1036068" y="611224"/>
                </a:lnTo>
                <a:lnTo>
                  <a:pt x="1676398" y="611220"/>
                </a:lnTo>
                <a:lnTo>
                  <a:pt x="1158358" y="988973"/>
                </a:lnTo>
                <a:lnTo>
                  <a:pt x="1356234" y="1600195"/>
                </a:lnTo>
                <a:lnTo>
                  <a:pt x="838200" y="1222435"/>
                </a:lnTo>
                <a:lnTo>
                  <a:pt x="320165" y="1600195"/>
                </a:lnTo>
                <a:lnTo>
                  <a:pt x="518041" y="98897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4" name="AutoShape 14"/>
          <p:cNvSpPr/>
          <p:nvPr/>
        </p:nvSpPr>
        <p:spPr>
          <a:xfrm>
            <a:off x="6553080" y="4267080"/>
            <a:ext cx="1524240" cy="175284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609480" y="533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练一练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2666880" y="53352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指出下列轴对称图形的对称轴，每个轴对称图形的对称轴有几条？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609480" y="533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练一练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5800" y="16002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你生活周围有哪些物体的面是轴对称图形？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189080" y="5778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202200" y="5335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954680" y="5335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478920" y="5335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7697880" y="6094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9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21120" y="35812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125880" y="35812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9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954680" y="36576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9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6478920" y="36259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9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7774200" y="36576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9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1600200" y="609480"/>
            <a:ext cx="0" cy="16765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2" name="Line 14"/>
          <p:cNvSpPr/>
          <p:nvPr/>
        </p:nvSpPr>
        <p:spPr>
          <a:xfrm flipH="1">
            <a:off x="6021000" y="4417920"/>
            <a:ext cx="1676520" cy="32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3" name="Line 15"/>
          <p:cNvSpPr/>
          <p:nvPr/>
        </p:nvSpPr>
        <p:spPr>
          <a:xfrm flipH="1">
            <a:off x="684360" y="1370160"/>
            <a:ext cx="1676160" cy="1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6858000" y="3581280"/>
            <a:ext cx="0" cy="16765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5" name="文本框 1"/>
          <p:cNvSpPr/>
          <p:nvPr/>
        </p:nvSpPr>
        <p:spPr>
          <a:xfrm>
            <a:off x="474840" y="5257800"/>
            <a:ext cx="62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更多免费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PPT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模板尽在：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eeppt.com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33520" y="609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小结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09480" y="16765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你学到了什么？还有什么疑问？还想了解什么？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85800" y="2819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3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1371600" y="182880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敬请指导！</a:t>
            </a:r>
            <a:endParaRPr b="0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BCB1-7948-4513-8E94-49FC99BA45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852200" y="1752480"/>
            <a:ext cx="126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2" action="ppaction://hlinksldjump"/>
              </a:rPr>
              <a:t>学习任务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华文行楷"/>
                <a:hlinkClick r:id="rId3" action="ppaction://hlinksldjump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782720" y="3252960"/>
            <a:ext cx="1399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4" action="ppaction://hlinksldjump"/>
              </a:rPr>
              <a:t>资源要求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5" action="ppaction://hlinksldjump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782720" y="2490840"/>
            <a:ext cx="1400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6" action="ppaction://hlinksldjump"/>
              </a:rPr>
              <a:t>课前知识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852200" y="4038480"/>
            <a:ext cx="1261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7" action="ppaction://hlinksldjump"/>
              </a:rPr>
              <a:t>课的准备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华文行楷"/>
                <a:hlinkClick r:id="rId8" action="ppaction://hlinksldjump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782720" y="4776840"/>
            <a:ext cx="1399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9" action="ppaction://hlinksldjump"/>
              </a:rPr>
              <a:t>正课学习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10" action="ppaction://hlinksldjump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609480" y="15238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学生将：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构建对称的空间概念，理解轴对称图形、对称轴的意义；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学会判断一个图形是否是轴对称图形并能找出它的对称轴；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操作并观察一个物体在对称轴周围移动的情况，知道对称轴左右的距离相同。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2" name="Picture 3" descr="26.gif (4713 bytes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67480" y="5334120"/>
            <a:ext cx="857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609480" y="15238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学生能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﹕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</a:t>
            </a:r>
            <a:r>
              <a:rPr b="1" lang="zh-CN" sz="3200" spc="-1" strike="noStrike">
                <a:solidFill>
                  <a:srgbClr val="3333cc"/>
                </a:solidFill>
                <a:latin typeface="Symbol"/>
                <a:ea typeface="Symbol"/>
              </a:rPr>
              <a:t>知道前、后、左、右的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</a:rPr>
              <a:t>概念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</a:t>
            </a:r>
            <a:r>
              <a:rPr b="1" lang="zh-CN" sz="3200" spc="-1" strike="noStrike">
                <a:solidFill>
                  <a:srgbClr val="3333cc"/>
                </a:solidFill>
                <a:latin typeface="Symbol"/>
                <a:ea typeface="Symbol"/>
              </a:rPr>
              <a:t>懂得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</a:t>
            </a:r>
            <a:r>
              <a:rPr b="1" lang="zh-CN" sz="3200" spc="-1" strike="noStrike">
                <a:solidFill>
                  <a:srgbClr val="3333cc"/>
                </a:solidFill>
                <a:latin typeface="Symbol"/>
                <a:ea typeface="Symbol"/>
              </a:rPr>
              <a:t>度、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</a:t>
            </a:r>
            <a:r>
              <a:rPr b="1" lang="zh-CN" sz="3200" spc="-1" strike="noStrike">
                <a:solidFill>
                  <a:srgbClr val="3333cc"/>
                </a:solidFill>
                <a:latin typeface="Symbol"/>
                <a:ea typeface="Symbol"/>
              </a:rPr>
              <a:t>度等角的度数的方位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Symbol"/>
                <a:ea typeface="Symbol"/>
              </a:rPr>
              <a:t>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r>
              <a:rPr b="1" lang="zh-CN" sz="3200" spc="-1" strike="noStrike">
                <a:solidFill>
                  <a:srgbClr val="3333cc"/>
                </a:solidFill>
                <a:latin typeface="Symbol"/>
                <a:ea typeface="Symbol"/>
              </a:rPr>
              <a:t>能熟练地操控计算机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5" name="Picture 3" descr="26.gif (4713 bytes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67480" y="5105520"/>
            <a:ext cx="857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609480" y="15238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学校已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校园网络系统，能提供给每个学生一台计算机，最好能以小组围坐的形式便于学生小组学习和讨论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每个学生有一张练习纸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8" name="Picture 3" descr="26.gif (4713 bytes)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67480" y="5105520"/>
            <a:ext cx="857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2"/>
          <p:cNvSpPr/>
          <p:nvPr/>
        </p:nvSpPr>
        <p:spPr>
          <a:xfrm>
            <a:off x="3059280" y="2492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914400" y="1981080"/>
            <a:ext cx="1387440" cy="146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6934320" y="2133720"/>
            <a:ext cx="1295280" cy="11779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4"/>
          <p:cNvSpPr/>
          <p:nvPr/>
        </p:nvSpPr>
        <p:spPr>
          <a:xfrm>
            <a:off x="2743200" y="2133720"/>
            <a:ext cx="1295280" cy="12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4"/>
          <a:stretch/>
        </p:blipFill>
        <p:spPr>
          <a:xfrm>
            <a:off x="5181480" y="3962520"/>
            <a:ext cx="2133720" cy="1601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5"/>
          <a:stretch/>
        </p:blipFill>
        <p:spPr>
          <a:xfrm>
            <a:off x="1523880" y="4191120"/>
            <a:ext cx="2463840" cy="135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BS00975_"/>
          <p:cNvPicPr/>
          <p:nvPr/>
        </p:nvPicPr>
        <p:blipFill>
          <a:blip r:embed="rId6"/>
          <a:stretch/>
        </p:blipFill>
        <p:spPr>
          <a:xfrm>
            <a:off x="4495680" y="2057400"/>
            <a:ext cx="2057400" cy="1268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609480" y="533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看一看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2666880" y="5335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下列物体有什么特点？</a:t>
            </a:r>
            <a:endParaRPr b="0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609480" y="533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说一说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990720" y="167652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小组内交流自己的发现，用自己的话描述一下这些图形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304920" y="1676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如果一个图形沿着一条线对折，两侧的图形能够完全重合，这样的图形就是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轴对称图形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0880" y="15238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折痕所在的直线就是轴对称图形的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对称轴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2T00:41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4:58Z</dcterms:modified>
  <cp:revision>5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