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  <p:custShowLst>
    <p:custShow name="自定义放映 2" id="0">
      <p:sldLst>
        <p:sld r:id="rId25"/>
      </p:sldLst>
    </p:custShow>
    <p:custShow name="自定义放映 3" id="1">
      <p:sldLst>
        <p:sld r:id="rId26"/>
      </p:sldLst>
    </p:custShow>
    <p:custShow name="自定义放映 4" id="2">
      <p:sldLst>
        <p:sld r:id="rId27"/>
      </p:sldLst>
    </p:custShow>
    <p:custShow name="自定义放映 5" id="3">
      <p:sldLst>
        <p:sld r:id="rId28"/>
      </p:sldLst>
    </p:custShow>
    <p:custShow name="自定义放映 6" id="4">
      <p:sldLst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8424-0BE3-41B3-AEB9-7292F917C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AAD-31DD-42FD-AF51-D3A563AE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4F8-94F2-4048-A2C2-485102FD2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379-983B-4029-8DDE-0DD12443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0D2-CC56-4EE1-99DD-59DE483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D3EE3-D99C-4964-B074-18C676DE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FAB5E-E15A-45EB-BAD4-A2846E3C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B98D5-171E-4143-91AB-A1B974A0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0BA49-848A-478C-9831-634C262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4B507-11A1-486E-8FEE-F58A79B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7850-C5B4-4580-B76A-730A88FD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71822-04C1-4BBC-A7D4-689485F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1E997-BB0E-4D41-8FF2-487B84F7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913DA-72A4-49D6-BFB1-3CF4B13C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3C7DD-61FF-4B8E-97B8-72077378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1B4-DD51-4F87-ACE9-E1538759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99257-C101-4ACF-8C7B-B5BEC57E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4F8C2-D42D-4EC4-8901-D7AA19FD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D3EEF-3388-4664-AA35-2DA5456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DE83D-0672-4CAF-A494-FDAE6066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597B1-023D-4E13-99A4-208AA11E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17CF4-A75F-4BC8-B7BF-EB119198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9D45C-9B9D-4F93-B6C1-C01BC4D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62CD2-12B5-43DA-826E-ECE9D2A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724F4-FFAF-4232-8CC8-FD53D7DC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4B319-645D-48BA-A0E5-7FCB92DF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250-E651-43A8-AB8B-2EC7DB37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3423E-0836-434B-B87D-0CE7B914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1E6F2-1D65-4EC3-BD20-6C60329E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2C276-CA03-422F-A6B7-D60BBF3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DE58E-F750-447F-97CF-A7690124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64A6A-6E98-4C02-880C-001C3A8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2013C-A386-4105-97BF-B13580E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12E7F-B123-4862-AF00-59E26804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0569E-82DC-40E9-9F4C-A303B86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36967-B997-40BE-BE4F-88777A14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1AD38-9C26-406C-91D1-AF74648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70E2-DF2B-4978-8883-7586E814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9F396-A81D-4C8C-A009-0842F0FD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9681C-7B99-4DB2-8631-C9D3A67A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E84D-7C41-490F-B20F-D678CBD4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E3F1D-BCD2-41DA-9ED8-ECF45705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49758-9F52-4429-BAFD-E8D042B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81AA7-587E-441C-BDF0-DBC01935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A55AD-7A7B-4314-B8EA-137929A7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96580-92D2-4078-AA9B-0D35546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C447-64E7-449F-AD95-31CF0B6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9FD73-6F02-4EE7-B1C8-EE18929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01C6-2044-4CC6-9DDD-66D678A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A906-C78D-4F02-9735-39D039D6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F4B86-89A6-4371-B6A9-3CC8EC8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251F8-FD7D-4B06-80FA-7795767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A715-6341-4466-9C5E-3B3BD9A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6FB6F-465B-401C-9E13-62D48F15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CB396-32C4-4367-A4AF-81230DD6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550A9-898C-4A3A-937D-4540551D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5B843-682C-420E-AB2F-A9B5DED8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78B3F-A119-4F89-A285-6120F7A5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70397-AA48-48EA-BA80-D625664D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356F-BE6D-4C3B-AE80-8D6D94FF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E4AC4-A64D-44CD-ADBB-CF2C18A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FA82C-2AF4-4ABA-9A77-D865758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0C1CE-29C1-422A-946E-115ACF5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7E3960-6A92-4B46-89DB-29AFE24D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B401A-DC13-446D-AE36-0743199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62FE3-908D-423A-A1B4-DF31D129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67C14-33C8-48C8-8E68-7EA1B8F5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532967-B84F-45CD-B7C1-11BD6256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A1547-30BE-467A-B632-7D891DB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09C3B-3A60-4AF0-862D-49FAA1AE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B6EF-F372-4277-92B9-922BF12B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2AA83-9D1A-4578-88E7-B9267484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661CD-6E20-4390-BE8A-83FE9E3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1A266-04E5-4F7D-9BA9-3ED53DE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BD0E6-CD25-4169-9690-29C98F0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7B534-1B4F-428F-8911-0E48666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E54A3-8B58-4876-B884-D745B66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47900-AAAF-486D-A588-27FA7D3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B8335-6D03-45C8-AA73-8C6B2211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62EE8-DECC-4748-929E-8FCDEA1A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F022-53F1-471A-86FA-58C3AF50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99DE-70C6-4541-9B3A-8C5D1B3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1F2E-BAF7-4175-8617-9A94FD97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29A-6D56-442E-A3DD-F6EA2D46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29E1-FD37-4C17-8078-D6CBDCF0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D48C-FDC1-45A9-88C3-8C58AB0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F376-1971-495A-A0A1-9DE4380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D83A-CA5F-44D2-A672-70C54EAC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8282-49F6-46DB-AFE9-6CEF6567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6B2B-7E77-47A0-9F26-6AE7FAA9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C0387-1AAC-41A8-93A9-3DC1423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CA83-09DA-46BB-8C7B-F095FE4A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EA57-76FC-4550-BDFF-7357477D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47AE-5A74-44B5-AEA1-D0E08CF2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B1C-1A2A-4316-8D98-01154B10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73D7-0DCA-408A-BA4F-EE6778CC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A628-C1C0-44A3-947D-9846430D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D5510-83FA-45E2-9957-E2C90A2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26BC8-0F67-426A-94BF-A600A079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720F-6523-4676-885A-B6C83606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C917-D436-42A0-81DA-4E18E583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1349-F714-4F22-A511-E31FA237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26A81-538A-4A9B-A9F0-81DD2D2E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94E2-CF44-498E-B160-0E9B8EF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2887-282C-4850-A73B-EB6CB300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A59-7EC5-4B76-BA1D-9C0929B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F992-1FE0-4F20-805B-0C20C500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087D-6CFC-43A6-82A3-7CA5B18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C2C4-DDEF-457A-9408-DAE7C2E2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3F83C-6AC2-44F9-B2C8-F4FB873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DC62-328F-4B31-9CB3-86F989CA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A370C-55BD-4CF3-9C08-8591D3A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32E4B-CE5E-4378-AA6A-3E64BA2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AB4F-F9B6-4A13-9633-556835B2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D7BF-94B6-45D1-81CA-4D62B498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5134-011F-4704-B6CD-7C72558C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9DE-0046-43BE-A962-1D60B297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559FE-3687-45FF-8A83-BE27269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CA002-256D-4374-AAD1-0C6ED392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114D-579C-4F36-B579-516F33BF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5E65B-D0CC-428D-B375-31D6E07E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96B2-F4EC-4271-BE55-9CAC2D1D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5C5C6-9493-43C1-9571-EC87875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BD50-1E82-47D3-A130-8E6CB9EB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6F853-0149-4726-839D-AF1D0F0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9CFDA-5A70-410B-B292-4B8E79E5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C3E46-F1E7-4D31-8EA4-59BF792B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EC8-AF79-4F12-A007-342F799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FE740-5371-469F-8432-3D5E1163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F1F37-2995-4B97-AD49-D41869B2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6DD8-9D61-43C1-8240-2CCAC084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DE71-0A17-43B9-BED2-E5C3C18F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9B11-6AC3-455B-800A-99E6593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7F68-533D-43BB-9E84-BF6CC694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3ED8-E89E-44F5-9389-4EEF1B20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1D657-7869-4DF2-B5ED-4D00C8B6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954FB-EDC9-467E-AE3C-ABB9B958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BA715-E4C4-428E-8337-48916ED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EB9-BD27-4758-9D4B-B986785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76AD0-4124-43BE-9152-B29F198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6048-5866-4A0B-955C-A7180B8B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7DA7E-0FF8-4A12-8B7B-A1501954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A45F-86B3-4029-BF78-168E563A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760AB-212E-45E8-BAFF-34D1C131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6537-C8A6-4763-9E98-A04F4F45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4BFD-9F90-4653-AED2-D69DF8CF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101E6-5C38-4743-BCA8-544C88C2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DCA8-6A4B-4516-A5BC-72A225E8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B7A8D-EBE0-434D-B988-A4E7198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36C-15D3-4829-B89E-67024F3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4947-944A-4674-A0E0-F21D826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82DBD-9DCA-4E79-A228-A8D3837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71EE-8C7F-4714-BC4D-6E8DE414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82D0-FCBF-4185-9DFA-EEF90444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A5C53-DB78-4499-8389-A2E8BD4D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F47D5-DE80-4F1C-822E-3F6D0DF4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700B-89A3-4866-B252-18AD03FC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113D-5BA5-4521-BF69-F9312B3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DCE36-BB0C-489D-A867-671806D8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532B-B0DF-4195-AC8D-64F94F3F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75B-CC68-406F-832B-1B00E87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1436-CDC9-418D-B33A-A07924EA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A365-486D-4089-A3FA-1179427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B7D77-974B-460F-A63B-D895B9B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DE7CB-D8E4-40F4-90AB-A1B7CC2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FD85A-956A-4A22-A098-417336C9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9149-051D-4B98-8889-7628711A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076B-330F-459E-9E93-4AABE93B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6A63E-3E76-43A0-99F4-B418E625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4B234-20AF-43E4-A5E2-C794009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12EA2-03A4-4CEB-9B60-6AE32EA1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F91-5796-4DE9-9933-28268B9A7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1C8-6397-45D1-B093-D32EEEAAA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346-11BE-45AE-BC54-AFF115A7D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5B52-138B-417F-BC26-A0DC1CA6D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E49-DC21-4A1B-9873-E5151A711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CF7-C65A-42AD-B743-4F06D420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F8A-BC1D-49F1-AA61-6A430566B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AF6-4C1E-4056-8ECF-5B863421E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6064-E486-4A61-B7B8-C44ABA63C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2E63-4034-42F5-ABC1-5E9D762CE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164E-C8C2-4F45-9DC7-EC2D2216B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850D-2F05-4D76-ACD7-311AB5FE8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8BFB-AA9A-4559-A9B9-2F9921AB1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885-AA91-4990-83EE-C420347A3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bobo精美壁纸第一辑"/>
          <p:cNvPicPr/>
          <p:nvPr/>
        </p:nvPicPr>
        <p:blipFill>
          <a:blip r:embed="rId1"/>
          <a:stretch/>
        </p:blipFill>
        <p:spPr>
          <a:xfrm>
            <a:off x="1704960" y="3213000"/>
            <a:ext cx="5626080" cy="2840040"/>
          </a:xfrm>
          <a:prstGeom prst="rect">
            <a:avLst/>
          </a:prstGeom>
          <a:ln w="0">
            <a:noFill/>
          </a:ln>
        </p:spPr>
      </p:pic>
      <p:sp>
        <p:nvSpPr>
          <p:cNvPr id="582" name="WordArt 3"/>
          <p:cNvSpPr txBox="1"/>
          <p:nvPr/>
        </p:nvSpPr>
        <p:spPr>
          <a:xfrm>
            <a:off x="1731960" y="1844640"/>
            <a:ext cx="57927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做个“快乐鸟”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2613960" y="7714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教新课标二年级品德与社会上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"/>
          <p:cNvSpPr/>
          <p:nvPr/>
        </p:nvSpPr>
        <p:spPr>
          <a:xfrm>
            <a:off x="2155320" y="6197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陶陶.AVI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105080" cy="352908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4716360" y="2421000"/>
            <a:ext cx="396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陶陶：我最近有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烦恼，主要是我的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学老是给我起外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什么死桃子，烂桃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呀，我非常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WordArt 10"/>
          <p:cNvSpPr txBox="1"/>
          <p:nvPr/>
        </p:nvSpPr>
        <p:spPr>
          <a:xfrm>
            <a:off x="539640" y="1268280"/>
            <a:ext cx="799164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朋友，你能帮帮淘淘吗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3" name="AutoShape 17">
            <a:hlinkClick r:id="" action="ppaction://hlinkshowjump?jump=nextslide"/>
          </p:cNvPr>
          <p:cNvSpPr/>
          <p:nvPr/>
        </p:nvSpPr>
        <p:spPr>
          <a:xfrm>
            <a:off x="7236000" y="6093000"/>
            <a:ext cx="1908000" cy="765000"/>
          </a:xfrm>
          <a:custGeom>
            <a:avLst/>
            <a:gdLst>
              <a:gd name="textAreaLeft" fmla="*/ 49320 w 1908000"/>
              <a:gd name="textAreaRight" fmla="*/ 1858680 w 1908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53858" h="21600">
                <a:moveTo>
                  <a:pt x="0" y="0"/>
                </a:moveTo>
                <a:lnTo>
                  <a:pt x="53858" y="0"/>
                </a:lnTo>
                <a:lnTo>
                  <a:pt x="53858" y="21600"/>
                </a:lnTo>
                <a:lnTo>
                  <a:pt x="0" y="21600"/>
                </a:lnTo>
                <a:close/>
              </a:path>
              <a:path fill="lightenLess" w="53858" h="21600">
                <a:moveTo>
                  <a:pt x="0" y="0"/>
                </a:moveTo>
                <a:lnTo>
                  <a:pt x="53858" y="0"/>
                </a:lnTo>
                <a:lnTo>
                  <a:pt x="52458" y="1400"/>
                </a:lnTo>
                <a:lnTo>
                  <a:pt x="1400" y="1400"/>
                </a:lnTo>
                <a:close/>
              </a:path>
              <a:path fill="darken" w="53858" h="21600">
                <a:moveTo>
                  <a:pt x="53858" y="0"/>
                </a:moveTo>
                <a:lnTo>
                  <a:pt x="53858" y="21600"/>
                </a:lnTo>
                <a:lnTo>
                  <a:pt x="52458" y="20200"/>
                </a:lnTo>
                <a:lnTo>
                  <a:pt x="52458" y="1400"/>
                </a:lnTo>
                <a:close/>
              </a:path>
              <a:path fill="darkenLess" w="53858" h="21600">
                <a:moveTo>
                  <a:pt x="53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58" y="20200"/>
                </a:lnTo>
                <a:close/>
              </a:path>
              <a:path fill="lighten" w="53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58" h="21600">
                <a:moveTo>
                  <a:pt x="19922" y="3794"/>
                </a:moveTo>
                <a:lnTo>
                  <a:pt x="33935" y="10800"/>
                </a:lnTo>
                <a:lnTo>
                  <a:pt x="1992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8"/>
          <p:cNvSpPr/>
          <p:nvPr/>
        </p:nvSpPr>
        <p:spPr>
          <a:xfrm>
            <a:off x="684360" y="220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冰冰：我生病了，爸爸妈妈都上班去了，只有我一个人在家里，好烦闷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彬彬.AVI" descr=""/>
          <p:cNvPicPr/>
          <p:nvPr/>
        </p:nvPicPr>
        <p:blipFill>
          <a:blip r:embed="rId1"/>
          <a:stretch/>
        </p:blipFill>
        <p:spPr>
          <a:xfrm>
            <a:off x="3924360" y="2349360"/>
            <a:ext cx="4464000" cy="3672000"/>
          </a:xfrm>
          <a:prstGeom prst="rect">
            <a:avLst/>
          </a:prstGeom>
          <a:ln w="0">
            <a:noFill/>
          </a:ln>
        </p:spPr>
      </p:pic>
      <p:sp>
        <p:nvSpPr>
          <p:cNvPr id="616" name="WordArt 33"/>
          <p:cNvSpPr txBox="1"/>
          <p:nvPr/>
        </p:nvSpPr>
        <p:spPr>
          <a:xfrm>
            <a:off x="755640" y="549360"/>
            <a:ext cx="76327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谁能帮帮冰冰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7" name="AutoShape 34">
            <a:hlinkClick r:id="" action="ppaction://hlinkshowjump?jump=previousslide"/>
          </p:cNvPr>
          <p:cNvSpPr/>
          <p:nvPr/>
        </p:nvSpPr>
        <p:spPr>
          <a:xfrm>
            <a:off x="7667640" y="609300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10800"/>
                </a:moveTo>
                <a:lnTo>
                  <a:pt x="24991" y="3794"/>
                </a:lnTo>
                <a:lnTo>
                  <a:pt x="2499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7"/>
          <p:cNvSpPr/>
          <p:nvPr/>
        </p:nvSpPr>
        <p:spPr>
          <a:xfrm>
            <a:off x="4629240" y="5516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WordArt 8"/>
          <p:cNvSpPr txBox="1"/>
          <p:nvPr/>
        </p:nvSpPr>
        <p:spPr>
          <a:xfrm rot="5400000">
            <a:off x="-215640" y="2097000"/>
            <a:ext cx="18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宁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1116000" y="1628640"/>
            <a:ext cx="22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这次考试才考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，叫我怎么和妈妈说呢？妈妈肯定要骂死我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20"/>
          <p:cNvSpPr txBox="1"/>
          <p:nvPr/>
        </p:nvSpPr>
        <p:spPr>
          <a:xfrm>
            <a:off x="179280" y="345960"/>
            <a:ext cx="889344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谁来帮帮宁宁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622" name="宁宁.AVI" descr=""/>
          <p:cNvPicPr/>
          <p:nvPr/>
        </p:nvPicPr>
        <p:blipFill>
          <a:blip r:embed="rId1"/>
          <a:stretch/>
        </p:blipFill>
        <p:spPr>
          <a:xfrm>
            <a:off x="4140360" y="2104920"/>
            <a:ext cx="4464000" cy="4203720"/>
          </a:xfrm>
          <a:prstGeom prst="rect">
            <a:avLst/>
          </a:prstGeom>
          <a:ln w="0">
            <a:noFill/>
          </a:ln>
        </p:spPr>
      </p:pic>
      <p:sp>
        <p:nvSpPr>
          <p:cNvPr id="623" name="AutoShape 26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xinsrc_672391e6eb4847778098e65729386967_d071422"/>
          <p:cNvPicPr/>
          <p:nvPr/>
        </p:nvPicPr>
        <p:blipFill>
          <a:blip r:embed="rId1"/>
          <a:stretch/>
        </p:blipFill>
        <p:spPr>
          <a:xfrm>
            <a:off x="0" y="0"/>
            <a:ext cx="5003640" cy="3213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35791267029054680"/>
          <p:cNvPicPr/>
          <p:nvPr/>
        </p:nvPicPr>
        <p:blipFill>
          <a:blip r:embed="rId2"/>
          <a:stretch/>
        </p:blipFill>
        <p:spPr>
          <a:xfrm>
            <a:off x="5003640" y="0"/>
            <a:ext cx="4762800" cy="321300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8"/>
          <p:cNvGrpSpPr/>
          <p:nvPr/>
        </p:nvGrpSpPr>
        <p:grpSpPr>
          <a:xfrm>
            <a:off x="0" y="3213000"/>
            <a:ext cx="5003280" cy="4167000"/>
            <a:chOff x="0" y="3213000"/>
            <a:chExt cx="5003280" cy="4167000"/>
          </a:xfrm>
        </p:grpSpPr>
        <p:pic>
          <p:nvPicPr>
            <p:cNvPr id="629" name="Picture 9" descr="助人为乐"/>
            <p:cNvPicPr/>
            <p:nvPr/>
          </p:nvPicPr>
          <p:blipFill>
            <a:blip r:embed="rId3"/>
            <a:stretch/>
          </p:blipFill>
          <p:spPr>
            <a:xfrm>
              <a:off x="0" y="3213000"/>
              <a:ext cx="5003280" cy="364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Text Box 10"/>
            <p:cNvSpPr/>
            <p:nvPr/>
          </p:nvSpPr>
          <p:spPr>
            <a:xfrm>
              <a:off x="695160" y="6863400"/>
              <a:ext cx="184320" cy="5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1" name="Picture 14" descr="2009470231435801"/>
          <p:cNvPicPr/>
          <p:nvPr/>
        </p:nvPicPr>
        <p:blipFill>
          <a:blip r:embed="rId4"/>
          <a:stretch/>
        </p:blipFill>
        <p:spPr>
          <a:xfrm>
            <a:off x="5003640" y="3068640"/>
            <a:ext cx="475308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6"/>
          <p:cNvSpPr/>
          <p:nvPr/>
        </p:nvSpPr>
        <p:spPr>
          <a:xfrm>
            <a:off x="1403280" y="105264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 flipH="1">
            <a:off x="939240" y="833400"/>
            <a:ext cx="492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9"/>
          <p:cNvSpPr txBox="1"/>
          <p:nvPr/>
        </p:nvSpPr>
        <p:spPr>
          <a:xfrm rot="5400000">
            <a:off x="4389840" y="2599560"/>
            <a:ext cx="568944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快乐的小鸟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5" name="AutoShape 21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1187280" cy="907920"/>
          </a:xfrm>
          <a:custGeom>
            <a:avLst/>
            <a:gdLst>
              <a:gd name="textAreaLeft" fmla="*/ 58680 w 1187280"/>
              <a:gd name="textAreaRight" fmla="*/ 1128600 w 118728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8244" h="21600">
                <a:moveTo>
                  <a:pt x="0" y="0"/>
                </a:moveTo>
                <a:lnTo>
                  <a:pt x="28244" y="0"/>
                </a:lnTo>
                <a:lnTo>
                  <a:pt x="28244" y="21600"/>
                </a:lnTo>
                <a:lnTo>
                  <a:pt x="0" y="21600"/>
                </a:lnTo>
                <a:close/>
              </a:path>
              <a:path fill="lightenLess" w="28244" h="21600">
                <a:moveTo>
                  <a:pt x="0" y="0"/>
                </a:moveTo>
                <a:lnTo>
                  <a:pt x="28244" y="0"/>
                </a:lnTo>
                <a:lnTo>
                  <a:pt x="26844" y="1400"/>
                </a:lnTo>
                <a:lnTo>
                  <a:pt x="1400" y="1400"/>
                </a:lnTo>
                <a:close/>
              </a:path>
              <a:path fill="darken" w="28244" h="21600">
                <a:moveTo>
                  <a:pt x="28244" y="0"/>
                </a:moveTo>
                <a:lnTo>
                  <a:pt x="28244" y="21600"/>
                </a:lnTo>
                <a:lnTo>
                  <a:pt x="26844" y="20200"/>
                </a:lnTo>
                <a:lnTo>
                  <a:pt x="26844" y="1400"/>
                </a:lnTo>
                <a:close/>
              </a:path>
              <a:path fill="darkenLess" w="28244" h="21600">
                <a:moveTo>
                  <a:pt x="28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4" y="20200"/>
                </a:lnTo>
                <a:close/>
              </a:path>
              <a:path fill="lighten" w="28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4" h="21600">
                <a:moveTo>
                  <a:pt x="7115" y="10800"/>
                </a:moveTo>
                <a:lnTo>
                  <a:pt x="21128" y="3794"/>
                </a:lnTo>
                <a:lnTo>
                  <a:pt x="211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1116000" y="662040"/>
            <a:ext cx="525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森林里的小鸟  叽叽喳喳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摆摆头呀    摇摇尾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边唱边跳真逍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从早到晚无忧无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总是爱欢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森林里的小鸟  叽叽喳喳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摆摆头呀  摇摇尾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边唱边跳真逍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从早到晚无忧无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简魏碑"/>
                <a:ea typeface="微软简魏碑"/>
              </a:rPr>
              <a:t>总是爱欢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DB42-D530-4A45-A5AB-C32233252B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SANY0470"/>
          <p:cNvPicPr/>
          <p:nvPr/>
        </p:nvPicPr>
        <p:blipFill>
          <a:blip r:embed="rId1"/>
          <a:stretch/>
        </p:blipFill>
        <p:spPr>
          <a:xfrm>
            <a:off x="-3421080" y="-2548080"/>
            <a:ext cx="15901920" cy="11927160"/>
          </a:xfrm>
          <a:prstGeom prst="rect">
            <a:avLst/>
          </a:prstGeom>
          <a:ln w="0">
            <a:noFill/>
          </a:ln>
        </p:spPr>
      </p:pic>
      <p:pic>
        <p:nvPicPr>
          <p:cNvPr id="588" name="201103280945538706_clip(1).mp3" descr=""/>
          <p:cNvPicPr/>
          <p:nvPr/>
        </p:nvPicPr>
        <p:blipFill>
          <a:blip r:embed="rId2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SANY0355"/>
          <p:cNvPicPr/>
          <p:nvPr/>
        </p:nvPicPr>
        <p:blipFill>
          <a:blip r:embed="rId1"/>
          <a:stretch/>
        </p:blipFill>
        <p:spPr>
          <a:xfrm>
            <a:off x="-3378240" y="-2533680"/>
            <a:ext cx="15901920" cy="11926800"/>
          </a:xfrm>
          <a:prstGeom prst="rect">
            <a:avLst/>
          </a:prstGeom>
          <a:ln w="0">
            <a:noFill/>
          </a:ln>
        </p:spPr>
      </p:pic>
      <p:sp>
        <p:nvSpPr>
          <p:cNvPr id="592" name="文本框 1"/>
          <p:cNvSpPr/>
          <p:nvPr/>
        </p:nvSpPr>
        <p:spPr>
          <a:xfrm>
            <a:off x="1522440" y="6407280"/>
            <a:ext cx="55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4"/>
          <p:cNvSpPr/>
          <p:nvPr/>
        </p:nvSpPr>
        <p:spPr>
          <a:xfrm>
            <a:off x="7093080" y="5661000"/>
            <a:ext cx="1150920" cy="936720"/>
          </a:xfrm>
          <a:custGeom>
            <a:avLst/>
            <a:gdLst>
              <a:gd name="textAreaLeft" fmla="*/ 60480 w 1150920"/>
              <a:gd name="textAreaRight" fmla="*/ 1090440 w 1150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6537" h="21600">
                <a:moveTo>
                  <a:pt x="0" y="0"/>
                </a:moveTo>
                <a:lnTo>
                  <a:pt x="26537" y="0"/>
                </a:lnTo>
                <a:lnTo>
                  <a:pt x="26537" y="21600"/>
                </a:lnTo>
                <a:lnTo>
                  <a:pt x="0" y="21600"/>
                </a:lnTo>
                <a:close/>
              </a:path>
              <a:path fill="lightenLess" w="26537" h="21600">
                <a:moveTo>
                  <a:pt x="0" y="0"/>
                </a:moveTo>
                <a:lnTo>
                  <a:pt x="26537" y="0"/>
                </a:lnTo>
                <a:lnTo>
                  <a:pt x="25137" y="1400"/>
                </a:lnTo>
                <a:lnTo>
                  <a:pt x="1400" y="1400"/>
                </a:lnTo>
                <a:close/>
              </a:path>
              <a:path fill="darken" w="26537" h="21600">
                <a:moveTo>
                  <a:pt x="26537" y="0"/>
                </a:moveTo>
                <a:lnTo>
                  <a:pt x="26537" y="21600"/>
                </a:lnTo>
                <a:lnTo>
                  <a:pt x="25137" y="20200"/>
                </a:lnTo>
                <a:lnTo>
                  <a:pt x="25137" y="1400"/>
                </a:lnTo>
                <a:close/>
              </a:path>
              <a:path fill="darkenLess" w="26537" h="21600">
                <a:moveTo>
                  <a:pt x="26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37" y="20200"/>
                </a:lnTo>
                <a:close/>
              </a:path>
              <a:path fill="lighten" w="26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37" h="21600">
                <a:moveTo>
                  <a:pt x="9770" y="10800"/>
                </a:moveTo>
                <a:lnTo>
                  <a:pt x="20275" y="3794"/>
                </a:lnTo>
                <a:lnTo>
                  <a:pt x="20275" y="17806"/>
                </a:lnTo>
                <a:close/>
              </a:path>
              <a:path fill="darken" w="26537" h="21600">
                <a:moveTo>
                  <a:pt x="6262" y="3794"/>
                </a:moveTo>
                <a:lnTo>
                  <a:pt x="7925" y="3794"/>
                </a:lnTo>
                <a:lnTo>
                  <a:pt x="7925" y="17806"/>
                </a:lnTo>
                <a:lnTo>
                  <a:pt x="626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6"/>
          <p:cNvSpPr/>
          <p:nvPr/>
        </p:nvSpPr>
        <p:spPr>
          <a:xfrm>
            <a:off x="1042920" y="2060640"/>
            <a:ext cx="65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李老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不想和我同桌坐，他上课老是和我说话，还抢我的铅笔，使我无法专心上课。我该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个烦恼的小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8"/>
          <p:cNvSpPr/>
          <p:nvPr/>
        </p:nvSpPr>
        <p:spPr>
          <a:xfrm>
            <a:off x="6877080" y="4941720"/>
            <a:ext cx="574560" cy="79236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92360"/>
              <a:gd name="textAreaBottom" fmla="*/ 755280 h 792360"/>
            </a:gdLst>
            <a:ahLst/>
            <a:rect l="textAreaLeft" t="textAreaTop" r="textAreaRight" b="textAreaBottom"/>
            <a:pathLst>
              <a:path w="21600" h="29783">
                <a:moveTo>
                  <a:pt x="0" y="0"/>
                </a:moveTo>
                <a:lnTo>
                  <a:pt x="21600" y="0"/>
                </a:lnTo>
                <a:lnTo>
                  <a:pt x="21600" y="29783"/>
                </a:lnTo>
                <a:lnTo>
                  <a:pt x="0" y="29783"/>
                </a:lnTo>
                <a:close/>
              </a:path>
              <a:path fill="lightenLess" w="21600" h="29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83">
                <a:moveTo>
                  <a:pt x="21600" y="0"/>
                </a:moveTo>
                <a:lnTo>
                  <a:pt x="21600" y="29783"/>
                </a:lnTo>
                <a:lnTo>
                  <a:pt x="20200" y="28383"/>
                </a:lnTo>
                <a:lnTo>
                  <a:pt x="20200" y="1400"/>
                </a:lnTo>
                <a:close/>
              </a:path>
              <a:path fill="darkenLess" w="21600" h="29783">
                <a:moveTo>
                  <a:pt x="21600" y="29783"/>
                </a:moveTo>
                <a:lnTo>
                  <a:pt x="0" y="29783"/>
                </a:lnTo>
                <a:lnTo>
                  <a:pt x="1400" y="28383"/>
                </a:lnTo>
                <a:lnTo>
                  <a:pt x="20200" y="28383"/>
                </a:lnTo>
                <a:close/>
              </a:path>
              <a:path fill="lighten" w="21600" h="29783">
                <a:moveTo>
                  <a:pt x="0" y="29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83"/>
                </a:lnTo>
                <a:close/>
              </a:path>
              <a:path fill="darken" w="21600" h="29783">
                <a:moveTo>
                  <a:pt x="3794" y="7885"/>
                </a:moveTo>
                <a:lnTo>
                  <a:pt x="17806" y="14891"/>
                </a:lnTo>
                <a:lnTo>
                  <a:pt x="3794" y="2189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0:57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3:01Z</dcterms:modified>
  <cp:revision>2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1402000000000001024120</vt:lpwstr>
  </property>
</Properties>
</file>