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laser.wav" ContentType="audio/x-wav"/>
  <Override PartName="/ppt/media/image17.jpeg" ContentType="image/jpeg"/>
  <Override PartName="/ppt/media/image16.gif" ContentType="image/gif"/>
  <Override PartName="/ppt/media/image15.jpeg" ContentType="image/jpeg"/>
  <Override PartName="/ppt/media/wind.wav" ContentType="audio/x-wav"/>
  <Override PartName="/ppt/media/image7.jpeg" ContentType="image/jpeg"/>
  <Override PartName="/ppt/media/image28.jpeg" ContentType="image/jpeg"/>
  <Override PartName="/ppt/media/image9.tif" ContentType="image/tiff"/>
  <Override PartName="/ppt/media/image19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27.jpeg" ContentType="image/jpeg"/>
  <Override PartName="/ppt/media/type.wav" ContentType="audio/x-wav"/>
  <Override PartName="/ppt/media/image6.jpeg" ContentType="image/jpeg"/>
  <Override PartName="/ppt/media/image10.jpeg" ContentType="image/jpeg"/>
  <Override PartName="/ppt/media/image29.jpeg" ContentType="image/jpeg"/>
  <Override PartName="/ppt/media/applause.wav" ContentType="audio/x-wav"/>
  <Override PartName="/ppt/media/image5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coi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D2EF-ED6A-482D-83F1-43BE7B91A2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3570-C454-4B8F-AD4A-0B50EA4283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308B-402B-49BB-A5EA-B737A81E84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6A5-6398-4174-9A97-F94FDA41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842-934C-4D1A-9F99-CF808ED7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A52-C067-45F4-B051-03FCA847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794-A8BC-4C02-B36E-CA8C96D4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070-6F06-431C-9B6D-44A07432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CEE-B744-4625-AB0D-7A473E61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550-013F-4403-966A-6F5C80B5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F4B-69E6-4229-8290-EE8322A0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789-18E1-4E7B-BFFA-E3EB4E07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5AC-7211-48C9-8BA2-6686061E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A73-1633-4B0E-90B8-E0C9CBE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DA0-34D0-4592-9B41-4E265767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50F4-5D40-454B-A84A-CC4B4673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audio" Target="../media/wind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t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1284120"/>
            <a:ext cx="91440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形状与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找 拱 形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20932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6"/>
          <p:cNvSpPr/>
          <p:nvPr/>
        </p:nvSpPr>
        <p:spPr>
          <a:xfrm>
            <a:off x="2987640" y="5013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0080287d09808d553b42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580000" y="333360"/>
            <a:ext cx="324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中国国家大剧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2009418010494589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826920" y="4762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观察塑料饮料瓶的上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部和底部各是什么形状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面还有哪些形状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95280" y="1700280"/>
            <a:ext cx="100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部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2565360"/>
            <a:ext cx="93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部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346840" y="1700280"/>
            <a:ext cx="50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顶形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是明显的圆锥形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口是圆柱形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476360" y="2492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身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圆柱形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面有环状的拱形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着的拱形或其他凸凹形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478800" y="37162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部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086200" y="3716280"/>
            <a:ext cx="26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内凹进去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似圆顶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3341520" y="4724280"/>
            <a:ext cx="526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答对了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对了就领取一张粘贴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贴在        自己的左脸上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诚实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008122909374057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332000" y="90792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手把塑料瓶压凹下去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觉用力的大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哪里更硬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里更软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203640" y="2637000"/>
            <a:ext cx="51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口和瓶底更硬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身更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gifbj039"/>
          <p:cNvPicPr/>
          <p:nvPr/>
        </p:nvPicPr>
        <p:blipFill>
          <a:blip r:embed="rId2"/>
          <a:stretch/>
        </p:blipFill>
        <p:spPr>
          <a:xfrm>
            <a:off x="900000" y="1700280"/>
            <a:ext cx="1584360" cy="1647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4695840" y="38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780000" y="41497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象又有人答对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就再拿一张粘贴贴在自己的右脸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2008122308399355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39640" y="549360"/>
            <a:ext cx="805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剪开的塑料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部分的厚薄相同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部分最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部分最薄呢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92200" y="2152800"/>
            <a:ext cx="448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塑料瓶各部分厚薄不相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厚的地方是瓶口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薄的地方是瓶身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368440" y="458136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来又有同学得到粘贴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恭喜恭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xsdg2-038"/>
          <p:cNvPicPr/>
          <p:nvPr/>
        </p:nvPicPr>
        <p:blipFill>
          <a:blip r:embed="rId2"/>
          <a:stretch/>
        </p:blipFill>
        <p:spPr>
          <a:xfrm>
            <a:off x="179280" y="4365720"/>
            <a:ext cx="12193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20088181323387596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755640" y="1197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塑料饮料瓶的形状设计包含着哪些科学道理呢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4360" y="3357720"/>
            <a:ext cx="45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在小组内交流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胆的说出自己的想法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做勇于发现和探索的小科学家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37793_200611252305036"/>
          <p:cNvPicPr/>
          <p:nvPr/>
        </p:nvPicPr>
        <p:blipFill>
          <a:blip r:embed="rId2"/>
          <a:stretch/>
        </p:blipFill>
        <p:spPr>
          <a:xfrm>
            <a:off x="5364000" y="3429000"/>
            <a:ext cx="3780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2009660513397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2195640" y="549360"/>
            <a:ext cx="43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抢   答  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979640" y="1773360"/>
            <a:ext cx="6696000" cy="2879640"/>
          </a:xfrm>
          <a:prstGeom prst="cloudCallout">
            <a:avLst>
              <a:gd name="adj1" fmla="val -32787"/>
              <a:gd name="adj2" fmla="val 6703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2627280" y="213372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一比看谁反应快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手回答正确的同学可是有粘贴的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加油呦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fa546bf95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159120" y="5373720"/>
            <a:ext cx="681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的头骨近似于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_____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以很好的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936600" y="5157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球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165280" y="57340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cc"/>
                </a:solidFill>
                <a:latin typeface="Arial"/>
                <a:ea typeface="楷体_GB2312"/>
              </a:rPr>
              <a:t>保护大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00916160616261d1e312f40949eefc7709d75c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846440" y="6156360"/>
            <a:ext cx="64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肋骨护卫着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414080" y="6095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拱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236280" y="59929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胸腔中的内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H009t0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0" y="333360"/>
            <a:ext cx="60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的足骨构成一个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--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足弓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它可以更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承载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345200" y="18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拱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823400" y="1268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cc"/>
                </a:solidFill>
                <a:latin typeface="Arial"/>
                <a:ea typeface="楷体_GB2312"/>
              </a:rPr>
              <a:t>人体的重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41890[1]"/>
          <p:cNvPicPr/>
          <p:nvPr/>
        </p:nvPicPr>
        <p:blipFill>
          <a:blip r:embed="rId1"/>
          <a:stretch/>
        </p:blipFill>
        <p:spPr>
          <a:xfrm>
            <a:off x="0" y="0"/>
            <a:ext cx="4427640" cy="292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u=108047024,3708406597&amp;fm=0&amp;gp=40[1]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292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20070226015431383[1]"/>
          <p:cNvPicPr/>
          <p:nvPr/>
        </p:nvPicPr>
        <p:blipFill>
          <a:blip r:embed="rId3"/>
          <a:stretch/>
        </p:blipFill>
        <p:spPr>
          <a:xfrm>
            <a:off x="0" y="3624120"/>
            <a:ext cx="4427640" cy="323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20080414190111927[1]"/>
          <p:cNvPicPr/>
          <p:nvPr/>
        </p:nvPicPr>
        <p:blipFill>
          <a:blip r:embed="rId4"/>
          <a:stretch/>
        </p:blipFill>
        <p:spPr>
          <a:xfrm>
            <a:off x="4643280" y="3645000"/>
            <a:ext cx="4500720" cy="3213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1870920" y="2997360"/>
            <a:ext cx="55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观察这些外壳</a:t>
            </a:r>
            <a:r>
              <a:rPr b="0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说这些形状对生物本身有什么意义</a:t>
            </a:r>
            <a:r>
              <a:rPr b="0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10323788_777011[1]"/>
          <p:cNvPicPr/>
          <p:nvPr/>
        </p:nvPicPr>
        <p:blipFill>
          <a:blip r:embed="rId1"/>
          <a:stretch/>
        </p:blipFill>
        <p:spPr>
          <a:xfrm>
            <a:off x="0" y="0"/>
            <a:ext cx="3059280" cy="400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u=726425633,4268465499&amp;fm=0&amp;gp=10[1]"/>
          <p:cNvPicPr/>
          <p:nvPr/>
        </p:nvPicPr>
        <p:blipFill>
          <a:blip r:embed="rId2"/>
          <a:stretch/>
        </p:blipFill>
        <p:spPr>
          <a:xfrm>
            <a:off x="3203640" y="0"/>
            <a:ext cx="2736720" cy="400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u=3448591376,2833161180&amp;fm=0&amp;gp=28[1]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4005360"/>
          </a:xfrm>
          <a:prstGeom prst="rect">
            <a:avLst/>
          </a:prstGeom>
          <a:ln w="0">
            <a:noFill/>
          </a:ln>
        </p:spPr>
      </p:pic>
      <p:sp>
        <p:nvSpPr>
          <p:cNvPr id="53" name="WordArt 16"/>
          <p:cNvSpPr txBox="1"/>
          <p:nvPr/>
        </p:nvSpPr>
        <p:spPr>
          <a:xfrm>
            <a:off x="611280" y="4365720"/>
            <a:ext cx="399096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solidFill>
                  <a:srgbClr val="0000ff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拱形承载重力有什么特点</a:t>
            </a:r>
            <a:r>
              <a:rPr b="0" lang="en-US" sz="2800" spc="-1" strike="noStrike">
                <a:ln w="0">
                  <a:noFill/>
                </a:ln>
                <a:solidFill>
                  <a:srgbClr val="0000ff">
                    <a:alpha val="72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?</a:t>
            </a:r>
            <a:endParaRPr b="0" lang="en-US" sz="2800" spc="-1" strike="noStrike">
              <a:ln w="0">
                <a:noFill/>
              </a:ln>
              <a:solidFill>
                <a:srgbClr val="0000ff">
                  <a:alpha val="72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4" name="WordArt 18" descr=""/>
          <p:cNvPicPr/>
          <p:nvPr/>
        </p:nvPicPr>
        <p:blipFill>
          <a:blip r:embed="rId4"/>
          <a:stretch/>
        </p:blipFill>
        <p:spPr>
          <a:xfrm>
            <a:off x="250920" y="5300640"/>
            <a:ext cx="84265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20095260161745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547640" y="1916280"/>
            <a:ext cx="64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同学们的表现真好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下一节课同学们有更出色的表现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下次再会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411280" y="4581360"/>
            <a:ext cx="38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9900"/>
                </a:solidFill>
                <a:latin typeface="Arial"/>
                <a:ea typeface="楷体_GB2312"/>
              </a:rPr>
              <a:t>拜拜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938240" y="1092240"/>
            <a:ext cx="54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withEffect" fill="remove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4004-7153-45B4-9242-6A350B80EF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653_G_1228696162537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2009371443117807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042920" y="4869000"/>
            <a:ext cx="74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课件图片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4932360" y="54936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圆顶形与拱形有那些相似的地方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试着解释圆顶形承载压力的特点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859280" y="3141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圆顶形可以看成是拱形的组合</a:t>
            </a:r>
            <a:r>
              <a:rPr b="0" lang="en-US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859280" y="429264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它有拱形承载压力大          的特点</a:t>
            </a:r>
            <a:r>
              <a:rPr b="0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16360" y="530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而且不产生向外的推力</a:t>
            </a:r>
            <a:r>
              <a:rPr b="0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.</a:t>
            </a:r>
            <a:r>
              <a:rPr b="0" lang="en-US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课件图片00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24000" y="620640"/>
            <a:ext cx="359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球形与拱形有哪些相似的地方</a:t>
            </a:r>
            <a:r>
              <a:rPr b="0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试着解释球形承载压力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50920" y="3716280"/>
            <a:ext cx="410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球形在各个方向上都可以看成拱形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使得它比任何形状都要坚固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200904221023182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395280" y="476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悉尼歌剧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308b8e58fe31410a97d175eab463e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6910560" y="333360"/>
            <a:ext cx="223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悉尼歌剧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gjdjy1(1)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39640" y="620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国国家大剧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8:18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58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