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234-CC2F-4E9C-988B-666B1705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F1A-246B-41A4-B20D-6656449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B49-4E20-471C-9310-93378559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CD7-DD3C-498A-95A2-84EEDF3F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1A9-DC9B-4BA0-AB0C-14ED3B94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3A5-1243-49E0-8838-4F5098E0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B25-0FF1-4C1C-AECE-521BAB7B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46C-0BDE-4F31-84B8-E4ABE14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351-8285-45C5-8C2F-38BFE4B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CC1-A380-453B-B90F-4B27257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E05-855B-4E9E-A31A-5DA8C9F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DF1-706D-4F00-8170-557A899B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700-9034-4ACD-BB85-29358DBB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95640" y="198900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康海报体W12(P)"/>
              </a:rPr>
              <a:t>自己去吧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康海报体W12(P)"/>
              <a:ea typeface="华康海报体W12(P)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944720" y="582300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方正特粗光辉简体"/>
                <a:ea typeface="方正特粗光辉简体"/>
              </a:rPr>
              <a:t>幻灯片之家  </a:t>
            </a:r>
            <a:r>
              <a:rPr b="0" lang="zh-CN" sz="2800" spc="-1" strike="noStrike">
                <a:solidFill>
                  <a:srgbClr val="00b050"/>
                </a:solidFill>
                <a:latin typeface="方正特粗光辉简体"/>
                <a:ea typeface="方正特粗光辉简体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10514160" cy="7669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88748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179280" y="0"/>
            <a:ext cx="9396360" cy="7561440"/>
          </a:xfrm>
          <a:prstGeom prst="rect">
            <a:avLst/>
          </a:prstGeom>
          <a:solidFill>
            <a:srgbClr val="ff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861840" y="1844640"/>
            <a:ext cx="82821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您    带    吗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深    学    会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130400" y="1833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130400" y="183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05440" y="12682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926520" y="126828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391760" y="429264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926520" y="41497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518880" y="422100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519600" y="134136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10514160" cy="766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88748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396360" cy="7461360"/>
          </a:xfrm>
          <a:prstGeom prst="rect">
            <a:avLst/>
          </a:prstGeom>
          <a:solidFill>
            <a:srgbClr val="ffffff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61840" y="1557360"/>
            <a:ext cx="8282160" cy="76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您    带     吗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深     学     会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11280" y="371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rupian"/>
          <p:cNvPicPr/>
          <p:nvPr/>
        </p:nvPicPr>
        <p:blipFill>
          <a:blip r:embed="rId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"/>
          <p:cNvSpPr/>
          <p:nvPr/>
        </p:nvSpPr>
        <p:spPr>
          <a:xfrm>
            <a:off x="2990880" y="5294160"/>
            <a:ext cx="62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D86-91B8-499B-88C5-E0835494AE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05:52:15Z</dcterms:created>
  <dc:creator>FtpDown</dc:creator>
  <dc:description/>
  <cp:keywords/>
  <dc:language>en-US</dc:language>
  <cp:lastModifiedBy>xinxing</cp:lastModifiedBy>
  <dcterms:modified xsi:type="dcterms:W3CDTF">2017-04-16T16:07:33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