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60A0-5338-4778-83EF-54AE4B91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F07-B719-4A87-A2C5-E1D28A8C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E07-AFA2-406F-84EF-2C1A61E9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56D3-148E-4C25-952B-CC82BF915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B04A-BF4D-42B4-AD8A-C7F2F7C6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2286-001F-47DF-8514-736A6309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1BDE-8343-44A8-B368-ECD2BFEEE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036E3-3BA8-4B86-A086-E8CC574A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864D-2219-43C5-80A6-079029B7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A0538-9439-4543-B38A-D29F9DD62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73DB2-D07D-4B94-8D76-1D5F602E6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D2AD-AD8F-41E2-B288-F3EF1E54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7212-5911-4818-90D3-C3A529D3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939C-9E43-4CA9-A12C-771DE0DD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64F7-8DDE-45E1-936E-63C1FCB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8FEEF-CF7B-44B6-8040-52A459C5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75F2-BC56-4F18-806B-2620F596F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CE85-1034-4FD6-9A9B-2EDF6438E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6A94-E126-49A8-9031-72CF396B5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8E6-56CE-417F-8C13-5921B739F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BCB-DE9A-4433-8454-6E1CF943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968-EB9A-45F5-999A-247B5FA3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6B0C-56A9-4AC7-9EA0-C9553A8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2FFD-A45C-4233-9D77-BD50CB42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6440" y="6130800"/>
              <a:ext cx="1640880" cy="773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3B7B-8C71-491E-9EFA-3F44DFAD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3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Rectangle 14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Rectangle 19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 flipH="1" rot="18897000">
              <a:off x="46080" y="378540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Freeform 25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Freeform 26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Freeform 27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Freeform 28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Rectangle 29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Rectangle 30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Rectangle 31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Picture 32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193B-E298-4F6A-A15D-8E2027385D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3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" Target="slide1.xm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矩形 16"/>
          <p:cNvSpPr/>
          <p:nvPr/>
        </p:nvSpPr>
        <p:spPr>
          <a:xfrm>
            <a:off x="2771640" y="719280"/>
            <a:ext cx="6480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a0aff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a0aff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WordArt 2"/>
          <p:cNvSpPr txBox="1"/>
          <p:nvPr/>
        </p:nvSpPr>
        <p:spPr>
          <a:xfrm>
            <a:off x="2666880" y="147600"/>
            <a:ext cx="5029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赠刘景文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143" name="WordArt 3"/>
          <p:cNvSpPr txBox="1"/>
          <p:nvPr/>
        </p:nvSpPr>
        <p:spPr>
          <a:xfrm rot="5400000">
            <a:off x="-1147680" y="3886200"/>
            <a:ext cx="3504960" cy="914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相关资料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147600" y="1079640"/>
            <a:ext cx="1752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新魏"/>
              </a:rPr>
              <a:t>作者：</a:t>
            </a:r>
            <a:endParaRPr b="0" lang="en-US" sz="24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362320" y="2362320"/>
            <a:ext cx="67816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荷盡已無擎雨蓋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菊殘猶有傲霜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年好景君須記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DFKai-SB"/>
              </a:rPr>
              <a:t>最是橙黃橘綠時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905120" y="990720"/>
            <a:ext cx="609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蘇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0" y="2332080"/>
            <a:ext cx="9144000" cy="21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15" descr="http://www.lyinfo.ha.cn/holiday/zhongqiu/top38.gif"/>
          <p:cNvPicPr/>
          <p:nvPr/>
        </p:nvPicPr>
        <p:blipFill>
          <a:blip r:embed="rId16"/>
          <a:stretch/>
        </p:blipFill>
        <p:spPr>
          <a:xfrm>
            <a:off x="4267080" y="1371600"/>
            <a:ext cx="914400" cy="903240"/>
          </a:xfrm>
          <a:prstGeom prst="rect">
            <a:avLst/>
          </a:prstGeom>
          <a:ln w="0">
            <a:noFill/>
          </a:ln>
        </p:spPr>
      </p:pic>
      <p:sp>
        <p:nvSpPr>
          <p:cNvPr id="149" name="WordArt 16"/>
          <p:cNvSpPr txBox="1"/>
          <p:nvPr/>
        </p:nvSpPr>
        <p:spPr>
          <a:xfrm rot="5400000">
            <a:off x="320400" y="3835080"/>
            <a:ext cx="3124440" cy="9590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0"/>
                <a:gd name="adj2" fmla="val -19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楷体_GB2312"/>
              </a:rPr>
              <a:t>好诗欣赏</a:t>
            </a:r>
            <a:endParaRPr b="1" lang="en-US" sz="24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50" name="Rectangle 1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2581920" y="623736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矩形 6"/>
          <p:cNvSpPr/>
          <p:nvPr/>
        </p:nvSpPr>
        <p:spPr>
          <a:xfrm>
            <a:off x="4859280" y="4437000"/>
            <a:ext cx="6494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98d4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王维开元九年春天中状元后，即解褐为太乐丞，开始了仕宦生涯。但他随即因为署中伶人舞黄狮子犯禁，受了牵连而谪为济州司法参军。当年秋天便离开京城，赴济州任。济州在今山东荏平西南，王维在那里度过了四年多的光阴。其中开元十三年（</a:t>
            </a:r>
            <a:r>
              <a:rPr b="0" lang="en-US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725</a:t>
            </a: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年），诗人裴耀卿任济州刺史，裴为河东人，与王维是同乡，待王维不错，使王维稍得安慰，但裴很快又赴宣州任职，使王维甚感惋惜。在裴耀卿离开济州不久，王维也于开元十四年（</a:t>
            </a:r>
            <a:r>
              <a:rPr b="0" lang="en-US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726</a:t>
            </a: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年）春天辞去司法参军之职，离开济州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6699"/>
                </a:solidFill>
                <a:latin typeface="Times New Roman"/>
                <a:ea typeface="楷体_GB2312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Picture 5" descr="http://www.lyinfo.ha.cn/holiday/zhongqiu/top38.gi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4267080" y="3657600"/>
            <a:ext cx="33530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3635280" y="563400"/>
            <a:ext cx="449604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和令狐相公玩白菊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家家菊盡黃，梁園獨如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瑩靜真琪樹，分明對玉堂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仙人披雪氅，素女不紅裝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粉蝶來難見，麻衣拂更香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向風搖羽扇，含露滴瓊漿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高豔遮銀井，繁枝覆象床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桂叢慚並發，梅蕊妒先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一人瑤華詠，從此播樂章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Picture 6" descr="http://www.lyinfo.ha.cn/holiday/zhongqiu/top38.gi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4675320"/>
            <a:ext cx="2209680" cy="2182680"/>
          </a:xfrm>
          <a:prstGeom prst="rect">
            <a:avLst/>
          </a:prstGeom>
          <a:ln w="0">
            <a:noFill/>
          </a:ln>
        </p:spPr>
      </p:pic>
      <p:sp>
        <p:nvSpPr>
          <p:cNvPr id="157" name="文本框 1"/>
          <p:cNvSpPr/>
          <p:nvPr/>
        </p:nvSpPr>
        <p:spPr>
          <a:xfrm>
            <a:off x="2879640" y="6251400"/>
            <a:ext cx="616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模板尽在：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1"/>
          <p:cNvSpPr/>
          <p:nvPr/>
        </p:nvSpPr>
        <p:spPr>
          <a:xfrm>
            <a:off x="2139840" y="408456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城東寺菊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黃花漠漠弄秋暉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無數蜜蜂花上飛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不忍獨醒辜爾去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殷勤為折一枝歸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矩形 4"/>
          <p:cNvSpPr/>
          <p:nvPr/>
        </p:nvSpPr>
        <p:spPr>
          <a:xfrm>
            <a:off x="2124000" y="1557360"/>
            <a:ext cx="457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滿園花菊鬱金黃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中有孤叢色似霜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還似今朝歌酒席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DFKai-SB"/>
              </a:rPr>
              <a:t>白頭翁人少年場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62440" y="85104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重陽席上賦白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94320"/>
            <a:ext cx="8207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f98d43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98d43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248F-D094-44BC-8B97-1310102E483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9:06:58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5:34:49Z</dcterms:modified>
  <cp:revision>7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