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5D3-D449-45D9-A619-60EC68EF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B57-F15F-4BCD-BFC8-6383480F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439-A32E-4DA6-9092-7CAFDA87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168-63C7-407A-9514-13F19C05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7AC7-CD16-4DDD-B5FE-BB37869A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FBA-3413-408D-B07D-43E118D6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BE63-10D2-42EA-BE71-6ACD1406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D80-8113-47B4-8CB3-5E31C814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3B26-8A95-476F-B6E8-F988CA0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53C-C241-459B-92FD-A666E7B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3688-ABE3-4A0F-AF23-F6D96FE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CBE-DA7E-4DFC-A36B-376AF04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904D-5EA9-4DD6-A79B-8A29B21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DF9-02A5-4FD6-8279-2E201F8D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DF43-9671-4BD4-9D55-60380F6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8E14-8414-44F3-BA95-BC11289D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50E-57E1-4EDF-A249-F8FC0438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A27-D5EF-40F5-A249-17EB2CE0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5977-9ADF-4F17-B220-DF21173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9226-204D-4B28-932F-5215F52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1F63-1E9D-4683-BF62-6C1D1D01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7FB4-ECE9-4858-972E-4B63067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28D-B3EF-4051-B7FC-BE68650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10F5-EFBF-4897-8C85-E941F182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A71B-F6EC-4918-B838-39882C7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81F9-2AE5-486C-81EF-AF405F2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2996-2A7A-42BB-9BF2-20C5E6D8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0ABA-3A53-4421-AD4A-8BD6198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A3B2-C0A3-43DC-8AD1-997FCA03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560E-C44E-45F2-AB93-8C4C13C9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064-8840-4E86-A244-67159F6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092-C759-4C1F-8EFC-00E02D2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31C-74F4-49A2-A6EE-7E0A4C54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D6C-F807-40A0-A83C-C4ECBC7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88C-5B79-408C-ADDC-DB2880E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276-61E5-4945-871D-5014F760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4385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144386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144387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144388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144389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144390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144391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144392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144393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144394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144395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144396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144397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144398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144399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F599-B7D8-41BA-B072-F3EB7C017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848-1858-4DFE-9BCC-DABFF61451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60CD-D899-4ECC-B1C4-5ED2541669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45409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145410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145411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145412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145413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145414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145415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145416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145417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145418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145419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145420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1454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145422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145423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145424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145425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145426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145427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145428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145429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145430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145431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145432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145433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145434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E2E-CC53-4E65-A01C-F2E0D0A330B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5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中学科学教育之我见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79280" y="3836880"/>
            <a:ext cx="8640720" cy="24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大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七、探究式学习仍然是教改的突破口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263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科学探究活动中最重要的阶段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观察（观察是一种习惯，也是一种能力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测量    记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提出理论或假设（归纳法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验证并找出理论或假设中的不确定性</a:t>
            </a:r>
            <a:r>
              <a:rPr b="1" lang="zh-CN" sz="44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矩形 206851"/>
          <p:cNvSpPr/>
          <p:nvPr/>
        </p:nvSpPr>
        <p:spPr>
          <a:xfrm>
            <a:off x="466560" y="1386000"/>
            <a:ext cx="806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.  Pimental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教授的科学素养观与方案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8—12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岁）简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矩形 206852"/>
          <p:cNvSpPr/>
          <p:nvPr/>
        </p:nvSpPr>
        <p:spPr>
          <a:xfrm>
            <a:off x="468360" y="5084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.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介绍一个培养方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206853"/>
          <p:cNvSpPr/>
          <p:nvPr/>
        </p:nvSpPr>
        <p:spPr>
          <a:xfrm>
            <a:off x="468360" y="566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3.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套值得参考的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64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9933"/>
              </a:solidFill>
              <a:latin typeface="Times New Roman"/>
              <a:ea typeface="华文琥珀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493120" cy="5761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不仅限于实验探究，思考、求证；再思考、再求证也是一种探究性学习活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应当注意的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en-US" sz="1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着重于科学方法和科学精神的培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尊重学生的兴趣，符合学生的认知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教师的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帮助学生把握探究问题的难度和范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导学生按照科学探究的步骤有序地前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*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关心初学者在探究时容易出现的普遍问题，如安全、数据和信息的质量、综合和分析中的遗漏、无序的工作方式、合理的评价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815328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八、素质教育任重道远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2491920"/>
            <a:ext cx="806436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由一堂小学英语课引发的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由一章科学教材课引发的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学科综合问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次关于蜘蛛的讨论引发的联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207876"/>
          <p:cNvSpPr/>
          <p:nvPr/>
        </p:nvSpPr>
        <p:spPr>
          <a:xfrm>
            <a:off x="685800" y="5302080"/>
            <a:ext cx="8153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九、向法拉第学习些什么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拉法第在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圣诞科学讲座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中以蜡烛的故事为题，成功地进行了</a:t>
            </a:r>
            <a:r>
              <a:rPr b="1" lang="en-US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次连续讲座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用最常见的自然现象与事物来引导公众进入“自然哲学”之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尽量避免用生僻的科学术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九、向法拉第学习些什么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01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潜移默化地进行热爱科学的教育。“蜡烛的火焰能把暗处照亮，而金刚石的璀璨在没有火焰照亮时却什么都没有”；在讲到华丽的色彩和像长笛一样的蜡烛时，“不要做美丽的奴隶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有这些知识才是有意义的，而美丽并没有什么用处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“在任何环境下，我们绝不要落后于你的时间，这对我来说是一个教训。应当更加牢固地去把握事物的哲学，而不是把过多的时间用于这些解释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632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谢谢大家！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bcbcb"/>
                </a:solidFill>
                <a:latin typeface="Times New Roman"/>
                <a:ea typeface="华文隶书"/>
              </a:rPr>
              <a:t>应试教育必不可取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割裂了学科知识体系的内在系统性，对可持续发展极为有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使学生能力结构严重失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对学生品德（诚信）有可能造成损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有违“十年树木，百年树人”的教育目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8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一、教育理念问题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矩形 143363"/>
          <p:cNvSpPr/>
          <p:nvPr/>
        </p:nvSpPr>
        <p:spPr>
          <a:xfrm>
            <a:off x="3975120" y="1092240"/>
            <a:ext cx="39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对“以学生为本”的认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22669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从学生是某种专业人才的“毛坯”到具有独立人格的公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师在教学工作中应当把握的“感觉”：园丁还是泥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从着眼于少数“拔尖人才”到绝大多数学生的素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公民受教育是权利还是义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二、国家与社会的可持续发展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需要什么样的人才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337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素质的公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水平的科技人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秀的企业经营管理人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水平的政治领导干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矩形 200709"/>
          <p:cNvSpPr/>
          <p:nvPr/>
        </p:nvSpPr>
        <p:spPr>
          <a:xfrm>
            <a:off x="576360" y="4854600"/>
            <a:ext cx="838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社会所需人才的多样性要求教育与教学过程和目标的多样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3840" y="406080"/>
            <a:ext cx="855180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三、如何正确评价我国基础教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育的质量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1120" y="2637000"/>
            <a:ext cx="77785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外国学生相比，我国学生的基础扎实。因此基础教育是成功的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田单赛马故事的启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外国学生相比，我国学生的基础更扎实，只是创新能力较差而已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矩形 201732"/>
          <p:cNvSpPr/>
          <p:nvPr/>
        </p:nvSpPr>
        <p:spPr>
          <a:xfrm>
            <a:off x="2674800" y="1812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两个值得讨论的认识误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矩形 201735"/>
          <p:cNvSpPr/>
          <p:nvPr/>
        </p:nvSpPr>
        <p:spPr>
          <a:xfrm>
            <a:off x="1116000" y="5300640"/>
            <a:ext cx="777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一位清华化学系三年级学生的体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路涌祥院长再创新工程验收会上的讲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333360"/>
            <a:ext cx="883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四、关于“基础性和时代性”的关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例如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对原子的认识，元素的具体知识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外语教学重点的改变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投影几何课程的消失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计算技术功能的变化</a:t>
            </a:r>
            <a:r>
              <a:rPr b="1" lang="zh-CN" sz="44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202755"/>
          <p:cNvSpPr/>
          <p:nvPr/>
        </p:nvSpPr>
        <p:spPr>
          <a:xfrm>
            <a:off x="34920" y="162864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.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学科基础的陈述方式和教育价值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可变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6560" y="333360"/>
            <a:ext cx="883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四、关于“基础性和时代性”的关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矩形 203780"/>
          <p:cNvSpPr/>
          <p:nvPr/>
        </p:nvSpPr>
        <p:spPr>
          <a:xfrm>
            <a:off x="611280" y="2781360"/>
            <a:ext cx="83534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10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与学科的发展现况和趋势的关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真正体现贴近生活、贴近社会，可   持续发展和终身学习的理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bcbcb"/>
                </a:solidFill>
                <a:latin typeface="Times New Roman"/>
                <a:ea typeface="楷体_GB2312"/>
              </a:rPr>
              <a:t>与社会的发展现况和趋势的关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京剧演变的启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矩形 203781"/>
          <p:cNvSpPr/>
          <p:nvPr/>
        </p:nvSpPr>
        <p:spPr>
          <a:xfrm>
            <a:off x="395280" y="1700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.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课程内容与呈现方式的改变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1532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五、教育目标问题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1840" y="2491920"/>
            <a:ext cx="525780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知识技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过程方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情感态度价值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15328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六、科学素养问题是科学教育 </a:t>
            </a:r>
            <a:br>
              <a:rPr sz="4800"/>
            </a:b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华文琥珀"/>
              </a:rPr>
              <a:t>        的核心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640" y="2203200"/>
            <a:ext cx="633744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种学习理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蚂蚁的智慧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非智力因素不可忽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并非寓言的寓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史教育中的问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12Z</dcterms:created>
  <dc:creator/>
  <dc:description/>
  <cp:keywords>科学 教育</cp:keywords>
  <dc:language>en-US</dc:language>
  <cp:lastModifiedBy>An</cp:lastModifiedBy>
  <dcterms:modified xsi:type="dcterms:W3CDTF">2016-05-01T00:27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