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55B-C8DC-4DAF-B945-B98570FF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EE5-26C1-4A4D-8A0B-773F4CC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CEE-EF72-4148-AD47-3340F491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41E-4FFF-4AAD-A199-F6A79BB2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D4C-590F-40EC-9FFA-4B5BB9B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702-9A6B-49E1-9507-54FB8060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817-88C4-433C-A5FE-5CFEB5E1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6A9-AD51-44C0-92C7-0CD7BBC1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100-D335-4105-B644-6E123C8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23F-1D5F-40C6-8DA9-F2A0934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206-58B6-4A70-A639-7E1F67F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CCC-8425-4B0A-99D0-58FCC86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FB19-2563-459F-8148-F34955F12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71640" y="1916280"/>
            <a:ext cx="489564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latin typeface="华文琥珀"/>
              </a:rPr>
              <a:t>自选商场</a:t>
            </a:r>
            <a:endParaRPr b="0" lang="en-US" sz="1800" spc="1" strike="noStrike">
              <a:ln cap="rnd" w="1584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solidFill>
                <a:srgbClr val="ffff00"/>
              </a:solidFill>
              <a:latin typeface="华文琥珀"/>
              <a:ea typeface="华文琥珀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46080" y="5873760"/>
            <a:ext cx="48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900000" y="1268280"/>
            <a:ext cx="804384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商  场  包  牙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毛  巾  笔  尺 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作  业  本  奶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东  西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4827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　考题三：你能记住他们吗？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两只小耳朵.mp3" descr=""/>
          <p:cNvPicPr/>
          <p:nvPr/>
        </p:nvPicPr>
        <p:blipFill>
          <a:blip r:embed="rId2"/>
          <a:stretch/>
        </p:blipFill>
        <p:spPr>
          <a:xfrm>
            <a:off x="7812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6068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214164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</a:t>
            </a: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在自选商场买东西真方便。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9280" y="1341360"/>
          <a:ext cx="4200480" cy="406404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716360" y="1341360"/>
          <a:ext cx="4200480" cy="406404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24"/>
          <p:cNvSpPr/>
          <p:nvPr/>
        </p:nvSpPr>
        <p:spPr>
          <a:xfrm>
            <a:off x="826920" y="1484280"/>
            <a:ext cx="4175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0000"/>
                </a:solidFill>
                <a:latin typeface="Times New Roman"/>
              </a:rPr>
              <a:t>毛</a:t>
            </a:r>
            <a:endParaRPr b="0" lang="en-US" sz="2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5219640" y="1125360"/>
            <a:ext cx="4175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0000"/>
                </a:solidFill>
                <a:latin typeface="Times New Roman"/>
              </a:rPr>
              <a:t>巾</a:t>
            </a:r>
            <a:endParaRPr b="0" lang="en-US" sz="26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908000" y="1844640"/>
            <a:ext cx="4680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  <a:solidFill>
                  <a:srgbClr val="ff00ff"/>
                </a:solidFill>
                <a:latin typeface="楷体_GB2312"/>
              </a:rPr>
              <a:t>谢谢指导</a:t>
            </a:r>
            <a:endParaRPr b="0" lang="en-US" sz="1800" spc="1" strike="noStrike">
              <a:ln cap="rnd" w="9360">
                <a:solidFill>
                  <a:srgbClr val="3366ff"/>
                </a:solidFill>
                <a:custDash>
                  <a:ds d="100000" sp="1000"/>
                </a:custDash>
                <a:round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43FA-A033-433A-BAF8-AE0659852A7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sucai/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www.1ppt.com/ziliao/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44" name="Picture 4" descr="5555"/>
          <p:cNvPicPr/>
          <p:nvPr/>
        </p:nvPicPr>
        <p:blipFill>
          <a:blip r:embed="rId15"/>
          <a:stretch/>
        </p:blipFill>
        <p:spPr>
          <a:xfrm>
            <a:off x="0" y="0"/>
            <a:ext cx="461808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6666"/>
          <p:cNvPicPr/>
          <p:nvPr/>
        </p:nvPicPr>
        <p:blipFill>
          <a:blip r:embed="rId16"/>
          <a:stretch/>
        </p:blipFill>
        <p:spPr>
          <a:xfrm>
            <a:off x="4140360" y="3135240"/>
            <a:ext cx="50036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627280" y="141300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340000" y="83664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403280" y="249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00cc"/>
                </a:solidFill>
                <a:latin typeface="楷体_GB2312"/>
              </a:rPr>
              <a:t>商  场</a:t>
            </a:r>
            <a:endParaRPr b="0" lang="en-US" sz="8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10160" y="1484280"/>
            <a:ext cx="43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sh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ch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ǎ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endParaRPr b="0" lang="en-US" sz="5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171360" y="5859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Arial"/>
                <a:ea typeface="华文楷体"/>
              </a:rPr>
              <a:t>  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自选商场里的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东西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真多。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432560" y="1562040"/>
            <a:ext cx="12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123880" y="155736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宋体"/>
              </a:rPr>
              <a:t>dōnɡ  xi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68360" y="404640"/>
            <a:ext cx="792144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行楷"/>
              </a:rPr>
              <a:t>　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好消息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小天使”自选商场开张了，特在一（一）班招聘小小营业员。小朋友赶快来报名哦。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557880" y="33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考题一：你能读出我们的名称吗？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56" name="Picture 5" descr="1"/>
          <p:cNvPicPr/>
          <p:nvPr/>
        </p:nvPicPr>
        <p:blipFill>
          <a:blip r:embed="rId1"/>
          <a:stretch/>
        </p:blipFill>
        <p:spPr>
          <a:xfrm>
            <a:off x="250920" y="1125360"/>
            <a:ext cx="1657080" cy="146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u=1188004060,2521189002&amp;gp=30"/>
          <p:cNvPicPr/>
          <p:nvPr/>
        </p:nvPicPr>
        <p:blipFill>
          <a:blip r:embed="rId2"/>
          <a:stretch/>
        </p:blipFill>
        <p:spPr>
          <a:xfrm>
            <a:off x="2843280" y="1125360"/>
            <a:ext cx="1257120" cy="17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u=1261258168,2543355648&amp;gp=20"/>
          <p:cNvPicPr/>
          <p:nvPr/>
        </p:nvPicPr>
        <p:blipFill>
          <a:blip r:embed="rId3"/>
          <a:stretch/>
        </p:blipFill>
        <p:spPr>
          <a:xfrm>
            <a:off x="4716360" y="1413000"/>
            <a:ext cx="1778040" cy="109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=1412752744,3839127450&amp;gp=-14"/>
          <p:cNvPicPr/>
          <p:nvPr/>
        </p:nvPicPr>
        <p:blipFill>
          <a:blip r:embed="rId4"/>
          <a:stretch/>
        </p:blipFill>
        <p:spPr>
          <a:xfrm>
            <a:off x="324000" y="3068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u=3210108133,3409579027&amp;gp=22"/>
          <p:cNvPicPr/>
          <p:nvPr/>
        </p:nvPicPr>
        <p:blipFill>
          <a:blip r:embed="rId5"/>
          <a:stretch/>
        </p:blipFill>
        <p:spPr>
          <a:xfrm>
            <a:off x="2556000" y="3141720"/>
            <a:ext cx="1684080" cy="132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u=3229229734,3034318337&amp;gp=24"/>
          <p:cNvPicPr/>
          <p:nvPr/>
        </p:nvPicPr>
        <p:blipFill>
          <a:blip r:embed="rId6"/>
          <a:stretch/>
        </p:blipFill>
        <p:spPr>
          <a:xfrm>
            <a:off x="4572000" y="3141720"/>
            <a:ext cx="1944720" cy="129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u=3303139266,1221849821&amp;gp=20"/>
          <p:cNvPicPr/>
          <p:nvPr/>
        </p:nvPicPr>
        <p:blipFill>
          <a:blip r:embed="rId7"/>
          <a:stretch/>
        </p:blipFill>
        <p:spPr>
          <a:xfrm>
            <a:off x="5076720" y="508464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u=3544960918,919508574&amp;gp=-6"/>
          <p:cNvPicPr/>
          <p:nvPr/>
        </p:nvPicPr>
        <p:blipFill>
          <a:blip r:embed="rId8"/>
          <a:stretch/>
        </p:blipFill>
        <p:spPr>
          <a:xfrm>
            <a:off x="468360" y="5013360"/>
            <a:ext cx="133344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u=4041284499,2177008700&amp;gp=40"/>
          <p:cNvPicPr/>
          <p:nvPr/>
        </p:nvPicPr>
        <p:blipFill>
          <a:blip r:embed="rId9"/>
          <a:stretch/>
        </p:blipFill>
        <p:spPr>
          <a:xfrm>
            <a:off x="2627280" y="4869000"/>
            <a:ext cx="1657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95280" y="549360"/>
            <a:ext cx="874872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miàn bāo  niú nǎi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huǒ tuǐ chánɡ 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cc"/>
                </a:solidFill>
                <a:latin typeface="楷体_GB2312"/>
              </a:rPr>
              <a:t>面 包 牛奶  火 腿 肠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á ɡāo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máo jīn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ǐ yī  fěn</a:t>
            </a:r>
            <a:r>
              <a:rPr b="0" lang="zh-CN" sz="6600" spc="-1" strike="noStrike">
                <a:solidFill>
                  <a:srgbClr val="cc00cc"/>
                </a:solidFill>
                <a:latin typeface="Arial"/>
              </a:rPr>
              <a:t>牙膏   毛 巾    洗 衣 粉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qiān bǐ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ǐ  zi        zuò  yè   běn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cc"/>
                </a:solidFill>
                <a:latin typeface="Arial"/>
              </a:rPr>
              <a:t>铅笔   尺 子　 作 业 本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782640" y="477720"/>
            <a:ext cx="7221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面包    牛奶  洗衣粉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牙膏    毛巾  火腿肠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铅笔     尺子  作业本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900000" y="1268280"/>
            <a:ext cx="804384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商  场  包  牙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毛  巾  笔  尺 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作  业  本  奶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东  西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4827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　考题二：你能把这些生字读准吗？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2:53:16Z</dcterms:created>
  <dc:creator>六十铺中小学教育网http://www.lspjy.com</dc:creator>
  <dc:description/>
  <cp:keywords/>
  <dc:language>en-US</dc:language>
  <cp:lastModifiedBy>xinxing</cp:lastModifiedBy>
  <dcterms:modified xsi:type="dcterms:W3CDTF">2017-04-16T16:07:48Z</dcterms:modified>
  <cp:revision>20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