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19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18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864A-7797-4AB8-88E3-4E9F685198E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1E39-B777-4A26-86E0-AC79CA58FA1D}" type="slidenum">
              <a:rPr b="0" lang="zh-CN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09311-EF0A-4CB2-BDCA-A1C7F702F6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53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95280" y="3801960"/>
            <a:ext cx="8353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60D89-B83C-41D1-9D4A-D3B57F5226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7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5680" y="981000"/>
            <a:ext cx="407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95280" y="3801960"/>
            <a:ext cx="407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5680" y="3801960"/>
            <a:ext cx="407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DB17D-0B04-4E3F-853A-92222DAC19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26895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9840" y="981000"/>
            <a:ext cx="26895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4040" y="981000"/>
            <a:ext cx="26895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95280" y="3801960"/>
            <a:ext cx="26895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9840" y="3801960"/>
            <a:ext cx="26895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4040" y="3801960"/>
            <a:ext cx="26895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1732A-F744-4ED3-B77D-C81367FD3C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EB146-7D94-4254-A55F-1ABA549A51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981000"/>
            <a:ext cx="8353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E9BF0-BBC5-42B8-8522-095460FB3F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53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A6115-2484-48EB-863F-D8198FC3A7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76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5680" y="981000"/>
            <a:ext cx="4076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8B63D-4416-43F7-ADF3-149572B6FF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8FDDA-29D1-4C5D-BD1F-9F2DAF9928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65846-B52E-472E-B76F-375F2B791E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7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5680" y="981000"/>
            <a:ext cx="4076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95280" y="3801960"/>
            <a:ext cx="407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5ACE4-05B2-41AD-8D3D-19262B577F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95280" y="981000"/>
            <a:ext cx="8353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AF0E6-26EE-4D96-9B1B-FBAB562118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76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5680" y="981000"/>
            <a:ext cx="407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5680" y="3801960"/>
            <a:ext cx="407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A66DC-51F6-4308-90EA-6753125D55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7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981000"/>
            <a:ext cx="407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5280" y="3801960"/>
            <a:ext cx="8353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469CE-1242-4EB2-B308-C179552A30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53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95280" y="3801960"/>
            <a:ext cx="8353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BDFB1-E51B-4E9A-ACE8-5AB522716C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7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5680" y="981000"/>
            <a:ext cx="407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5280" y="3801960"/>
            <a:ext cx="407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5680" y="3801960"/>
            <a:ext cx="407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A37C5-2781-4A92-A8A5-4C08A7DA66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26895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19840" y="981000"/>
            <a:ext cx="26895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44040" y="981000"/>
            <a:ext cx="26895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5280" y="3801960"/>
            <a:ext cx="26895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19840" y="3801960"/>
            <a:ext cx="26895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44040" y="3801960"/>
            <a:ext cx="26895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4D7CF-9936-4AAF-909D-70F00DC419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53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5C564-07F3-47A8-BA5B-E42FE73C74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76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5680" y="981000"/>
            <a:ext cx="4076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59B74-5089-4247-B03E-9A0599E724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B1587-94EF-4F4F-AF3B-50B7BF69A1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CB1CE-366A-4479-BDED-D3A67B4728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7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981000"/>
            <a:ext cx="4076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95280" y="3801960"/>
            <a:ext cx="407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C46A1-92C4-4822-B057-1DDEB1E6A2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76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5680" y="981000"/>
            <a:ext cx="407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5680" y="3801960"/>
            <a:ext cx="407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83DF4-14A1-4937-8594-77C19CFB49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7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981000"/>
            <a:ext cx="407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95280" y="3801960"/>
            <a:ext cx="8353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D5D6F-F6B3-49DD-8339-CD233769DC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107640" y="6453360"/>
            <a:ext cx="71892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3750-D4CC-4ED5-A056-D3192B554977}" type="slidenum">
              <a:rPr b="1" lang="ko-KR" sz="1200" spc="-1" strike="noStrike">
                <a:solidFill>
                  <a:srgbClr val="000000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981000"/>
            <a:ext cx="8353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AutoShape 2"/>
          <p:cNvSpPr/>
          <p:nvPr/>
        </p:nvSpPr>
        <p:spPr>
          <a:xfrm>
            <a:off x="684360" y="2852640"/>
            <a:ext cx="763272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63668"/>
              </a:gs>
              <a:gs pos="100000">
                <a:srgbClr val="5375e1"/>
              </a:gs>
            </a:gsLst>
            <a:lin ang="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395280" y="981000"/>
            <a:ext cx="8353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107640" y="6453360"/>
            <a:ext cx="71892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000066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AD15-F603-4AD8-A1E9-209E27201ED9}" type="slidenum">
              <a:rPr b="1" lang="ko-KR" sz="1200" spc="-1" strike="noStrike">
                <a:solidFill>
                  <a:srgbClr val="000066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4"/>
          <p:cNvSpPr/>
          <p:nvPr/>
        </p:nvSpPr>
        <p:spPr>
          <a:xfrm>
            <a:off x="0" y="177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黑体"/>
                <a:ea typeface="黑体"/>
              </a:rPr>
              <a:t>100</a:t>
            </a:r>
            <a:r>
              <a:rPr b="1" lang="zh-CN" sz="4800" spc="-1" strike="noStrike">
                <a:solidFill>
                  <a:srgbClr val="cc0066"/>
                </a:solidFill>
                <a:latin typeface="黑体"/>
                <a:ea typeface="黑体"/>
              </a:rPr>
              <a:t>毫升水能溶解多少克食盐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矩形 2"/>
          <p:cNvSpPr/>
          <p:nvPr/>
        </p:nvSpPr>
        <p:spPr>
          <a:xfrm>
            <a:off x="1979280" y="56293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图片22"/>
          <p:cNvPicPr/>
          <p:nvPr/>
        </p:nvPicPr>
        <p:blipFill>
          <a:blip r:embed="rId1"/>
          <a:stretch/>
        </p:blipFill>
        <p:spPr>
          <a:xfrm>
            <a:off x="6516720" y="5300640"/>
            <a:ext cx="2633760" cy="150012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3"/>
          <p:cNvSpPr/>
          <p:nvPr/>
        </p:nvSpPr>
        <p:spPr>
          <a:xfrm>
            <a:off x="5005440" y="3573360"/>
            <a:ext cx="3025800" cy="1332000"/>
          </a:xfrm>
          <a:prstGeom prst="wedgeRoundRectCallout">
            <a:avLst>
              <a:gd name="adj1" fmla="val 28236"/>
              <a:gd name="adj2" fmla="val 84782"/>
              <a:gd name="adj3" fmla="val 16667"/>
            </a:avLst>
          </a:prstGeom>
          <a:solidFill>
            <a:srgbClr val="008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5750640" y="3573360"/>
            <a:ext cx="155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什么叫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最后溶解？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5" name="Picture 5" descr="图片1"/>
          <p:cNvPicPr/>
          <p:nvPr/>
        </p:nvPicPr>
        <p:blipFill>
          <a:blip r:embed="rId2"/>
          <a:stretch/>
        </p:blipFill>
        <p:spPr>
          <a:xfrm>
            <a:off x="1440" y="4724280"/>
            <a:ext cx="2772000" cy="213048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6"/>
          <p:cNvSpPr/>
          <p:nvPr/>
        </p:nvSpPr>
        <p:spPr>
          <a:xfrm>
            <a:off x="252360" y="765000"/>
            <a:ext cx="5472000" cy="388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6b0f2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9640" y="1123920"/>
            <a:ext cx="518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到食盐再怎么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搅拌也不能溶解时就达到了“最后溶解”，这时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计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后溶解在第几份？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溶解量是最后一份数减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去一份数。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文本框 1"/>
          <p:cNvSpPr/>
          <p:nvPr/>
        </p:nvSpPr>
        <p:spPr>
          <a:xfrm>
            <a:off x="2424240" y="5429160"/>
            <a:ext cx="71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2836440" y="260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我们的研究记录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982800"/>
          <a:ext cx="9109080" cy="5583240"/>
        </p:xfrm>
        <a:graphic>
          <a:graphicData uri="http://schemas.openxmlformats.org/drawingml/2006/table">
            <a:tbl>
              <a:tblPr/>
              <a:tblGrid>
                <a:gridCol w="1420920"/>
                <a:gridCol w="912600"/>
                <a:gridCol w="885960"/>
                <a:gridCol w="941400"/>
                <a:gridCol w="885960"/>
                <a:gridCol w="842760"/>
                <a:gridCol w="828720"/>
                <a:gridCol w="844560"/>
                <a:gridCol w="828720"/>
                <a:gridCol w="71748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加入的食盐量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克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份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克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份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克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份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12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克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份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16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克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份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20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克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份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24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克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份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28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克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份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32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克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9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份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36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克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是否溶解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我们的实验结果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一杯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毫升的水中可以溶解</a:t>
                      </a:r>
                      <a:r>
                        <a:rPr b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  </a:t>
                      </a:r>
                      <a:r>
                        <a:rPr b="1" lang="zh-CN" sz="2400" spc="-1" strike="noStrike" u="sng">
                          <a:solidFill>
                            <a:srgbClr val="ff0000"/>
                          </a:solidFill>
                          <a:uFillTx/>
                          <a:latin typeface="楷体_GB2312"/>
                          <a:ea typeface="楷体_GB2312"/>
                        </a:rPr>
                        <a:t>36</a:t>
                      </a:r>
                      <a:r>
                        <a:rPr b="1" lang="zh-CN" sz="2400" spc="-1" strike="noStrike" u="sng">
                          <a:solidFill>
                            <a:srgbClr val="ff0000"/>
                          </a:solidFill>
                          <a:uFillTx/>
                          <a:latin typeface="楷体_GB2312"/>
                          <a:ea typeface="楷体_GB2312"/>
                        </a:rPr>
                        <a:t>克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克食盐。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其他小组的实验结果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最多的，溶解</a:t>
                      </a:r>
                      <a:r>
                        <a:rPr b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克食盐。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大多数，溶解</a:t>
                      </a:r>
                      <a:r>
                        <a:rPr b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克食盐。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最少的，溶解</a:t>
                      </a:r>
                      <a:r>
                        <a:rPr b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克食盐。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我们发现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最后溶解在第（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9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）份，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毫升水的溶解量达到（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6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）克。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图片3"/>
          <p:cNvPicPr/>
          <p:nvPr/>
        </p:nvPicPr>
        <p:blipFill>
          <a:blip r:embed="rId1"/>
          <a:stretch/>
        </p:blipFill>
        <p:spPr>
          <a:xfrm>
            <a:off x="-30240" y="189000"/>
            <a:ext cx="1462320" cy="15127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/>
          <p:cNvSpPr/>
          <p:nvPr/>
        </p:nvSpPr>
        <p:spPr>
          <a:xfrm>
            <a:off x="252360" y="1268280"/>
            <a:ext cx="3816360" cy="2017800"/>
          </a:xfrm>
          <a:prstGeom prst="wedgeEllipseCallout">
            <a:avLst>
              <a:gd name="adj1" fmla="val -43356"/>
              <a:gd name="adj2" fmla="val -51791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24000" y="1413000"/>
            <a:ext cx="388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楷体_GB2312"/>
              </a:rPr>
              <a:t>像现在大家做好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楷体_GB2312"/>
              </a:rPr>
              <a:t>的盐水已经不能再溶解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楷体_GB2312"/>
              </a:rPr>
              <a:t>食盐了，这样的溶液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楷体_GB2312"/>
              </a:rPr>
              <a:t>叫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饱和溶液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4" name="Picture 5" descr="图片1"/>
          <p:cNvPicPr/>
          <p:nvPr/>
        </p:nvPicPr>
        <p:blipFill>
          <a:blip r:embed="rId2"/>
          <a:stretch/>
        </p:blipFill>
        <p:spPr>
          <a:xfrm>
            <a:off x="7451640" y="4940280"/>
            <a:ext cx="1676520" cy="190512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6"/>
          <p:cNvSpPr/>
          <p:nvPr/>
        </p:nvSpPr>
        <p:spPr>
          <a:xfrm>
            <a:off x="3781440" y="2421000"/>
            <a:ext cx="4105440" cy="3579840"/>
          </a:xfrm>
          <a:prstGeom prst="wedgeRoundRectCallout">
            <a:avLst>
              <a:gd name="adj1" fmla="val 57592"/>
              <a:gd name="adj2" fmla="val 47949"/>
              <a:gd name="adj3" fmla="val 16667"/>
            </a:avLst>
          </a:prstGeom>
          <a:solidFill>
            <a:srgbClr val="00008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3786120" y="2643120"/>
            <a:ext cx="4103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100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毫升水（溶剂）能溶解的量（溶质）即（饱和溶液）叫做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“溶解度”，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20</a:t>
            </a:r>
            <a:r>
              <a:rPr b="1" lang="en-US" sz="3200" spc="-1" strike="noStrike" u="sng" baseline="30000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0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C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的环境下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食盐在水中的溶解度是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6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克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1549440" y="26028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通过今天的实验可以得出一个结论——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AutoShape 9"/>
          <p:cNvSpPr/>
          <p:nvPr/>
        </p:nvSpPr>
        <p:spPr>
          <a:xfrm>
            <a:off x="2700360" y="765000"/>
            <a:ext cx="6408720" cy="6098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一定量的水只能溶解一定量的食盐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0" y="3357720"/>
            <a:ext cx="3600360" cy="3456000"/>
          </a:xfrm>
          <a:prstGeom prst="cube">
            <a:avLst>
              <a:gd name="adj" fmla="val 5652"/>
            </a:avLst>
          </a:prstGeom>
          <a:solidFill>
            <a:srgbClr val="96b0f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1440" y="3645000"/>
            <a:ext cx="345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为什么有的组溶解量少，有的组溶解量多？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达到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36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克的就达到了饱和溶液，没达到的就是不饱和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971640" y="1989000"/>
            <a:ext cx="7273800" cy="8251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宋体"/>
                <a:ea typeface="楷体_GB2312"/>
              </a:rPr>
              <a:t>最后要求大家把杯中的盐水收集起来，以供下节课继续研究时使用。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7120" y="2500200"/>
            <a:ext cx="8353440" cy="30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在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摄氏度的环境下，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00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毫升的水溶解大约（        ）克食盐。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在做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00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毫升的水大约能溶解多少克食盐的食盐的实验中，先把盐一份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克分好，再（               ）的加入水中，直到（              ）为止。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53" name="矩形 4" descr=""/>
          <p:cNvPicPr/>
          <p:nvPr/>
        </p:nvPicPr>
        <p:blipFill>
          <a:blip r:embed="rId1"/>
          <a:stretch/>
        </p:blipFill>
        <p:spPr>
          <a:xfrm>
            <a:off x="3143160" y="785880"/>
            <a:ext cx="3000600" cy="12002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6"/>
          <p:cNvSpPr/>
          <p:nvPr/>
        </p:nvSpPr>
        <p:spPr>
          <a:xfrm>
            <a:off x="1432800" y="29289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TextBox 7"/>
          <p:cNvSpPr/>
          <p:nvPr/>
        </p:nvSpPr>
        <p:spPr>
          <a:xfrm flipV="1" rot="10800000">
            <a:off x="6715080" y="3928320"/>
            <a:ext cx="18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一份一份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4276800" y="43578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4d"/>
                </a:solidFill>
                <a:latin typeface="黑体"/>
                <a:ea typeface="黑体"/>
              </a:rPr>
              <a:t>不能溶解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0" lang="zh-CN" sz="12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0" lang="zh-CN" sz="12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0" lang="zh-CN" sz="12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0" lang="zh-CN" sz="12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0" lang="zh-CN" sz="12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 </a:t>
            </a:r>
            <a:r>
              <a:rPr b="0" lang="zh-CN" sz="1200" spc="-1" strike="noStrike" u="sng">
                <a:solidFill>
                  <a:srgbClr val="97bd37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97bd37"/>
                </a:solidFill>
                <a:uFillTx/>
                <a:latin typeface="Verdana"/>
                <a:hlinkClick r:id="rId2"/>
              </a:rPr>
              <a:t>www.eeppt.com/new.html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97bd37"/>
                </a:solidFill>
                <a:uFillTx/>
                <a:latin typeface="Verdana"/>
                <a:hlinkClick r:id="rId3"/>
              </a:rPr>
              <a:t>好看的ppt背景图片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http://www.eeppt.com/beijing/         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	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            </a:t>
            </a:r>
            <a:r>
              <a:rPr b="1" lang="zh-CN" sz="1000" spc="-1" strike="noStrike" u="sng">
                <a:solidFill>
                  <a:srgbClr val="97bd37"/>
                </a:solidFill>
                <a:uFillTx/>
                <a:latin typeface="Verdana"/>
                <a:hlinkClick r:id="rId4"/>
              </a:rPr>
              <a:t>动态ppt模板下载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http://www.eeppt.com/dongtai/</a:t>
            </a:r>
            <a:endParaRPr b="1" lang="en-US" sz="10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97bd37"/>
                </a:solidFill>
                <a:uFillTx/>
                <a:latin typeface="Verdana"/>
                <a:hlinkClick r:id="rId5"/>
              </a:rPr>
              <a:t>ppt模板下载 免费完整版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http://www.eeppt.com/moban/           </a:t>
            </a:r>
            <a:r>
              <a:rPr b="1" lang="zh-CN" sz="1000" spc="-1" strike="noStrike" u="sng">
                <a:solidFill>
                  <a:srgbClr val="97bd37"/>
                </a:solidFill>
                <a:uFillTx/>
                <a:latin typeface="Verdana"/>
                <a:hlinkClick r:id="rId6"/>
              </a:rPr>
              <a:t> 毕业设计ppt模板下载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http://www.eeppt.com/moban/chuangyi/</a:t>
            </a:r>
            <a:endParaRPr b="1" lang="en-US" sz="10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97bd37"/>
                </a:solidFill>
                <a:uFillTx/>
                <a:latin typeface="Verdana"/>
                <a:hlinkClick r:id="rId7"/>
              </a:rPr>
              <a:t>答辩ppt模板下载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http://www.eeppt.com/moban/dabian/            </a:t>
            </a:r>
            <a:r>
              <a:rPr b="1" lang="zh-CN" sz="1000" spc="-1" strike="noStrike" u="sng">
                <a:solidFill>
                  <a:srgbClr val="97bd37"/>
                </a:solidFill>
                <a:uFillTx/>
                <a:latin typeface="Verdana"/>
                <a:hlinkClick r:id="rId8"/>
              </a:rPr>
              <a:t>月总结ppt模板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http://www.eeppt.com/moban/gongzuo/</a:t>
            </a:r>
            <a:endParaRPr b="1" lang="en-US" sz="10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97bd37"/>
                </a:solidFill>
                <a:uFillTx/>
                <a:latin typeface="Verdana"/>
                <a:hlinkClick r:id="rId9"/>
              </a:rPr>
              <a:t>精美ppt模板下载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http://www.eeppt.com/moban/jingpin/            </a:t>
            </a:r>
            <a:r>
              <a:rPr b="1" lang="zh-CN" sz="1000" spc="-1" strike="noStrike" u="sng">
                <a:solidFill>
                  <a:srgbClr val="97bd37"/>
                </a:solidFill>
                <a:uFillTx/>
                <a:latin typeface="Verdana"/>
                <a:hlinkClick r:id="rId10"/>
              </a:rPr>
              <a:t>课件ppt模板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http://www.eeppt.com</a:t>
            </a:r>
            <a:r>
              <a:rPr b="1" lang="en-US" sz="1000" spc="-1" strike="noStrike">
                <a:solidFill>
                  <a:srgbClr val="ededed"/>
                </a:solidFill>
                <a:latin typeface="Verdana"/>
              </a:rPr>
              <a:t>/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kejian/</a:t>
            </a:r>
            <a:endParaRPr b="1" lang="en-US" sz="10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97bd37"/>
                </a:solidFill>
                <a:uFillTx/>
                <a:latin typeface="Verdana"/>
                <a:hlinkClick r:id="rId11"/>
              </a:rPr>
              <a:t>企业介绍ppt模板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http://www.eeppt.com/moban/qiye/                 </a:t>
            </a:r>
            <a:r>
              <a:rPr b="1" lang="zh-CN" sz="1000" spc="-1" strike="noStrike" u="sng">
                <a:solidFill>
                  <a:srgbClr val="97bd37"/>
                </a:solidFill>
                <a:uFillTx/>
                <a:latin typeface="Verdana"/>
                <a:hlinkClick r:id="rId12"/>
              </a:rPr>
              <a:t>商务ppt模板下载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http://www.eeppt.com/moban/shangwu/</a:t>
            </a:r>
            <a:endParaRPr b="1" lang="en-US" sz="10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97bd37"/>
                </a:solidFill>
                <a:uFillTx/>
                <a:latin typeface="Verdana"/>
                <a:hlinkClick r:id="rId13"/>
              </a:rPr>
              <a:t>市场营销策划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http://www.eeppt.com/moban/yingxiao/           </a:t>
            </a:r>
            <a:r>
              <a:rPr b="1" lang="zh-CN" sz="1000" spc="-1" strike="noStrike" u="sng">
                <a:solidFill>
                  <a:srgbClr val="97bd37"/>
                </a:solidFill>
                <a:uFillTx/>
                <a:latin typeface="Verdana"/>
                <a:hlinkClick r:id="rId14"/>
              </a:rPr>
              <a:t>ppt素材图片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http://www.eeppt.com/sucai/</a:t>
            </a:r>
            <a:endParaRPr b="1" lang="en-US" sz="10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97bd37"/>
                </a:solidFill>
                <a:uFillTx/>
                <a:latin typeface="Verdana"/>
                <a:hlinkClick r:id="rId15"/>
              </a:rPr>
              <a:t>ppt图表下载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http://www.eeppt.com/tubiao/                                    </a:t>
            </a:r>
            <a:r>
              <a:rPr b="1" lang="zh-CN" sz="1000" spc="-1" strike="noStrike" u="sng">
                <a:solidFill>
                  <a:srgbClr val="97bd37"/>
                </a:solidFill>
                <a:uFillTx/>
                <a:latin typeface="Verdana"/>
                <a:hlinkClick r:id="rId16"/>
              </a:rPr>
              <a:t>自然风景ppt模板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http://www.eeppt.com/moban/fengjing/</a:t>
            </a:r>
            <a:endParaRPr b="1" lang="en-US" sz="10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97bd37"/>
                </a:solidFill>
                <a:uFillTx/>
                <a:latin typeface="Verdana"/>
                <a:hlinkClick r:id="rId17"/>
              </a:rPr>
              <a:t>国外ppt模板下载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http://www.eeppt.com/moban/guowai/            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简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http://www.eeppt.com/moban/jianjie/</a:t>
            </a:r>
            <a:endParaRPr b="1" lang="en-US" sz="10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公司会议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http://www.eeppt.com/moban/huiyi/                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教育教学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1" lang="en-US" sz="10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网络科技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http://www.eeppt.com/moban/keji/                  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论文答辩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免费下载  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http://www.eeppt.com/moban/lunwen/</a:t>
            </a:r>
            <a:endParaRPr b="1" lang="en-US" sz="10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通用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http://www.eeppt.com/moban/tongyong/                 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医疗卫生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http://www.eeppt.com/moban/yiliao/</a:t>
            </a:r>
            <a:endParaRPr b="1" lang="en-US" sz="10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6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50CA-E3F2-46BE-883C-72BB4C803D3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2304-11012616220235-lp"/>
          <p:cNvPicPr/>
          <p:nvPr/>
        </p:nvPicPr>
        <p:blipFill>
          <a:blip r:embed="rId1"/>
          <a:stretch/>
        </p:blipFill>
        <p:spPr>
          <a:xfrm>
            <a:off x="5357880" y="2857680"/>
            <a:ext cx="3429000" cy="2952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图片3"/>
          <p:cNvPicPr/>
          <p:nvPr/>
        </p:nvPicPr>
        <p:blipFill>
          <a:blip r:embed="rId2"/>
          <a:stretch/>
        </p:blipFill>
        <p:spPr>
          <a:xfrm>
            <a:off x="214200" y="3286080"/>
            <a:ext cx="2710080" cy="264312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5"/>
          <p:cNvSpPr/>
          <p:nvPr/>
        </p:nvSpPr>
        <p:spPr>
          <a:xfrm>
            <a:off x="1038240" y="214200"/>
            <a:ext cx="4605480" cy="2521080"/>
          </a:xfrm>
          <a:prstGeom prst="wedgeEllipseCallout">
            <a:avLst>
              <a:gd name="adj1" fmla="val -38763"/>
              <a:gd name="adj2" fmla="val 56513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106640" y="214200"/>
            <a:ext cx="467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往水中不断地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加盐，盐能不断的溶解吗？食盐在水中能             无限溶解吗？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u=731782767,4121237897&amp;fm=51&amp;gp=0"/>
          <p:cNvPicPr/>
          <p:nvPr/>
        </p:nvPicPr>
        <p:blipFill>
          <a:blip r:embed="rId1"/>
          <a:stretch/>
        </p:blipFill>
        <p:spPr>
          <a:xfrm>
            <a:off x="34920" y="117360"/>
            <a:ext cx="3456000" cy="25066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2574720" y="189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食盐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084400" y="765000"/>
            <a:ext cx="131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7.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克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3" name="Picture 8" descr="2"/>
          <p:cNvPicPr/>
          <p:nvPr/>
        </p:nvPicPr>
        <p:blipFill>
          <a:blip r:embed="rId2"/>
          <a:stretch/>
        </p:blipFill>
        <p:spPr>
          <a:xfrm>
            <a:off x="428760" y="2786040"/>
            <a:ext cx="3000240" cy="38577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9"/>
          <p:cNvSpPr/>
          <p:nvPr/>
        </p:nvSpPr>
        <p:spPr>
          <a:xfrm>
            <a:off x="114480" y="2786040"/>
            <a:ext cx="121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毫升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3494160" y="2925720"/>
            <a:ext cx="5364000" cy="3889440"/>
          </a:xfrm>
          <a:prstGeom prst="cloudCallout">
            <a:avLst>
              <a:gd name="adj1" fmla="val 45592"/>
              <a:gd name="adj2" fmla="val 59194"/>
            </a:avLst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3564000" y="3500280"/>
            <a:ext cx="507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  <a:ea typeface="楷体_GB2312"/>
              </a:rPr>
              <a:t>不同物质在水中的溶解能力有大有小，那么一种物质在水中的溶解能力到底有多大呢？能用确切的数据来说明他的溶解能力是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  <a:ea typeface="楷体_GB2312"/>
              </a:rPr>
              <a:t>多少吗？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Oval 12"/>
          <p:cNvSpPr/>
          <p:nvPr/>
        </p:nvSpPr>
        <p:spPr>
          <a:xfrm rot="516600">
            <a:off x="4397400" y="482760"/>
            <a:ext cx="2503440" cy="198900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4357800" y="571680"/>
            <a:ext cx="264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需要实验来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验证。要用数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据来说明。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5"/>
          <p:cNvSpPr/>
          <p:nvPr/>
        </p:nvSpPr>
        <p:spPr>
          <a:xfrm>
            <a:off x="2484360" y="494172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0" name="Picture 4" descr="u=69665085,2831418757&amp;fm=52&amp;gp=0"/>
          <p:cNvPicPr/>
          <p:nvPr/>
        </p:nvPicPr>
        <p:blipFill>
          <a:blip r:embed="rId1"/>
          <a:stretch/>
        </p:blipFill>
        <p:spPr>
          <a:xfrm>
            <a:off x="642960" y="3855960"/>
            <a:ext cx="7894440" cy="300204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"/>
          <p:cNvSpPr/>
          <p:nvPr/>
        </p:nvSpPr>
        <p:spPr>
          <a:xfrm>
            <a:off x="285840" y="44280"/>
            <a:ext cx="8246880" cy="3813480"/>
          </a:xfrm>
          <a:custGeom>
            <a:avLst/>
            <a:gdLst>
              <a:gd name="textAreaLeft" fmla="*/ 0 w 8246880"/>
              <a:gd name="textAreaRight" fmla="*/ 8247240 w 8246880"/>
              <a:gd name="textAreaTop" fmla="*/ 495720 h 3813480"/>
              <a:gd name="textAreaBottom" fmla="*/ 3317760 h 3813480"/>
            </a:gdLst>
            <a:ahLst/>
            <a:rect l="textAreaLeft" t="textAreaTop" r="textAreaRight" b="textAreaBottom"/>
            <a:pathLst>
              <a:path w="21600" h="21600">
                <a:moveTo>
                  <a:pt x="0" y="1404"/>
                </a:moveTo>
                <a:cubicBezTo>
                  <a:pt x="3600" y="-3570"/>
                  <a:pt x="7200" y="6378"/>
                  <a:pt x="10800" y="1404"/>
                </a:cubicBezTo>
                <a:cubicBezTo>
                  <a:pt x="14400" y="-3570"/>
                  <a:pt x="18000" y="6378"/>
                  <a:pt x="21600" y="1404"/>
                </a:cubicBezTo>
                <a:lnTo>
                  <a:pt x="21600" y="20196"/>
                </a:lnTo>
                <a:cubicBezTo>
                  <a:pt x="18000" y="25170"/>
                  <a:pt x="14400" y="15222"/>
                  <a:pt x="10800" y="20196"/>
                </a:cubicBezTo>
                <a:cubicBezTo>
                  <a:pt x="7200" y="25170"/>
                  <a:pt x="3600" y="15222"/>
                  <a:pt x="0" y="20196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95280" y="6206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宋体"/>
                <a:ea typeface="楷体_GB2312"/>
              </a:rPr>
              <a:t>我们怎样来研究</a:t>
            </a:r>
            <a:r>
              <a:rPr b="1" lang="zh-CN" sz="4000" spc="-1" strike="noStrike">
                <a:solidFill>
                  <a:srgbClr val="003399"/>
                </a:solidFill>
                <a:latin typeface="宋体"/>
                <a:ea typeface="楷体_GB2312"/>
              </a:rPr>
              <a:t>食盐在一杯水中的溶解量，</a:t>
            </a:r>
            <a:r>
              <a:rPr b="1" lang="zh-CN" sz="4000" spc="-1" strike="noStrike">
                <a:solidFill>
                  <a:srgbClr val="800000"/>
                </a:solidFill>
                <a:latin typeface="宋体"/>
                <a:ea typeface="楷体_GB2312"/>
              </a:rPr>
              <a:t>知道它的</a:t>
            </a:r>
            <a:r>
              <a:rPr b="1" lang="zh-CN" sz="4000" spc="-1" strike="noStrike">
                <a:solidFill>
                  <a:srgbClr val="003399"/>
                </a:solidFill>
                <a:latin typeface="宋体"/>
                <a:ea typeface="楷体_GB2312"/>
              </a:rPr>
              <a:t>溶解能力的量</a:t>
            </a:r>
            <a:r>
              <a:rPr b="1" lang="zh-CN" sz="4000" spc="-1" strike="noStrike">
                <a:solidFill>
                  <a:srgbClr val="800000"/>
                </a:solidFill>
                <a:latin typeface="宋体"/>
                <a:ea typeface="楷体_GB2312"/>
              </a:rPr>
              <a:t>？请同学们参考课文中的一些学生对话提示，并结合前一节课的经验，想出实验的方法。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57120" y="499680"/>
            <a:ext cx="835344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Verdana"/>
                <a:ea typeface="华文行楷"/>
              </a:rPr>
              <a:t>思考：</a:t>
            </a:r>
            <a:endParaRPr b="1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我们该重点解决哪几个小问题？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怎样准备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100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毫升的水？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怎样放盐？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4" name="箭头 183"/>
          <p:cNvSpPr/>
          <p:nvPr/>
        </p:nvSpPr>
        <p:spPr>
          <a:xfrm>
            <a:off x="5508720" y="278136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箭头 183"/>
          <p:cNvSpPr/>
          <p:nvPr/>
        </p:nvSpPr>
        <p:spPr>
          <a:xfrm>
            <a:off x="2916360" y="3429000"/>
            <a:ext cx="1081080" cy="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箭头 183"/>
          <p:cNvSpPr/>
          <p:nvPr/>
        </p:nvSpPr>
        <p:spPr>
          <a:xfrm>
            <a:off x="3564000" y="5229360"/>
            <a:ext cx="1081080" cy="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3962520" y="2565360"/>
            <a:ext cx="15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539640" y="371808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份一份的放入，每份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克。等一份完全溶解后再加入一份；直到不能溶解为止。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9" name="Picture 9" descr="634528846739913750"/>
          <p:cNvPicPr/>
          <p:nvPr/>
        </p:nvPicPr>
        <p:blipFill>
          <a:blip r:embed="rId1"/>
          <a:stretch/>
        </p:blipFill>
        <p:spPr>
          <a:xfrm>
            <a:off x="6661080" y="2133720"/>
            <a:ext cx="1224000" cy="1584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0"/>
          <p:cNvSpPr/>
          <p:nvPr/>
        </p:nvSpPr>
        <p:spPr>
          <a:xfrm>
            <a:off x="324000" y="494028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怎样称量和记录？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1" name="Picture 11" descr="u=1403316393,3256048407&amp;fm=23&amp;gp=0"/>
          <p:cNvPicPr/>
          <p:nvPr/>
        </p:nvPicPr>
        <p:blipFill>
          <a:blip r:embed="rId2"/>
          <a:stretch/>
        </p:blipFill>
        <p:spPr>
          <a:xfrm>
            <a:off x="4716360" y="4797360"/>
            <a:ext cx="2592360" cy="1943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u=2476745092,2119063214&amp;fm=52&amp;gp=0"/>
          <p:cNvPicPr/>
          <p:nvPr/>
        </p:nvPicPr>
        <p:blipFill>
          <a:blip r:embed="rId3"/>
          <a:stretch/>
        </p:blipFill>
        <p:spPr>
          <a:xfrm>
            <a:off x="5003640" y="4940280"/>
            <a:ext cx="576360" cy="433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3"/>
          <p:cNvSpPr/>
          <p:nvPr/>
        </p:nvSpPr>
        <p:spPr>
          <a:xfrm>
            <a:off x="5599440" y="4940280"/>
            <a:ext cx="4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克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13840" y="857160"/>
            <a:ext cx="9107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实验条件：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）、一杯水（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毫升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）、盐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克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毫升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）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）、每次投入等量的盐（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份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）共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份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）、等溶解完了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一份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再放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二份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，直到加入的食盐不能再溶解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）、到食盐不能溶解为止算出共溶解了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几份，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算出是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多少克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。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根据这些确定的量，同学们对照课文中的研究计划，来制定本小组的研究方案。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3"/>
          <p:cNvSpPr/>
          <p:nvPr/>
        </p:nvSpPr>
        <p:spPr>
          <a:xfrm>
            <a:off x="254160" y="1052640"/>
            <a:ext cx="8638920" cy="576108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684360" y="1197000"/>
            <a:ext cx="4881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一、研究的问题：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一杯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00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毫升的水中可以溶解多少克食盐？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二、所需器材：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三、我们加入食盐的方法：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658600" y="258480"/>
            <a:ext cx="43196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我们的研究计划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3"/>
          <p:cNvSpPr/>
          <p:nvPr/>
        </p:nvSpPr>
        <p:spPr>
          <a:xfrm>
            <a:off x="254160" y="836640"/>
            <a:ext cx="8640720" cy="597708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84360" y="1197000"/>
            <a:ext cx="8208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一、研究的问题：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杯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毫升的水中可以溶解多少克食盐？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二、所需器材：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三、我们加入食盐的方法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：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等溶解完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第一份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再放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第二份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，直到加入的食盐不能再溶解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0" name="Picture 5" descr="u=1403316393,3256048407&amp;fm=23&amp;gp=0"/>
          <p:cNvPicPr/>
          <p:nvPr/>
        </p:nvPicPr>
        <p:blipFill>
          <a:blip r:embed="rId1"/>
          <a:stretch/>
        </p:blipFill>
        <p:spPr>
          <a:xfrm>
            <a:off x="684360" y="3573360"/>
            <a:ext cx="1511280" cy="1224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u=2476745092,2119063214&amp;fm=52&amp;gp=0"/>
          <p:cNvPicPr/>
          <p:nvPr/>
        </p:nvPicPr>
        <p:blipFill>
          <a:blip r:embed="rId2"/>
          <a:stretch/>
        </p:blipFill>
        <p:spPr>
          <a:xfrm>
            <a:off x="2195640" y="3141720"/>
            <a:ext cx="1369800" cy="1297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1601d"/>
          <p:cNvPicPr/>
          <p:nvPr/>
        </p:nvPicPr>
        <p:blipFill>
          <a:blip r:embed="rId3"/>
          <a:stretch/>
        </p:blipFill>
        <p:spPr>
          <a:xfrm>
            <a:off x="5079960" y="2206800"/>
            <a:ext cx="3021120" cy="21621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2261520" y="450864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张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5653080" y="4437000"/>
            <a:ext cx="266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克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毫升    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5" name="Picture 10" descr="u=1481253570,872048180&amp;fm=23&amp;gp=0"/>
          <p:cNvPicPr/>
          <p:nvPr/>
        </p:nvPicPr>
        <p:blipFill>
          <a:blip r:embed="rId4"/>
          <a:stretch/>
        </p:blipFill>
        <p:spPr>
          <a:xfrm>
            <a:off x="3637080" y="3284640"/>
            <a:ext cx="1295280" cy="100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1"/>
          <p:cNvSpPr/>
          <p:nvPr/>
        </p:nvSpPr>
        <p:spPr>
          <a:xfrm>
            <a:off x="3721680" y="4508640"/>
            <a:ext cx="7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克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7" name="Picture 12" descr="u=2476745092,2119063214&amp;fm=52&amp;gp=0"/>
          <p:cNvPicPr/>
          <p:nvPr/>
        </p:nvPicPr>
        <p:blipFill>
          <a:blip r:embed="rId5"/>
          <a:stretch/>
        </p:blipFill>
        <p:spPr>
          <a:xfrm>
            <a:off x="468360" y="3213000"/>
            <a:ext cx="718920" cy="647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u=1481253570,872048180&amp;fm=23&amp;gp=0"/>
          <p:cNvPicPr/>
          <p:nvPr/>
        </p:nvPicPr>
        <p:blipFill>
          <a:blip r:embed="rId6"/>
          <a:stretch/>
        </p:blipFill>
        <p:spPr>
          <a:xfrm>
            <a:off x="468360" y="2708280"/>
            <a:ext cx="718920" cy="6476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4"/>
          <p:cNvSpPr/>
          <p:nvPr/>
        </p:nvSpPr>
        <p:spPr>
          <a:xfrm>
            <a:off x="1341360" y="285264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总重量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克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2836440" y="260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我们的研究记录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0" y="982800"/>
          <a:ext cx="9109080" cy="4943160"/>
        </p:xfrm>
        <a:graphic>
          <a:graphicData uri="http://schemas.openxmlformats.org/drawingml/2006/table">
            <a:tbl>
              <a:tblPr/>
              <a:tblGrid>
                <a:gridCol w="1420920"/>
                <a:gridCol w="912600"/>
                <a:gridCol w="885960"/>
                <a:gridCol w="941400"/>
                <a:gridCol w="885960"/>
                <a:gridCol w="842760"/>
                <a:gridCol w="828720"/>
                <a:gridCol w="844560"/>
                <a:gridCol w="828720"/>
                <a:gridCol w="717480"/>
              </a:tblGrid>
              <a:tr h="80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加入的食盐量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克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份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份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份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份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份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份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份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份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9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份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是否溶解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我们的实验结果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一杯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毫升的水中可以溶解</a:t>
                      </a:r>
                      <a:r>
                        <a:rPr b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克食盐。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其他小组的实验结果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最多的，溶解</a:t>
                      </a:r>
                      <a:r>
                        <a:rPr b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克食盐。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大多数，溶解</a:t>
                      </a:r>
                      <a:r>
                        <a:rPr b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克食盐。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最少的，溶解</a:t>
                      </a:r>
                      <a:r>
                        <a:rPr b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克食盐。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我们发现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最后溶解在第（  ）份，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毫升水的溶解量达到（ ）克。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13:02:0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4:59:43Z</dcterms:modified>
  <cp:revision>5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