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EC63-2391-4AC4-BBEA-4500EF9B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9FB8-EF39-4047-A177-155F63C1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89A7-18FF-432D-9E66-783A2424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98AA-8675-4E0C-88EE-ABCFA152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B986-186C-4B6F-AC51-F3B580C4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223C-170B-42F6-A639-E8DC0878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FDA8-DABC-49D6-89CF-978F3A72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CA37-0509-4539-BDFA-E43E4456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9D06-5EA5-4FCE-86DC-A4AEE307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803B-EA97-4282-A3AC-E8ED7DD8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77DD-F86F-46F0-A4A3-FC965597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7107-4AE5-49F9-83E7-199A4872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2E6F-9835-4FBB-8EBF-3B54F585259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2F9D-2151-4E83-8B9E-700C64E7B0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7360" y="2130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微软雅黑"/>
              </a:rPr>
              <a:t>8</a:t>
            </a:r>
            <a:r>
              <a:rPr b="1" lang="zh-CN" sz="9600" spc="-1" strike="noStrike">
                <a:solidFill>
                  <a:srgbClr val="000000"/>
                </a:solidFill>
                <a:latin typeface="微软雅黑"/>
              </a:rPr>
              <a:t>加几</a:t>
            </a:r>
            <a:endParaRPr b="1" lang="en-US" sz="9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矩形 7"/>
          <p:cNvSpPr/>
          <p:nvPr/>
        </p:nvSpPr>
        <p:spPr>
          <a:xfrm>
            <a:off x="99000" y="63025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Mypsd_63229_201107231737130002B"/>
          <p:cNvPicPr/>
          <p:nvPr/>
        </p:nvPicPr>
        <p:blipFill>
          <a:blip r:embed="rId2"/>
          <a:stretch/>
        </p:blipFill>
        <p:spPr>
          <a:xfrm>
            <a:off x="4402080" y="878040"/>
            <a:ext cx="2095560" cy="3141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771560" y="1060560"/>
            <a:ext cx="18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+9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 rot="19680000">
            <a:off x="4335480" y="1457280"/>
            <a:ext cx="900000" cy="88740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860640" y="2943360"/>
            <a:ext cx="9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7"/>
          <p:cNvSpPr/>
          <p:nvPr/>
        </p:nvSpPr>
        <p:spPr>
          <a:xfrm rot="16320000">
            <a:off x="4038480" y="2269800"/>
            <a:ext cx="495360" cy="851040"/>
          </a:xfrm>
          <a:custGeom>
            <a:avLst/>
            <a:gdLst>
              <a:gd name="textAreaLeft" fmla="*/ 316440 w 495360"/>
              <a:gd name="textAreaRight" fmla="*/ 495720 w 495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3762360" y="1925640"/>
            <a:ext cx="3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2989440" y="1060560"/>
            <a:ext cx="8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" descr="Mypsd_63229_201107231737130002B"/>
          <p:cNvPicPr/>
          <p:nvPr/>
        </p:nvPicPr>
        <p:blipFill>
          <a:blip r:embed="rId3"/>
          <a:stretch/>
        </p:blipFill>
        <p:spPr>
          <a:xfrm rot="21420000">
            <a:off x="6497280" y="993240"/>
            <a:ext cx="2093760" cy="31435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1"/>
          <p:cNvSpPr/>
          <p:nvPr/>
        </p:nvSpPr>
        <p:spPr>
          <a:xfrm rot="1380000">
            <a:off x="7921440" y="1976040"/>
            <a:ext cx="898200" cy="133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Mypsd_63229_201107231737130002B"/>
          <p:cNvPicPr/>
          <p:nvPr/>
        </p:nvPicPr>
        <p:blipFill>
          <a:blip r:embed="rId2"/>
          <a:stretch/>
        </p:blipFill>
        <p:spPr>
          <a:xfrm>
            <a:off x="4402080" y="878040"/>
            <a:ext cx="2095560" cy="3141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771560" y="1060560"/>
            <a:ext cx="18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"/>
          <p:cNvSpPr/>
          <p:nvPr/>
        </p:nvSpPr>
        <p:spPr>
          <a:xfrm rot="19680000">
            <a:off x="4401720" y="1689120"/>
            <a:ext cx="504720" cy="74916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3860640" y="2943360"/>
            <a:ext cx="9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 rot="16320000">
            <a:off x="4038480" y="2269800"/>
            <a:ext cx="495360" cy="851040"/>
          </a:xfrm>
          <a:custGeom>
            <a:avLst/>
            <a:gdLst>
              <a:gd name="textAreaLeft" fmla="*/ 316440 w 495360"/>
              <a:gd name="textAreaRight" fmla="*/ 495720 w 495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3762360" y="1925640"/>
            <a:ext cx="3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2989440" y="1060560"/>
            <a:ext cx="8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0" descr="Mypsd_63229_201107231737130002B"/>
          <p:cNvPicPr/>
          <p:nvPr/>
        </p:nvPicPr>
        <p:blipFill>
          <a:blip r:embed="rId3"/>
          <a:stretch/>
        </p:blipFill>
        <p:spPr>
          <a:xfrm rot="21420000">
            <a:off x="6497280" y="993240"/>
            <a:ext cx="2093760" cy="31435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1"/>
          <p:cNvSpPr/>
          <p:nvPr/>
        </p:nvSpPr>
        <p:spPr>
          <a:xfrm rot="21060000">
            <a:off x="7640640" y="1093680"/>
            <a:ext cx="1395360" cy="19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练习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457200" y="1417680"/>
            <a:ext cx="1866960" cy="1900080"/>
            <a:chOff x="457200" y="1417680"/>
            <a:chExt cx="1866960" cy="1900080"/>
          </a:xfrm>
        </p:grpSpPr>
        <p:sp>
          <p:nvSpPr>
            <p:cNvPr id="192" name="Text Box 4"/>
            <p:cNvSpPr/>
            <p:nvPr/>
          </p:nvSpPr>
          <p:spPr>
            <a:xfrm>
              <a:off x="1126080" y="1417680"/>
              <a:ext cx="30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 flipH="1">
              <a:off x="1023840" y="1948320"/>
              <a:ext cx="309600" cy="46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6"/>
            <p:cNvSpPr/>
            <p:nvPr/>
          </p:nvSpPr>
          <p:spPr>
            <a:xfrm>
              <a:off x="1333800" y="1948320"/>
              <a:ext cx="296280" cy="46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7"/>
            <p:cNvSpPr/>
            <p:nvPr/>
          </p:nvSpPr>
          <p:spPr>
            <a:xfrm>
              <a:off x="457200" y="1417680"/>
              <a:ext cx="30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8"/>
            <p:cNvSpPr/>
            <p:nvPr/>
          </p:nvSpPr>
          <p:spPr>
            <a:xfrm>
              <a:off x="869040" y="1417680"/>
              <a:ext cx="30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 flipH="1">
              <a:off x="694080" y="1949040"/>
              <a:ext cx="360" cy="13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747000" y="2414880"/>
              <a:ext cx="431640" cy="4316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1333800" y="2414880"/>
              <a:ext cx="431280" cy="4316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 flipH="1">
              <a:off x="1023480" y="2847240"/>
              <a:ext cx="36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3"/>
            <p:cNvSpPr/>
            <p:nvPr/>
          </p:nvSpPr>
          <p:spPr>
            <a:xfrm flipH="1">
              <a:off x="694440" y="3317400"/>
              <a:ext cx="3096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4"/>
            <p:cNvSpPr/>
            <p:nvPr/>
          </p:nvSpPr>
          <p:spPr>
            <a:xfrm>
              <a:off x="1475280" y="1417680"/>
              <a:ext cx="30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5"/>
            <p:cNvSpPr/>
            <p:nvPr/>
          </p:nvSpPr>
          <p:spPr>
            <a:xfrm>
              <a:off x="1892520" y="1521720"/>
              <a:ext cx="431640" cy="4316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16"/>
          <p:cNvGrpSpPr/>
          <p:nvPr/>
        </p:nvGrpSpPr>
        <p:grpSpPr>
          <a:xfrm>
            <a:off x="5651640" y="1270080"/>
            <a:ext cx="1868400" cy="1898640"/>
            <a:chOff x="5651640" y="1270080"/>
            <a:chExt cx="1868400" cy="1898640"/>
          </a:xfrm>
        </p:grpSpPr>
        <p:sp>
          <p:nvSpPr>
            <p:cNvPr id="205" name="Text Box 17"/>
            <p:cNvSpPr/>
            <p:nvPr/>
          </p:nvSpPr>
          <p:spPr>
            <a:xfrm>
              <a:off x="6321240" y="1270080"/>
              <a:ext cx="30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8"/>
            <p:cNvSpPr/>
            <p:nvPr/>
          </p:nvSpPr>
          <p:spPr>
            <a:xfrm flipH="1">
              <a:off x="6218640" y="1800360"/>
              <a:ext cx="30996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9"/>
            <p:cNvSpPr/>
            <p:nvPr/>
          </p:nvSpPr>
          <p:spPr>
            <a:xfrm>
              <a:off x="6528960" y="1800360"/>
              <a:ext cx="29664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0"/>
            <p:cNvSpPr/>
            <p:nvPr/>
          </p:nvSpPr>
          <p:spPr>
            <a:xfrm>
              <a:off x="5651640" y="1270080"/>
              <a:ext cx="30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1"/>
            <p:cNvSpPr/>
            <p:nvPr/>
          </p:nvSpPr>
          <p:spPr>
            <a:xfrm>
              <a:off x="6063840" y="1270080"/>
              <a:ext cx="30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22"/>
            <p:cNvSpPr/>
            <p:nvPr/>
          </p:nvSpPr>
          <p:spPr>
            <a:xfrm flipH="1">
              <a:off x="5888880" y="1801080"/>
              <a:ext cx="72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23"/>
            <p:cNvSpPr/>
            <p:nvPr/>
          </p:nvSpPr>
          <p:spPr>
            <a:xfrm>
              <a:off x="5941800" y="2266560"/>
              <a:ext cx="432000" cy="4312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24"/>
            <p:cNvSpPr/>
            <p:nvPr/>
          </p:nvSpPr>
          <p:spPr>
            <a:xfrm>
              <a:off x="6528960" y="2266560"/>
              <a:ext cx="431640" cy="4312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25"/>
            <p:cNvSpPr/>
            <p:nvPr/>
          </p:nvSpPr>
          <p:spPr>
            <a:xfrm flipH="1">
              <a:off x="6218640" y="2698560"/>
              <a:ext cx="360" cy="46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6"/>
            <p:cNvSpPr/>
            <p:nvPr/>
          </p:nvSpPr>
          <p:spPr>
            <a:xfrm flipH="1">
              <a:off x="5888520" y="3168360"/>
              <a:ext cx="3099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7"/>
            <p:cNvSpPr/>
            <p:nvPr/>
          </p:nvSpPr>
          <p:spPr>
            <a:xfrm>
              <a:off x="6670440" y="1270080"/>
              <a:ext cx="30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28"/>
            <p:cNvSpPr/>
            <p:nvPr/>
          </p:nvSpPr>
          <p:spPr>
            <a:xfrm>
              <a:off x="7088040" y="1373760"/>
              <a:ext cx="432000" cy="4312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9"/>
          <p:cNvGrpSpPr/>
          <p:nvPr/>
        </p:nvGrpSpPr>
        <p:grpSpPr>
          <a:xfrm>
            <a:off x="2898720" y="1397160"/>
            <a:ext cx="1866960" cy="1898640"/>
            <a:chOff x="2898720" y="1397160"/>
            <a:chExt cx="1866960" cy="1898640"/>
          </a:xfrm>
        </p:grpSpPr>
        <p:sp>
          <p:nvSpPr>
            <p:cNvPr id="218" name="Text Box 30"/>
            <p:cNvSpPr/>
            <p:nvPr/>
          </p:nvSpPr>
          <p:spPr>
            <a:xfrm>
              <a:off x="3567600" y="1397160"/>
              <a:ext cx="30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31"/>
            <p:cNvSpPr/>
            <p:nvPr/>
          </p:nvSpPr>
          <p:spPr>
            <a:xfrm flipH="1">
              <a:off x="3465360" y="1927440"/>
              <a:ext cx="30960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32"/>
            <p:cNvSpPr/>
            <p:nvPr/>
          </p:nvSpPr>
          <p:spPr>
            <a:xfrm>
              <a:off x="3775320" y="1927440"/>
              <a:ext cx="29628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33"/>
            <p:cNvSpPr/>
            <p:nvPr/>
          </p:nvSpPr>
          <p:spPr>
            <a:xfrm>
              <a:off x="2898720" y="1397160"/>
              <a:ext cx="30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34"/>
            <p:cNvSpPr/>
            <p:nvPr/>
          </p:nvSpPr>
          <p:spPr>
            <a:xfrm>
              <a:off x="3310560" y="1397160"/>
              <a:ext cx="30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5"/>
            <p:cNvSpPr/>
            <p:nvPr/>
          </p:nvSpPr>
          <p:spPr>
            <a:xfrm flipH="1">
              <a:off x="3135600" y="1928160"/>
              <a:ext cx="36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6"/>
            <p:cNvSpPr/>
            <p:nvPr/>
          </p:nvSpPr>
          <p:spPr>
            <a:xfrm>
              <a:off x="3188520" y="2393640"/>
              <a:ext cx="431640" cy="4312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7"/>
            <p:cNvSpPr/>
            <p:nvPr/>
          </p:nvSpPr>
          <p:spPr>
            <a:xfrm>
              <a:off x="3775320" y="2393640"/>
              <a:ext cx="431280" cy="4312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 flipH="1">
              <a:off x="3465000" y="2825640"/>
              <a:ext cx="360" cy="46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 flipH="1">
              <a:off x="3135960" y="3295440"/>
              <a:ext cx="3096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0"/>
            <p:cNvSpPr/>
            <p:nvPr/>
          </p:nvSpPr>
          <p:spPr>
            <a:xfrm>
              <a:off x="3916800" y="1397160"/>
              <a:ext cx="30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41"/>
            <p:cNvSpPr/>
            <p:nvPr/>
          </p:nvSpPr>
          <p:spPr>
            <a:xfrm>
              <a:off x="4334040" y="1500840"/>
              <a:ext cx="431640" cy="4312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42"/>
          <p:cNvSpPr/>
          <p:nvPr/>
        </p:nvSpPr>
        <p:spPr>
          <a:xfrm>
            <a:off x="774720" y="3772080"/>
            <a:ext cx="826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6+8=    8+3=    8+2=    2+6+5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9-1+4=    8+9=    18-10+7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微软雅黑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微软雅黑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微软雅黑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4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5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6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7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8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9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10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11"/>
              </a:rPr>
              <a:t>课件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</a:rPr>
              <a:t>/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kejian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12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13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14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15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16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17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18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19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5352-D7AC-4AA4-A9EF-C783B22877C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149"/>
          <p:cNvPicPr/>
          <p:nvPr/>
        </p:nvPicPr>
        <p:blipFill>
          <a:blip r:embed="rId2"/>
          <a:stretch/>
        </p:blipFill>
        <p:spPr>
          <a:xfrm>
            <a:off x="2916360" y="274680"/>
            <a:ext cx="4262400" cy="19479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4573440" y="274680"/>
            <a:ext cx="2460600" cy="576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2916360" y="2927520"/>
            <a:ext cx="18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8+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5"/>
          <p:cNvGrpSpPr/>
          <p:nvPr/>
        </p:nvGrpSpPr>
        <p:grpSpPr>
          <a:xfrm>
            <a:off x="2540160" y="3741840"/>
            <a:ext cx="3201480" cy="835920"/>
            <a:chOff x="2540160" y="3741840"/>
            <a:chExt cx="3201480" cy="835920"/>
          </a:xfrm>
        </p:grpSpPr>
        <p:sp>
          <p:nvSpPr>
            <p:cNvPr id="48" name="AutoShape 6"/>
            <p:cNvSpPr/>
            <p:nvPr/>
          </p:nvSpPr>
          <p:spPr>
            <a:xfrm>
              <a:off x="2557080" y="3798360"/>
              <a:ext cx="3184560" cy="72216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7"/>
            <p:cNvSpPr/>
            <p:nvPr/>
          </p:nvSpPr>
          <p:spPr>
            <a:xfrm>
              <a:off x="2557080" y="3798360"/>
              <a:ext cx="288000" cy="289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8"/>
            <p:cNvSpPr/>
            <p:nvPr/>
          </p:nvSpPr>
          <p:spPr>
            <a:xfrm>
              <a:off x="2972520" y="3798360"/>
              <a:ext cx="288000" cy="289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9"/>
            <p:cNvSpPr/>
            <p:nvPr/>
          </p:nvSpPr>
          <p:spPr>
            <a:xfrm>
              <a:off x="2540160" y="4214880"/>
              <a:ext cx="288000" cy="289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10"/>
            <p:cNvSpPr/>
            <p:nvPr/>
          </p:nvSpPr>
          <p:spPr>
            <a:xfrm>
              <a:off x="2972520" y="4214880"/>
              <a:ext cx="288000" cy="289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1"/>
            <p:cNvSpPr/>
            <p:nvPr/>
          </p:nvSpPr>
          <p:spPr>
            <a:xfrm>
              <a:off x="3404880" y="3798360"/>
              <a:ext cx="288000" cy="289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2"/>
            <p:cNvSpPr/>
            <p:nvPr/>
          </p:nvSpPr>
          <p:spPr>
            <a:xfrm>
              <a:off x="3404880" y="4214880"/>
              <a:ext cx="288000" cy="289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3"/>
            <p:cNvSpPr/>
            <p:nvPr/>
          </p:nvSpPr>
          <p:spPr>
            <a:xfrm>
              <a:off x="3852720" y="3781440"/>
              <a:ext cx="288000" cy="289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4"/>
            <p:cNvSpPr/>
            <p:nvPr/>
          </p:nvSpPr>
          <p:spPr>
            <a:xfrm>
              <a:off x="3852720" y="4214880"/>
              <a:ext cx="288000" cy="289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5"/>
            <p:cNvSpPr/>
            <p:nvPr/>
          </p:nvSpPr>
          <p:spPr>
            <a:xfrm rot="3300000">
              <a:off x="4425840" y="3816000"/>
              <a:ext cx="289080" cy="28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6"/>
            <p:cNvSpPr/>
            <p:nvPr/>
          </p:nvSpPr>
          <p:spPr>
            <a:xfrm rot="3300000">
              <a:off x="4425840" y="4232520"/>
              <a:ext cx="289080" cy="28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7"/>
            <p:cNvSpPr/>
            <p:nvPr/>
          </p:nvSpPr>
          <p:spPr>
            <a:xfrm rot="3300000">
              <a:off x="4873680" y="3798720"/>
              <a:ext cx="289080" cy="28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8"/>
            <p:cNvSpPr/>
            <p:nvPr/>
          </p:nvSpPr>
          <p:spPr>
            <a:xfrm rot="3300000">
              <a:off x="4873680" y="4232520"/>
              <a:ext cx="289080" cy="28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9"/>
            <p:cNvSpPr/>
            <p:nvPr/>
          </p:nvSpPr>
          <p:spPr>
            <a:xfrm rot="3300000">
              <a:off x="5288760" y="3816000"/>
              <a:ext cx="289080" cy="28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Oval 20"/>
          <p:cNvSpPr/>
          <p:nvPr/>
        </p:nvSpPr>
        <p:spPr>
          <a:xfrm>
            <a:off x="2303640" y="3359160"/>
            <a:ext cx="2449440" cy="15843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1"/>
          <p:cNvSpPr/>
          <p:nvPr/>
        </p:nvSpPr>
        <p:spPr>
          <a:xfrm>
            <a:off x="4789440" y="3467160"/>
            <a:ext cx="1440000" cy="13683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3811680" y="2927520"/>
            <a:ext cx="5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4324320" y="2927520"/>
            <a:ext cx="11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6362640" y="3054240"/>
            <a:ext cx="18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8+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5"/>
          <p:cNvSpPr/>
          <p:nvPr/>
        </p:nvSpPr>
        <p:spPr>
          <a:xfrm flipH="1">
            <a:off x="6732360" y="3568680"/>
            <a:ext cx="301320" cy="4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6"/>
          <p:cNvSpPr/>
          <p:nvPr/>
        </p:nvSpPr>
        <p:spPr>
          <a:xfrm>
            <a:off x="7157880" y="3573360"/>
            <a:ext cx="24948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6483240" y="4011480"/>
            <a:ext cx="5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7157880" y="4011480"/>
            <a:ext cx="6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9"/>
          <p:cNvSpPr/>
          <p:nvPr/>
        </p:nvSpPr>
        <p:spPr>
          <a:xfrm>
            <a:off x="6485040" y="3575160"/>
            <a:ext cx="0" cy="13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0"/>
          <p:cNvSpPr/>
          <p:nvPr/>
        </p:nvSpPr>
        <p:spPr>
          <a:xfrm>
            <a:off x="6483240" y="4888080"/>
            <a:ext cx="249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1"/>
          <p:cNvSpPr/>
          <p:nvPr/>
        </p:nvSpPr>
        <p:spPr>
          <a:xfrm>
            <a:off x="6734160" y="4651200"/>
            <a:ext cx="0" cy="23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2"/>
          <p:cNvSpPr/>
          <p:nvPr/>
        </p:nvSpPr>
        <p:spPr>
          <a:xfrm>
            <a:off x="6148440" y="48895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7281720" y="3076560"/>
            <a:ext cx="6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4"/>
          <p:cNvSpPr/>
          <p:nvPr/>
        </p:nvSpPr>
        <p:spPr>
          <a:xfrm>
            <a:off x="7832880" y="3054240"/>
            <a:ext cx="98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5" descr="150"/>
          <p:cNvPicPr/>
          <p:nvPr/>
        </p:nvPicPr>
        <p:blipFill>
          <a:blip r:embed="rId3"/>
          <a:stretch/>
        </p:blipFill>
        <p:spPr>
          <a:xfrm>
            <a:off x="-1440" y="4651200"/>
            <a:ext cx="2305080" cy="134964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36"/>
          <p:cNvGrpSpPr/>
          <p:nvPr/>
        </p:nvGrpSpPr>
        <p:grpSpPr>
          <a:xfrm>
            <a:off x="2724120" y="5121360"/>
            <a:ext cx="3200400" cy="834480"/>
            <a:chOff x="2724120" y="5121360"/>
            <a:chExt cx="3200400" cy="834480"/>
          </a:xfrm>
        </p:grpSpPr>
        <p:sp>
          <p:nvSpPr>
            <p:cNvPr id="79" name="AutoShape 6"/>
            <p:cNvSpPr/>
            <p:nvPr/>
          </p:nvSpPr>
          <p:spPr>
            <a:xfrm>
              <a:off x="2741040" y="5177880"/>
              <a:ext cx="3183480" cy="7207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7"/>
            <p:cNvSpPr/>
            <p:nvPr/>
          </p:nvSpPr>
          <p:spPr>
            <a:xfrm>
              <a:off x="2741040" y="5177880"/>
              <a:ext cx="288000" cy="288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"/>
            <p:cNvSpPr/>
            <p:nvPr/>
          </p:nvSpPr>
          <p:spPr>
            <a:xfrm>
              <a:off x="3156120" y="5177880"/>
              <a:ext cx="288000" cy="288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9"/>
            <p:cNvSpPr/>
            <p:nvPr/>
          </p:nvSpPr>
          <p:spPr>
            <a:xfrm>
              <a:off x="2724120" y="5593680"/>
              <a:ext cx="288000" cy="288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0"/>
            <p:cNvSpPr/>
            <p:nvPr/>
          </p:nvSpPr>
          <p:spPr>
            <a:xfrm>
              <a:off x="3156120" y="5593680"/>
              <a:ext cx="288000" cy="288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1"/>
            <p:cNvSpPr/>
            <p:nvPr/>
          </p:nvSpPr>
          <p:spPr>
            <a:xfrm>
              <a:off x="3588480" y="5177880"/>
              <a:ext cx="288000" cy="288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2"/>
            <p:cNvSpPr/>
            <p:nvPr/>
          </p:nvSpPr>
          <p:spPr>
            <a:xfrm>
              <a:off x="3588480" y="5593680"/>
              <a:ext cx="288000" cy="288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3"/>
            <p:cNvSpPr/>
            <p:nvPr/>
          </p:nvSpPr>
          <p:spPr>
            <a:xfrm>
              <a:off x="4035960" y="5160960"/>
              <a:ext cx="288000" cy="288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4"/>
            <p:cNvSpPr/>
            <p:nvPr/>
          </p:nvSpPr>
          <p:spPr>
            <a:xfrm>
              <a:off x="4035960" y="5593680"/>
              <a:ext cx="288000" cy="288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5"/>
            <p:cNvSpPr/>
            <p:nvPr/>
          </p:nvSpPr>
          <p:spPr>
            <a:xfrm rot="3300000">
              <a:off x="4609080" y="5195160"/>
              <a:ext cx="288360" cy="28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6"/>
            <p:cNvSpPr/>
            <p:nvPr/>
          </p:nvSpPr>
          <p:spPr>
            <a:xfrm rot="3300000">
              <a:off x="4609080" y="5610960"/>
              <a:ext cx="288360" cy="28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7"/>
            <p:cNvSpPr/>
            <p:nvPr/>
          </p:nvSpPr>
          <p:spPr>
            <a:xfrm rot="3300000">
              <a:off x="5056560" y="5177880"/>
              <a:ext cx="288360" cy="28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8"/>
            <p:cNvSpPr/>
            <p:nvPr/>
          </p:nvSpPr>
          <p:spPr>
            <a:xfrm rot="3300000">
              <a:off x="5056560" y="5610960"/>
              <a:ext cx="288360" cy="28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9"/>
            <p:cNvSpPr/>
            <p:nvPr/>
          </p:nvSpPr>
          <p:spPr>
            <a:xfrm rot="3300000">
              <a:off x="5471640" y="5195160"/>
              <a:ext cx="288360" cy="28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Oval 51"/>
          <p:cNvSpPr/>
          <p:nvPr/>
        </p:nvSpPr>
        <p:spPr>
          <a:xfrm>
            <a:off x="4573440" y="516096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2"/>
          <p:cNvSpPr/>
          <p:nvPr/>
        </p:nvSpPr>
        <p:spPr>
          <a:xfrm>
            <a:off x="5060880" y="5160960"/>
            <a:ext cx="35892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3"/>
          <p:cNvSpPr/>
          <p:nvPr/>
        </p:nvSpPr>
        <p:spPr>
          <a:xfrm>
            <a:off x="5419800" y="5108400"/>
            <a:ext cx="36036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4"/>
          <p:cNvSpPr/>
          <p:nvPr/>
        </p:nvSpPr>
        <p:spPr>
          <a:xfrm>
            <a:off x="4573440" y="553896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5"/>
          <p:cNvSpPr/>
          <p:nvPr/>
        </p:nvSpPr>
        <p:spPr>
          <a:xfrm>
            <a:off x="5060880" y="5538960"/>
            <a:ext cx="35892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Mypsd_63229_201107231737130002B"/>
          <p:cNvPicPr/>
          <p:nvPr/>
        </p:nvPicPr>
        <p:blipFill>
          <a:blip r:embed="rId2"/>
          <a:stretch/>
        </p:blipFill>
        <p:spPr>
          <a:xfrm>
            <a:off x="4356000" y="620640"/>
            <a:ext cx="2521080" cy="37814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5365800" y="1060560"/>
            <a:ext cx="1800000" cy="20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771560" y="1060560"/>
            <a:ext cx="18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+2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"/>
          <p:cNvSpPr/>
          <p:nvPr/>
        </p:nvSpPr>
        <p:spPr>
          <a:xfrm rot="19680000">
            <a:off x="4330800" y="1241280"/>
            <a:ext cx="1379520" cy="116388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860640" y="2943360"/>
            <a:ext cx="9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 rot="16320000">
            <a:off x="4038480" y="2269800"/>
            <a:ext cx="495360" cy="851040"/>
          </a:xfrm>
          <a:custGeom>
            <a:avLst/>
            <a:gdLst>
              <a:gd name="textAreaLeft" fmla="*/ 316440 w 495360"/>
              <a:gd name="textAreaRight" fmla="*/ 495720 w 495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762360" y="1925640"/>
            <a:ext cx="3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2989440" y="1060560"/>
            <a:ext cx="8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"/>
          <p:cNvSpPr/>
          <p:nvPr/>
        </p:nvSpPr>
        <p:spPr>
          <a:xfrm>
            <a:off x="331920" y="5423040"/>
            <a:ext cx="87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Mypsd_63229_201107231737130002B"/>
          <p:cNvPicPr/>
          <p:nvPr/>
        </p:nvPicPr>
        <p:blipFill>
          <a:blip r:embed="rId2"/>
          <a:stretch/>
        </p:blipFill>
        <p:spPr>
          <a:xfrm>
            <a:off x="4356000" y="620640"/>
            <a:ext cx="2521080" cy="3781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5724360" y="1060560"/>
            <a:ext cx="1800360" cy="20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771560" y="1060560"/>
            <a:ext cx="18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+3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5"/>
          <p:cNvSpPr/>
          <p:nvPr/>
        </p:nvSpPr>
        <p:spPr>
          <a:xfrm rot="19680000">
            <a:off x="4304880" y="1349280"/>
            <a:ext cx="1040040" cy="96372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860640" y="2943360"/>
            <a:ext cx="9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 rot="16320000">
            <a:off x="4038480" y="2269800"/>
            <a:ext cx="495360" cy="851040"/>
          </a:xfrm>
          <a:custGeom>
            <a:avLst/>
            <a:gdLst>
              <a:gd name="textAreaLeft" fmla="*/ 316440 w 495360"/>
              <a:gd name="textAreaRight" fmla="*/ 495720 w 495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3762360" y="1925640"/>
            <a:ext cx="3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2989440" y="1060560"/>
            <a:ext cx="8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Mypsd_63229_201107231737130002B"/>
          <p:cNvPicPr/>
          <p:nvPr/>
        </p:nvPicPr>
        <p:blipFill>
          <a:blip r:embed="rId2"/>
          <a:stretch/>
        </p:blipFill>
        <p:spPr>
          <a:xfrm>
            <a:off x="4356000" y="620640"/>
            <a:ext cx="2521080" cy="37814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6227640" y="1413000"/>
            <a:ext cx="1800360" cy="20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771560" y="1060560"/>
            <a:ext cx="18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+4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"/>
          <p:cNvSpPr/>
          <p:nvPr/>
        </p:nvSpPr>
        <p:spPr>
          <a:xfrm rot="19680000">
            <a:off x="4335120" y="1182600"/>
            <a:ext cx="1042920" cy="139392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860640" y="2943360"/>
            <a:ext cx="9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 rot="16320000">
            <a:off x="4038480" y="2269800"/>
            <a:ext cx="495360" cy="851040"/>
          </a:xfrm>
          <a:custGeom>
            <a:avLst/>
            <a:gdLst>
              <a:gd name="textAreaLeft" fmla="*/ 316440 w 495360"/>
              <a:gd name="textAreaRight" fmla="*/ 495720 w 495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762360" y="1925640"/>
            <a:ext cx="3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989440" y="1060560"/>
            <a:ext cx="8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Mypsd_63229_201107231737130002B"/>
          <p:cNvPicPr/>
          <p:nvPr/>
        </p:nvPicPr>
        <p:blipFill>
          <a:blip r:embed="rId2"/>
          <a:stretch/>
        </p:blipFill>
        <p:spPr>
          <a:xfrm>
            <a:off x="4356000" y="620640"/>
            <a:ext cx="2521080" cy="37814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6877080" y="3933720"/>
            <a:ext cx="180036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771560" y="1060560"/>
            <a:ext cx="18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+5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5"/>
          <p:cNvSpPr/>
          <p:nvPr/>
        </p:nvSpPr>
        <p:spPr>
          <a:xfrm rot="19680000">
            <a:off x="4287960" y="1290240"/>
            <a:ext cx="1136520" cy="100008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860640" y="2943360"/>
            <a:ext cx="9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 rot="16320000">
            <a:off x="4038480" y="2269800"/>
            <a:ext cx="495360" cy="851040"/>
          </a:xfrm>
          <a:custGeom>
            <a:avLst/>
            <a:gdLst>
              <a:gd name="textAreaLeft" fmla="*/ 316440 w 495360"/>
              <a:gd name="textAreaRight" fmla="*/ 495720 w 495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762360" y="1925640"/>
            <a:ext cx="3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2989440" y="1060560"/>
            <a:ext cx="8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14"/>
          <p:cNvSpPr/>
          <p:nvPr/>
        </p:nvSpPr>
        <p:spPr>
          <a:xfrm>
            <a:off x="4475160" y="37670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Mypsd_63229_201107231737130002B"/>
          <p:cNvPicPr/>
          <p:nvPr/>
        </p:nvPicPr>
        <p:blipFill>
          <a:blip r:embed="rId2"/>
          <a:stretch/>
        </p:blipFill>
        <p:spPr>
          <a:xfrm>
            <a:off x="4402080" y="878040"/>
            <a:ext cx="2095560" cy="3141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771560" y="1060560"/>
            <a:ext cx="18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+6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 rot="19680000">
            <a:off x="4316040" y="1390320"/>
            <a:ext cx="979560" cy="93672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60640" y="2943360"/>
            <a:ext cx="9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 rot="16320000">
            <a:off x="4038480" y="2269800"/>
            <a:ext cx="495360" cy="851040"/>
          </a:xfrm>
          <a:custGeom>
            <a:avLst/>
            <a:gdLst>
              <a:gd name="textAreaLeft" fmla="*/ 316440 w 495360"/>
              <a:gd name="textAreaRight" fmla="*/ 495720 w 495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762360" y="1925640"/>
            <a:ext cx="3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2989440" y="1060560"/>
            <a:ext cx="8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Mypsd_63229_201107231737130002B"/>
          <p:cNvPicPr/>
          <p:nvPr/>
        </p:nvPicPr>
        <p:blipFill>
          <a:blip r:embed="rId3"/>
          <a:stretch/>
        </p:blipFill>
        <p:spPr>
          <a:xfrm>
            <a:off x="6405480" y="1060560"/>
            <a:ext cx="2095560" cy="31431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1"/>
          <p:cNvSpPr/>
          <p:nvPr/>
        </p:nvSpPr>
        <p:spPr>
          <a:xfrm rot="20580000">
            <a:off x="6948360" y="1060560"/>
            <a:ext cx="1800360" cy="20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Mypsd_63229_201107231737130002B"/>
          <p:cNvPicPr/>
          <p:nvPr/>
        </p:nvPicPr>
        <p:blipFill>
          <a:blip r:embed="rId2"/>
          <a:stretch/>
        </p:blipFill>
        <p:spPr>
          <a:xfrm>
            <a:off x="4402080" y="878040"/>
            <a:ext cx="2095560" cy="3141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771560" y="1060560"/>
            <a:ext cx="18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+7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5"/>
          <p:cNvSpPr/>
          <p:nvPr/>
        </p:nvSpPr>
        <p:spPr>
          <a:xfrm rot="19680000">
            <a:off x="4335120" y="1455480"/>
            <a:ext cx="919080" cy="88272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860640" y="2943360"/>
            <a:ext cx="9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"/>
          <p:cNvSpPr/>
          <p:nvPr/>
        </p:nvSpPr>
        <p:spPr>
          <a:xfrm rot="16320000">
            <a:off x="4038480" y="2269800"/>
            <a:ext cx="495360" cy="851040"/>
          </a:xfrm>
          <a:custGeom>
            <a:avLst/>
            <a:gdLst>
              <a:gd name="textAreaLeft" fmla="*/ 316440 w 495360"/>
              <a:gd name="textAreaRight" fmla="*/ 495720 w 495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3762360" y="1925640"/>
            <a:ext cx="3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2989440" y="1060560"/>
            <a:ext cx="8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Mypsd_63229_201107231737130002B"/>
          <p:cNvPicPr/>
          <p:nvPr/>
        </p:nvPicPr>
        <p:blipFill>
          <a:blip r:embed="rId3"/>
          <a:stretch/>
        </p:blipFill>
        <p:spPr>
          <a:xfrm rot="21420000">
            <a:off x="6497280" y="993240"/>
            <a:ext cx="2093760" cy="31435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1"/>
          <p:cNvSpPr/>
          <p:nvPr/>
        </p:nvSpPr>
        <p:spPr>
          <a:xfrm rot="21060000">
            <a:off x="7280280" y="1093320"/>
            <a:ext cx="1397160" cy="19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Mypsd_63229_201107231737130002B"/>
          <p:cNvPicPr/>
          <p:nvPr/>
        </p:nvPicPr>
        <p:blipFill>
          <a:blip r:embed="rId2"/>
          <a:stretch/>
        </p:blipFill>
        <p:spPr>
          <a:xfrm>
            <a:off x="4402080" y="878040"/>
            <a:ext cx="2095560" cy="31413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771560" y="1060560"/>
            <a:ext cx="18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+8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5"/>
          <p:cNvSpPr/>
          <p:nvPr/>
        </p:nvSpPr>
        <p:spPr>
          <a:xfrm rot="19680000">
            <a:off x="4329000" y="1434600"/>
            <a:ext cx="979560" cy="88740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3860640" y="2943360"/>
            <a:ext cx="9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 rot="16320000">
            <a:off x="4038480" y="2269800"/>
            <a:ext cx="495360" cy="851040"/>
          </a:xfrm>
          <a:custGeom>
            <a:avLst/>
            <a:gdLst>
              <a:gd name="textAreaLeft" fmla="*/ 316440 w 495360"/>
              <a:gd name="textAreaRight" fmla="*/ 495720 w 495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3762360" y="1925640"/>
            <a:ext cx="3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2989440" y="1060560"/>
            <a:ext cx="8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0" descr="Mypsd_63229_201107231737130002B"/>
          <p:cNvPicPr/>
          <p:nvPr/>
        </p:nvPicPr>
        <p:blipFill>
          <a:blip r:embed="rId3"/>
          <a:stretch/>
        </p:blipFill>
        <p:spPr>
          <a:xfrm rot="21420000">
            <a:off x="6497280" y="993240"/>
            <a:ext cx="2093760" cy="31435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1"/>
          <p:cNvSpPr/>
          <p:nvPr/>
        </p:nvSpPr>
        <p:spPr>
          <a:xfrm rot="21060000">
            <a:off x="7640640" y="1093680"/>
            <a:ext cx="1395360" cy="19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1:17:0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0:23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