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3B24-AC6A-469A-BE52-3FBED04FB43F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789F-B3CD-42EE-B6FA-207B374DB93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32035-E6C3-4FEC-AB9A-7F2FED3E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B75E6-B9E6-4027-9AAF-54435180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6E3D6-4605-4E47-82B9-7459D819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F6EE8-52E6-40F1-8B75-1CDC296A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1858D-9627-43EA-AA5E-2D60D1C0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AE726-A2FD-4853-90EE-0843D078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F4034-32E2-4D52-BD6E-5B4C231C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0837A-5049-48CC-AF3E-E9920B20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01045-0ED0-4A33-A82E-721C6721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4CA55-2A41-4AC7-A783-0F15A23F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0359C-BB67-4C0C-9FC6-DA22D0DF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33D85-942C-4C3F-828D-E250D237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3E1FF-4707-4E9C-8161-44BBF2D8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E44EF-5548-4E56-A343-6A30D13E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52FDB-F6A3-4E03-B7A5-8F03E286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073FC-33A1-456D-835F-CD54381B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D6981-6DF3-46A3-A370-C69C45F9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28853-A050-45F5-8A21-634C77B9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B88F2-6417-4E40-BE9D-C05E2F5B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FA4B0-6E5B-414A-8FA4-435A70EA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4A947-7E24-47F1-B6F6-2CF9C988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30EDB-E5BC-43EA-8C61-DE0A7EAD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D564D-23FD-4D32-B2D1-E53BFDED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6981E-76E7-4B9E-BB93-6DCDC3A6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CC0C0-B7AE-412C-A1CF-EB63EAA7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D1879-9DE4-4AC3-9E3D-556A3FD5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06190-7DDE-4516-8B08-7D335416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197C5-D26A-4A9D-9105-763D6EF0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D4FDA-56E4-43D6-8C7F-8D6B1EC7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9A481-6ED3-4976-9B0D-49E693BA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34817-0E22-48DE-B499-B9D859FD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7D605-8C74-4A36-8C77-920902FD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6ED1D-EEF2-44D3-B280-A017F164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713E8-8B04-4FE2-94B2-E46F10A4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1AEAC-30AF-45E2-8D1A-C39B3C48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5BA3F-0C12-49E3-85BF-CFA104FB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57750-822C-4C95-B53A-1AF5B7CC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B08D4-20DA-41CA-B7AB-1194C184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223D2-7C78-4DAE-BA88-7D6299A9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1284A-80BD-4BA0-9C36-260D8093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35E70-9C54-4B27-836B-F4F8D5E3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4FF6B-5C20-4666-8431-65BD9A3C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88CED-767E-48A6-9ECB-163780EB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8256F-D224-4FAC-A937-5FEE4273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EB333-07B3-42DB-B8B0-DF70115B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13107-F55D-4A18-A273-5E5D1495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E91B9-6919-44D1-A3B8-3DC91D94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CE27E-8768-404B-A484-BD8AB39A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D8A3C-92D6-449D-907E-89FDDDC5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7B60B-23C1-4582-A02C-6E2DF0BD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B7933-6C80-43EE-B4A2-0DAA938E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5FCCF-17B6-49B8-9007-42373E6B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6A1B1-C679-42E4-BFEB-1E6E5888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4A0BD-FDA5-4B7E-B1D0-376FCD23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08ED4-3AC7-4563-AE33-2B590E8C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DE133-85C9-486C-A225-5EF78A6B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57D5B-5978-4B56-B848-A40F1DA2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5BF4D-457D-44DD-9441-4F384782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4B75A-70B0-45E6-8001-912A664D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76ACB-E444-4CE5-A7C7-F7FD8166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1C266-C856-49D0-A24B-7571B75F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E50E4-A59F-4994-979A-8270C6B5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1D388-990D-42D4-BDCD-2CE7182B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DBF77-61D3-4F97-AFC5-AC8A0077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5A913-14C6-4BB7-8D0D-C44B6755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5FDA7-2617-438D-B903-7E5A993E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6105C-C382-42AE-AE73-BD00013D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69F26-E474-4444-B546-7816E285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5C34D-5579-41A5-9E81-F2FC197F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DE996-16B4-4439-B222-61F5A4CA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BE7D5-45F8-438B-980A-DDB0FF9D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4CF4F-060D-4FA6-BBC9-7AEF639C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90D44-CA0E-48DF-9BEC-747F4945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AB793-61AF-4888-AFA0-99CD08B0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44E21-D77E-407A-81AA-2DB25074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49805-6A89-40C8-B4C6-225E7ACB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25C81-A484-4AAA-9CA3-7C07C8FB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F0DDE-D2AD-45BB-85F4-701C3281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FCC90-1EC1-43B0-AF57-3C292D68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8BE44-FE93-421E-B878-DEA8A927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2069A-A20F-4D91-ABE2-E0F258BF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43CEE-17A6-4FDA-B6CC-884D80A8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8851E-BB69-47A7-ABF3-BC6BC02F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9F681-5F6C-44E5-A488-1967CD4F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EDF03-53B3-4A34-8824-09C2DA25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9CB50-FD32-425F-B3CF-13FD2603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36C50-5574-4094-9A54-4005CAFE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A6F0E-6988-4F23-A632-948AC92A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88C05-7068-4F22-AD51-A60F0432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01211-DB84-4044-9DCB-760D708C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DC6ED-4DA2-4892-8322-10A54452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DBDAF-2612-4FE2-8D57-EBB27679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DEB91-90FB-44A3-8D94-3BE41107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0DBDA-79D2-4F59-815C-916BABEF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E9A7E-DCFE-4249-AC60-3265689D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5900E-5FDA-4A7E-BD98-5E7F777A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89140-1C39-4D4D-8E69-248B1E28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25E61-B66A-4AF3-9BB3-C32BD91C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17FEA-FB36-4DF8-90A3-82BEC7AB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15C0C-AA73-49A6-81CA-C78A2AF8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06ADE-9958-4BF0-8676-FDCE8A22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5B87B-3B50-4D4A-A474-03986988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1E8FE-14DC-4261-B046-98B7092C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BA8F0-93AD-4D50-955D-49150538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6709B-44B0-4FD4-9D2B-8F4A95B9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D74-E61C-4BFC-A79E-23ED5C4B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DD0-A62B-46EB-A15C-08361252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27D1-1903-4162-AB1C-09AF7F72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F23-FDB6-42D4-B925-E5421294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487-43CF-49A1-B66C-E1CB9C5C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FF4-D485-4F51-8610-436ABF1A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F6E-1640-4190-BE41-19F73BC0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96F-E016-4E76-8260-6EA751E4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5EBE-1968-4213-B3CC-4D4BD2C3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833D-85D5-4F98-9FF3-991B3130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F00-C8FF-4141-8ADC-89436B84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2E82-A73C-44F2-A455-DFC3FFEC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749F-9637-4843-92C4-04AB296C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D93B-2137-45F6-8F85-205CD3C9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80EF-DBD3-4201-B7F6-B9FB418E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74E2-2B09-45B5-A918-6211B419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CF9E-D3B6-48BE-A012-510CB4F7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CAF3-B797-4EC6-A8E2-0C9BB083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C874-3D58-4D39-AFC7-FCD882BC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0E7E-3736-491F-A52D-C69631B8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D6F6-F0F0-4C17-822D-07EF138E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4D9E-8BBA-4D0A-B57B-A81339F3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B2DA-A264-47DA-A2EF-B0FA9626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25AA-6083-4D45-82D8-1B083D80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33A1D-0D69-453A-A800-FF8F7C6A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321BE-0EEC-4053-B8BE-4E2AC380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CA4D8-DB9A-4784-951C-FD7D740E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76B0-42CC-4F7F-8208-F9BE3CD2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25CC6-6ABD-4F85-86C9-BA94B5B6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EC453-EB8E-47BF-BD73-62753469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756F0-4B7B-4E01-857D-E8D64906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9C4E1-EFBB-419A-89DC-039F9455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0A7E8-A54D-4F0E-8B2D-1895F15E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7067C-360F-4422-B899-5D542B16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5D259-4E24-4D47-8CD8-37E41471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CAA3F-A860-4445-B592-54C48385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8B9C7-742D-4205-A250-49ECC062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5FE9D-56F1-480A-9170-30365D3A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6B932-9196-42ED-9F11-5CCFEB5D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87DA-D493-4AC1-A01C-6137B7444883}" type="slidenum">
              <a: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6DE9-FC23-4921-B23D-3FEB9DCE789C}" type="slidenum">
              <a: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063E-0E04-4911-9BE2-6659F1A285CB}" type="slidenum">
              <a: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3FBD-72CC-45A3-87B6-FD4783FE3D35}" type="slidenum">
              <a: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50EA-AC6A-44CA-9A24-3218145FBB37}" type="slidenum">
              <a: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E81B-E1F9-4DDB-AE27-B9E834B31C87}" type="slidenum">
              <a: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A3AB-916E-4C3C-9436-208C7A2C78BF}" type="slidenum">
              <a: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8E0E-AFAF-4D86-9906-0CDAC06BA75D}" type="slidenum">
              <a: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ADC9-C560-449D-8C70-BA4C22FBFE7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AD4D-422A-492D-AB0E-1FBCA2C9C3B5}" type="slidenum">
              <a: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D753-D87C-4CF1-A691-184F1505EDBC}" type="slidenum">
              <a: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89D4-D74C-449B-9054-964DA44245C2}" type="slidenum">
              <a:rPr b="0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1.png"/><Relationship Id="rId2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内乘法（二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1" name="TextBox 3"/>
          <p:cNvSpPr/>
          <p:nvPr/>
        </p:nvSpPr>
        <p:spPr>
          <a:xfrm>
            <a:off x="900000" y="1989000"/>
            <a:ext cx="48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92" name="Picture 5" descr="\\192.168.1.3\临时中转站1_以本人姓名建目录\开发中心-多媒体部\02美术部\晨会文件\04宁煌\人教数学教参\06.png"/>
          <p:cNvPicPr/>
          <p:nvPr/>
        </p:nvPicPr>
        <p:blipFill>
          <a:blip r:embed="rId2"/>
          <a:stretch/>
        </p:blipFill>
        <p:spPr>
          <a:xfrm>
            <a:off x="684360" y="94284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693" name="矩形 7"/>
          <p:cNvSpPr/>
          <p:nvPr/>
        </p:nvSpPr>
        <p:spPr>
          <a:xfrm>
            <a:off x="126360" y="62704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8640" y="446040"/>
            <a:ext cx="8506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观察表格，发现规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0" name="Text Box 115"/>
          <p:cNvSpPr/>
          <p:nvPr/>
        </p:nvSpPr>
        <p:spPr>
          <a:xfrm>
            <a:off x="5076720" y="24242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的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数圈出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1" name="Rectangle 116"/>
          <p:cNvSpPr/>
          <p:nvPr/>
        </p:nvSpPr>
        <p:spPr>
          <a:xfrm>
            <a:off x="5846760" y="332604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观察这些得数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有什么新发现吗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2" name="Rectangle 118"/>
          <p:cNvSpPr/>
          <p:nvPr/>
        </p:nvSpPr>
        <p:spPr>
          <a:xfrm>
            <a:off x="1670760" y="5372640"/>
            <a:ext cx="34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邻的每句口诀的积之间相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3" name="Text Box 119"/>
          <p:cNvSpPr/>
          <p:nvPr/>
        </p:nvSpPr>
        <p:spPr>
          <a:xfrm>
            <a:off x="1692360" y="5805360"/>
            <a:ext cx="50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的个位、十位上的数相加的和都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4" name="Text Box 120"/>
          <p:cNvSpPr/>
          <p:nvPr/>
        </p:nvSpPr>
        <p:spPr>
          <a:xfrm>
            <a:off x="1692360" y="623736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数个位上的数逐渐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十位上的数逐渐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700280"/>
          <a:ext cx="3917880" cy="3529080"/>
        </p:xfrm>
        <a:graphic>
          <a:graphicData uri="http://schemas.openxmlformats.org/drawingml/2006/table">
            <a:tbl>
              <a:tblPr/>
              <a:tblGrid>
                <a:gridCol w="392040"/>
                <a:gridCol w="390600"/>
                <a:gridCol w="392040"/>
                <a:gridCol w="390600"/>
                <a:gridCol w="395280"/>
                <a:gridCol w="392040"/>
                <a:gridCol w="390600"/>
                <a:gridCol w="392040"/>
                <a:gridCol w="390600"/>
                <a:gridCol w="392040"/>
              </a:tblGrid>
              <a:tr h="393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826" name="Oval 296"/>
          <p:cNvSpPr/>
          <p:nvPr/>
        </p:nvSpPr>
        <p:spPr>
          <a:xfrm>
            <a:off x="4221000" y="1754280"/>
            <a:ext cx="289080" cy="2872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7" name="Oval 297"/>
          <p:cNvSpPr/>
          <p:nvPr/>
        </p:nvSpPr>
        <p:spPr>
          <a:xfrm>
            <a:off x="3840120" y="2144880"/>
            <a:ext cx="289080" cy="2872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8" name="Oval 298"/>
          <p:cNvSpPr/>
          <p:nvPr/>
        </p:nvSpPr>
        <p:spPr>
          <a:xfrm>
            <a:off x="3440160" y="2535120"/>
            <a:ext cx="2887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9" name="Oval 299"/>
          <p:cNvSpPr/>
          <p:nvPr/>
        </p:nvSpPr>
        <p:spPr>
          <a:xfrm>
            <a:off x="3059280" y="2935440"/>
            <a:ext cx="2887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0" name="Oval 300"/>
          <p:cNvSpPr/>
          <p:nvPr/>
        </p:nvSpPr>
        <p:spPr>
          <a:xfrm>
            <a:off x="2658960" y="3325680"/>
            <a:ext cx="289080" cy="28764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1" name="Oval 301"/>
          <p:cNvSpPr/>
          <p:nvPr/>
        </p:nvSpPr>
        <p:spPr>
          <a:xfrm>
            <a:off x="2268360" y="3706920"/>
            <a:ext cx="289080" cy="2872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2" name="Oval 303"/>
          <p:cNvSpPr/>
          <p:nvPr/>
        </p:nvSpPr>
        <p:spPr>
          <a:xfrm>
            <a:off x="1878120" y="4097160"/>
            <a:ext cx="288720" cy="28764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3" name="Oval 304"/>
          <p:cNvSpPr/>
          <p:nvPr/>
        </p:nvSpPr>
        <p:spPr>
          <a:xfrm>
            <a:off x="1487520" y="4487760"/>
            <a:ext cx="2887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4" name="Oval 305"/>
          <p:cNvSpPr/>
          <p:nvPr/>
        </p:nvSpPr>
        <p:spPr>
          <a:xfrm>
            <a:off x="1096920" y="4888080"/>
            <a:ext cx="289080" cy="2872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118"/>
          <p:cNvSpPr/>
          <p:nvPr/>
        </p:nvSpPr>
        <p:spPr>
          <a:xfrm>
            <a:off x="898560" y="537120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几的口诀，积就是几十减几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6" name="Text Box 121"/>
          <p:cNvSpPr/>
          <p:nvPr/>
        </p:nvSpPr>
        <p:spPr>
          <a:xfrm>
            <a:off x="5076720" y="2424240"/>
            <a:ext cx="38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一条规律呢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看懂了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7" name="Text Box 125"/>
          <p:cNvSpPr/>
          <p:nvPr/>
        </p:nvSpPr>
        <p:spPr>
          <a:xfrm>
            <a:off x="5846760" y="3327480"/>
            <a:ext cx="3046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用一句话说说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的这个规律吗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1042920" y="1700280"/>
          <a:ext cx="3917880" cy="3529080"/>
        </p:xfrm>
        <a:graphic>
          <a:graphicData uri="http://schemas.openxmlformats.org/drawingml/2006/table">
            <a:tbl>
              <a:tblPr/>
              <a:tblGrid>
                <a:gridCol w="392040"/>
                <a:gridCol w="390600"/>
                <a:gridCol w="392040"/>
                <a:gridCol w="390600"/>
                <a:gridCol w="395280"/>
                <a:gridCol w="392040"/>
                <a:gridCol w="390600"/>
                <a:gridCol w="392040"/>
                <a:gridCol w="390600"/>
                <a:gridCol w="392040"/>
              </a:tblGrid>
              <a:tr h="393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2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2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2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2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2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3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3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3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3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4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4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4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4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5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5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5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6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6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6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6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6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6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6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8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8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8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8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8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8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8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839" name="Rectangle 2"/>
          <p:cNvSpPr/>
          <p:nvPr/>
        </p:nvSpPr>
        <p:spPr>
          <a:xfrm>
            <a:off x="458640" y="446040"/>
            <a:ext cx="8506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三、观察表格，发现规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0" name="Oval 240"/>
          <p:cNvSpPr/>
          <p:nvPr/>
        </p:nvSpPr>
        <p:spPr>
          <a:xfrm>
            <a:off x="4221000" y="1754280"/>
            <a:ext cx="289080" cy="2872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1" name="Oval 241"/>
          <p:cNvSpPr/>
          <p:nvPr/>
        </p:nvSpPr>
        <p:spPr>
          <a:xfrm>
            <a:off x="3840120" y="2144880"/>
            <a:ext cx="289080" cy="2872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2" name="Oval 242"/>
          <p:cNvSpPr/>
          <p:nvPr/>
        </p:nvSpPr>
        <p:spPr>
          <a:xfrm>
            <a:off x="3440160" y="2535120"/>
            <a:ext cx="2887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3" name="Oval 243"/>
          <p:cNvSpPr/>
          <p:nvPr/>
        </p:nvSpPr>
        <p:spPr>
          <a:xfrm>
            <a:off x="3059280" y="2935440"/>
            <a:ext cx="2887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4" name="Oval 244"/>
          <p:cNvSpPr/>
          <p:nvPr/>
        </p:nvSpPr>
        <p:spPr>
          <a:xfrm>
            <a:off x="2658960" y="3325680"/>
            <a:ext cx="289080" cy="28764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5" name="Oval 245"/>
          <p:cNvSpPr/>
          <p:nvPr/>
        </p:nvSpPr>
        <p:spPr>
          <a:xfrm>
            <a:off x="2268360" y="3706920"/>
            <a:ext cx="289080" cy="2872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6" name="Oval 246"/>
          <p:cNvSpPr/>
          <p:nvPr/>
        </p:nvSpPr>
        <p:spPr>
          <a:xfrm>
            <a:off x="1878120" y="4097160"/>
            <a:ext cx="288720" cy="28764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7" name="Oval 247"/>
          <p:cNvSpPr/>
          <p:nvPr/>
        </p:nvSpPr>
        <p:spPr>
          <a:xfrm>
            <a:off x="1487520" y="4487760"/>
            <a:ext cx="2887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8" name="Oval 248"/>
          <p:cNvSpPr/>
          <p:nvPr/>
        </p:nvSpPr>
        <p:spPr>
          <a:xfrm>
            <a:off x="1096920" y="4888080"/>
            <a:ext cx="289080" cy="2872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8640" y="417240"/>
            <a:ext cx="8506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Text Box 17"/>
          <p:cNvSpPr/>
          <p:nvPr/>
        </p:nvSpPr>
        <p:spPr>
          <a:xfrm>
            <a:off x="1692360" y="3546360"/>
            <a:ext cx="3036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九（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1" name="Text Box 18"/>
          <p:cNvSpPr/>
          <p:nvPr/>
        </p:nvSpPr>
        <p:spPr>
          <a:xfrm>
            <a:off x="1692360" y="472608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观察，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2" name="Text Box 19"/>
          <p:cNvSpPr/>
          <p:nvPr/>
        </p:nvSpPr>
        <p:spPr>
          <a:xfrm>
            <a:off x="611280" y="1659960"/>
            <a:ext cx="251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3" name="Text Box 20"/>
          <p:cNvSpPr/>
          <p:nvPr/>
        </p:nvSpPr>
        <p:spPr>
          <a:xfrm>
            <a:off x="2473200" y="5229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九等于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4" name="Text Box 21"/>
          <p:cNvSpPr/>
          <p:nvPr/>
        </p:nvSpPr>
        <p:spPr>
          <a:xfrm>
            <a:off x="2473200" y="56959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怎么知道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5" name="Text Box 22"/>
          <p:cNvSpPr/>
          <p:nvPr/>
        </p:nvSpPr>
        <p:spPr>
          <a:xfrm>
            <a:off x="2840040" y="3543120"/>
            <a:ext cx="199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六十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56" name="Picture 23" descr="10"/>
          <p:cNvPicPr/>
          <p:nvPr/>
        </p:nvPicPr>
        <p:blipFill>
          <a:blip r:embed="rId1"/>
          <a:stretch/>
        </p:blipFill>
        <p:spPr>
          <a:xfrm>
            <a:off x="5003640" y="1844640"/>
            <a:ext cx="1492560" cy="1944720"/>
          </a:xfrm>
          <a:prstGeom prst="rect">
            <a:avLst/>
          </a:prstGeom>
          <a:ln w="0">
            <a:noFill/>
          </a:ln>
        </p:spPr>
      </p:pic>
      <p:sp>
        <p:nvSpPr>
          <p:cNvPr id="857" name="AutoShape 24"/>
          <p:cNvSpPr/>
          <p:nvPr/>
        </p:nvSpPr>
        <p:spPr>
          <a:xfrm>
            <a:off x="2195640" y="2565360"/>
            <a:ext cx="2376360" cy="496440"/>
          </a:xfrm>
          <a:prstGeom prst="wedgeRoundRectCallout">
            <a:avLst>
              <a:gd name="adj1" fmla="val 68023"/>
              <a:gd name="adj2" fmla="val 2854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九等于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12"/>
          <p:cNvSpPr/>
          <p:nvPr/>
        </p:nvSpPr>
        <p:spPr>
          <a:xfrm>
            <a:off x="1042920" y="263700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9" name="Text Box 3"/>
          <p:cNvSpPr/>
          <p:nvPr/>
        </p:nvSpPr>
        <p:spPr>
          <a:xfrm>
            <a:off x="611280" y="1658160"/>
            <a:ext cx="28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0" name="Text Box 5"/>
          <p:cNvSpPr/>
          <p:nvPr/>
        </p:nvSpPr>
        <p:spPr>
          <a:xfrm>
            <a:off x="1009800" y="404172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快速说出结果，并说说你用的是哪句口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1" name="Text Box 7"/>
          <p:cNvSpPr/>
          <p:nvPr/>
        </p:nvSpPr>
        <p:spPr>
          <a:xfrm>
            <a:off x="2203560" y="2638440"/>
            <a:ext cx="71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2" name="Text Box 8"/>
          <p:cNvSpPr/>
          <p:nvPr/>
        </p:nvSpPr>
        <p:spPr>
          <a:xfrm>
            <a:off x="4010040" y="2646360"/>
            <a:ext cx="77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3" name="Text Box 9"/>
          <p:cNvSpPr/>
          <p:nvPr/>
        </p:nvSpPr>
        <p:spPr>
          <a:xfrm>
            <a:off x="5929200" y="2638440"/>
            <a:ext cx="72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4" name="Text Box 10"/>
          <p:cNvSpPr/>
          <p:nvPr/>
        </p:nvSpPr>
        <p:spPr>
          <a:xfrm>
            <a:off x="7872480" y="2637000"/>
            <a:ext cx="80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5" name="Text Box 13"/>
          <p:cNvSpPr/>
          <p:nvPr/>
        </p:nvSpPr>
        <p:spPr>
          <a:xfrm>
            <a:off x="2852640" y="263700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6" name="Text Box 14"/>
          <p:cNvSpPr/>
          <p:nvPr/>
        </p:nvSpPr>
        <p:spPr>
          <a:xfrm>
            <a:off x="4759200" y="264636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7" name="Text Box 15"/>
          <p:cNvSpPr/>
          <p:nvPr/>
        </p:nvSpPr>
        <p:spPr>
          <a:xfrm>
            <a:off x="6686640" y="2652840"/>
            <a:ext cx="179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8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楷体_GB2312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4"/>
          <p:cNvSpPr/>
          <p:nvPr/>
        </p:nvSpPr>
        <p:spPr>
          <a:xfrm>
            <a:off x="662040" y="460548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观察这幅图，你都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0" name="Text Box 6"/>
          <p:cNvSpPr/>
          <p:nvPr/>
        </p:nvSpPr>
        <p:spPr>
          <a:xfrm>
            <a:off x="1452600" y="539748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想求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脚踏船最多可坐多少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怎么解答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1" name="Text Box 7"/>
          <p:cNvSpPr/>
          <p:nvPr/>
        </p:nvSpPr>
        <p:spPr>
          <a:xfrm>
            <a:off x="1454040" y="5002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限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什么意思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2" name="Text Box 8"/>
          <p:cNvSpPr/>
          <p:nvPr/>
        </p:nvSpPr>
        <p:spPr>
          <a:xfrm>
            <a:off x="1452600" y="5792760"/>
            <a:ext cx="31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要用乘法计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3" name="Text Box 9"/>
          <p:cNvSpPr/>
          <p:nvPr/>
        </p:nvSpPr>
        <p:spPr>
          <a:xfrm>
            <a:off x="1452600" y="6189840"/>
            <a:ext cx="673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能提出其他用乘法解决的问题并解答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4" name="Rectangle 10"/>
          <p:cNvSpPr/>
          <p:nvPr/>
        </p:nvSpPr>
        <p:spPr>
          <a:xfrm>
            <a:off x="6332400" y="3341520"/>
            <a:ext cx="2745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7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人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5" name="Rectangle 11"/>
          <p:cNvSpPr/>
          <p:nvPr/>
        </p:nvSpPr>
        <p:spPr>
          <a:xfrm>
            <a:off x="539640" y="4005360"/>
            <a:ext cx="554508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6" name="Rectangle 13"/>
          <p:cNvSpPr/>
          <p:nvPr/>
        </p:nvSpPr>
        <p:spPr>
          <a:xfrm>
            <a:off x="979560" y="3787920"/>
            <a:ext cx="50472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77" name="Picture 15" descr="未标题-2"/>
          <p:cNvPicPr/>
          <p:nvPr/>
        </p:nvPicPr>
        <p:blipFill>
          <a:blip r:embed="rId1"/>
          <a:stretch/>
        </p:blipFill>
        <p:spPr>
          <a:xfrm>
            <a:off x="1177920" y="1700280"/>
            <a:ext cx="5545080" cy="2847960"/>
          </a:xfrm>
          <a:prstGeom prst="rect">
            <a:avLst/>
          </a:prstGeom>
          <a:ln w="0">
            <a:noFill/>
          </a:ln>
        </p:spPr>
      </p:pic>
      <p:sp>
        <p:nvSpPr>
          <p:cNvPr id="878" name="Text Box 16"/>
          <p:cNvSpPr/>
          <p:nvPr/>
        </p:nvSpPr>
        <p:spPr>
          <a:xfrm>
            <a:off x="611280" y="1658160"/>
            <a:ext cx="28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9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运用口诀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五、课堂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1" name="TextBox 5"/>
          <p:cNvSpPr/>
          <p:nvPr/>
        </p:nvSpPr>
        <p:spPr>
          <a:xfrm>
            <a:off x="716040" y="2494080"/>
            <a:ext cx="810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二十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二十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1" lang="en-US" sz="1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1" lang="en-US" sz="1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1" lang="en-US" sz="1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1" lang="en-US" sz="1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1" lang="en-US" sz="1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1" lang="en-US" sz="1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1" lang="en-US" sz="1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3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84" name="图片 9" descr=""/>
          <p:cNvPicPr/>
          <p:nvPr/>
        </p:nvPicPr>
        <p:blipFill>
          <a:blip r:embed="rId20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885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87" name="Picture 10" descr="png-0644"/>
          <p:cNvPicPr/>
          <p:nvPr/>
        </p:nvPicPr>
        <p:blipFill>
          <a:blip r:embed="rId21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11" descr="png-0652"/>
          <p:cNvPicPr/>
          <p:nvPr/>
        </p:nvPicPr>
        <p:blipFill>
          <a:blip r:embed="rId22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84C4-B604-463E-8931-9CE11D9CEE0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5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6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7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5009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计算铺垫，导入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762200" y="558972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们算得真快，说说怎么算得这么快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0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6229440" y="3165480"/>
            <a:ext cx="536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6229440" y="3165480"/>
            <a:ext cx="143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12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3" name="Rectangle 11"/>
          <p:cNvSpPr/>
          <p:nvPr/>
        </p:nvSpPr>
        <p:spPr>
          <a:xfrm>
            <a:off x="6229440" y="3165480"/>
            <a:ext cx="165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32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4" name="Rectangle 13"/>
          <p:cNvSpPr/>
          <p:nvPr/>
        </p:nvSpPr>
        <p:spPr>
          <a:xfrm>
            <a:off x="6229440" y="3165480"/>
            <a:ext cx="107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12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6229440" y="3165480"/>
            <a:ext cx="136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64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6" name="Text Box 17"/>
          <p:cNvSpPr/>
          <p:nvPr/>
        </p:nvSpPr>
        <p:spPr>
          <a:xfrm>
            <a:off x="1762200" y="60562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过渡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节课我们接着来学习有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乘法口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7" name="Rectangle 18"/>
          <p:cNvSpPr/>
          <p:nvPr/>
        </p:nvSpPr>
        <p:spPr>
          <a:xfrm>
            <a:off x="1803240" y="2384280"/>
            <a:ext cx="272736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8" name="Text Box 19"/>
          <p:cNvSpPr/>
          <p:nvPr/>
        </p:nvSpPr>
        <p:spPr>
          <a:xfrm>
            <a:off x="998640" y="1726560"/>
            <a:ext cx="59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看屏幕，口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3"/>
          <p:cNvSpPr/>
          <p:nvPr/>
        </p:nvSpPr>
        <p:spPr>
          <a:xfrm>
            <a:off x="611280" y="1619280"/>
            <a:ext cx="72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挖掘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认知，收集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0" name="Text Box 4"/>
          <p:cNvSpPr/>
          <p:nvPr/>
        </p:nvSpPr>
        <p:spPr>
          <a:xfrm>
            <a:off x="1619280" y="56545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前面的经验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有几句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2322360" y="6014880"/>
            <a:ext cx="508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句，你们知道吗，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谁来说说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2" name="Rectangle 2"/>
          <p:cNvSpPr/>
          <p:nvPr/>
        </p:nvSpPr>
        <p:spPr>
          <a:xfrm>
            <a:off x="458640" y="417600"/>
            <a:ext cx="6850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学习新知，自主探究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713" name="Group 14"/>
          <p:cNvGrpSpPr/>
          <p:nvPr/>
        </p:nvGrpSpPr>
        <p:grpSpPr>
          <a:xfrm>
            <a:off x="3203640" y="2276640"/>
            <a:ext cx="1944720" cy="3357360"/>
            <a:chOff x="3203640" y="2276640"/>
            <a:chExt cx="1944720" cy="3357360"/>
          </a:xfrm>
        </p:grpSpPr>
        <p:sp>
          <p:nvSpPr>
            <p:cNvPr id="714" name="AutoShape 12"/>
            <p:cNvSpPr/>
            <p:nvPr/>
          </p:nvSpPr>
          <p:spPr>
            <a:xfrm>
              <a:off x="3203640" y="2276640"/>
              <a:ext cx="1911240" cy="3357360"/>
            </a:xfrm>
            <a:custGeom>
              <a:avLst/>
              <a:gdLst>
                <a:gd name="textAreaLeft" fmla="*/ 93240 w 1911240"/>
                <a:gd name="textAreaRight" fmla="*/ 1818000 w 1911240"/>
                <a:gd name="textAreaTop" fmla="*/ 93240 h 3357360"/>
                <a:gd name="textAreaBottom" fmla="*/ 3264120 h 335736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1f7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15" name="Text Box 9"/>
            <p:cNvSpPr/>
            <p:nvPr/>
          </p:nvSpPr>
          <p:spPr>
            <a:xfrm>
              <a:off x="3382920" y="2357280"/>
              <a:ext cx="176544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九得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二九十八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三九二十七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四九三十六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五九四十五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六九五十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七九六十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八九七十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九九八十一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716" name="Text Box 15"/>
          <p:cNvSpPr/>
          <p:nvPr/>
        </p:nvSpPr>
        <p:spPr>
          <a:xfrm>
            <a:off x="2320920" y="6375240"/>
            <a:ext cx="63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. 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一共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句，让我们一起来读读这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句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口诀。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7" name="文本框 1"/>
          <p:cNvSpPr/>
          <p:nvPr/>
        </p:nvSpPr>
        <p:spPr>
          <a:xfrm>
            <a:off x="611280" y="5353200"/>
            <a:ext cx="76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611280" y="1619280"/>
            <a:ext cx="72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挖掘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认知，收集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1835280" y="5772240"/>
            <a:ext cx="633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句口诀是什么意思，你能任选其中一句，在题纸上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它的意思吗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720" name="Group 13"/>
          <p:cNvGrpSpPr/>
          <p:nvPr/>
        </p:nvGrpSpPr>
        <p:grpSpPr>
          <a:xfrm>
            <a:off x="3203640" y="2276640"/>
            <a:ext cx="1944720" cy="3357360"/>
            <a:chOff x="3203640" y="2276640"/>
            <a:chExt cx="1944720" cy="3357360"/>
          </a:xfrm>
        </p:grpSpPr>
        <p:sp>
          <p:nvSpPr>
            <p:cNvPr id="721" name="AutoShape 14"/>
            <p:cNvSpPr/>
            <p:nvPr/>
          </p:nvSpPr>
          <p:spPr>
            <a:xfrm>
              <a:off x="3203640" y="2276640"/>
              <a:ext cx="1911240" cy="3357360"/>
            </a:xfrm>
            <a:custGeom>
              <a:avLst/>
              <a:gdLst>
                <a:gd name="textAreaLeft" fmla="*/ 93240 w 1911240"/>
                <a:gd name="textAreaRight" fmla="*/ 1818000 w 1911240"/>
                <a:gd name="textAreaTop" fmla="*/ 93240 h 3357360"/>
                <a:gd name="textAreaBottom" fmla="*/ 3264120 h 335736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1f7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22" name="Text Box 15"/>
            <p:cNvSpPr/>
            <p:nvPr/>
          </p:nvSpPr>
          <p:spPr>
            <a:xfrm>
              <a:off x="3382920" y="2357280"/>
              <a:ext cx="176544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九得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二九十八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三九二十七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四九三十六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五九四十五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六九五十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七九六十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八九七十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九九八十一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723" name="Rectangle 2"/>
          <p:cNvSpPr/>
          <p:nvPr/>
        </p:nvSpPr>
        <p:spPr>
          <a:xfrm>
            <a:off x="458640" y="417600"/>
            <a:ext cx="6850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学习新知，自主探究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矩形 42"/>
          <p:cNvSpPr/>
          <p:nvPr/>
        </p:nvSpPr>
        <p:spPr>
          <a:xfrm>
            <a:off x="2270160" y="305424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1557360" y="4724280"/>
            <a:ext cx="54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他研究的是哪句口诀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26" name="Text Box 8"/>
          <p:cNvSpPr/>
          <p:nvPr/>
        </p:nvSpPr>
        <p:spPr>
          <a:xfrm>
            <a:off x="2340000" y="5157720"/>
            <a:ext cx="40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说说你是怎么看出来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27" name="Text Box 27"/>
          <p:cNvSpPr/>
          <p:nvPr/>
        </p:nvSpPr>
        <p:spPr>
          <a:xfrm>
            <a:off x="2332080" y="558972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口诀可以帮我们计算哪个乘法算式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28" name="Rectangle 29"/>
          <p:cNvSpPr/>
          <p:nvPr/>
        </p:nvSpPr>
        <p:spPr>
          <a:xfrm>
            <a:off x="3708360" y="3724200"/>
            <a:ext cx="446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7    9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29" name="Rectangle 30"/>
          <p:cNvSpPr/>
          <p:nvPr/>
        </p:nvSpPr>
        <p:spPr>
          <a:xfrm>
            <a:off x="1547640" y="3716280"/>
            <a:ext cx="228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三九二十七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730" name="Group 67"/>
          <p:cNvGrpSpPr/>
          <p:nvPr/>
        </p:nvGrpSpPr>
        <p:grpSpPr>
          <a:xfrm>
            <a:off x="1692360" y="2846520"/>
            <a:ext cx="5297040" cy="582480"/>
            <a:chOff x="1692360" y="2846520"/>
            <a:chExt cx="5297040" cy="582480"/>
          </a:xfrm>
        </p:grpSpPr>
        <p:grpSp>
          <p:nvGrpSpPr>
            <p:cNvPr id="731" name="Group 46"/>
            <p:cNvGrpSpPr/>
            <p:nvPr/>
          </p:nvGrpSpPr>
          <p:grpSpPr>
            <a:xfrm>
              <a:off x="1692360" y="2846520"/>
              <a:ext cx="1563480" cy="582480"/>
              <a:chOff x="1692360" y="2846520"/>
              <a:chExt cx="1563480" cy="582480"/>
            </a:xfrm>
          </p:grpSpPr>
          <p:sp>
            <p:nvSpPr>
              <p:cNvPr id="732" name="Oval 31"/>
              <p:cNvSpPr/>
              <p:nvPr/>
            </p:nvSpPr>
            <p:spPr>
              <a:xfrm>
                <a:off x="1863720" y="28465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33" name="Oval 32"/>
              <p:cNvSpPr/>
              <p:nvPr/>
            </p:nvSpPr>
            <p:spPr>
              <a:xfrm>
                <a:off x="2178000" y="28465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34" name="Oval 39"/>
              <p:cNvSpPr/>
              <p:nvPr/>
            </p:nvSpPr>
            <p:spPr>
              <a:xfrm>
                <a:off x="2502000" y="28465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35" name="Oval 40"/>
              <p:cNvSpPr/>
              <p:nvPr/>
            </p:nvSpPr>
            <p:spPr>
              <a:xfrm>
                <a:off x="2816280" y="28465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36" name="Oval 41"/>
              <p:cNvSpPr/>
              <p:nvPr/>
            </p:nvSpPr>
            <p:spPr>
              <a:xfrm>
                <a:off x="169236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37" name="Oval 42"/>
              <p:cNvSpPr/>
              <p:nvPr/>
            </p:nvSpPr>
            <p:spPr>
              <a:xfrm>
                <a:off x="200664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38" name="Oval 43"/>
              <p:cNvSpPr/>
              <p:nvPr/>
            </p:nvSpPr>
            <p:spPr>
              <a:xfrm>
                <a:off x="233028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39" name="Oval 44"/>
              <p:cNvSpPr/>
              <p:nvPr/>
            </p:nvSpPr>
            <p:spPr>
              <a:xfrm>
                <a:off x="2644560" y="3141720"/>
                <a:ext cx="28764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40" name="Oval 45"/>
              <p:cNvSpPr/>
              <p:nvPr/>
            </p:nvSpPr>
            <p:spPr>
              <a:xfrm>
                <a:off x="296856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741" name="Group 47"/>
            <p:cNvGrpSpPr/>
            <p:nvPr/>
          </p:nvGrpSpPr>
          <p:grpSpPr>
            <a:xfrm>
              <a:off x="3568680" y="2846520"/>
              <a:ext cx="1563480" cy="582480"/>
              <a:chOff x="3568680" y="2846520"/>
              <a:chExt cx="1563480" cy="582480"/>
            </a:xfrm>
          </p:grpSpPr>
          <p:sp>
            <p:nvSpPr>
              <p:cNvPr id="742" name="Oval 48"/>
              <p:cNvSpPr/>
              <p:nvPr/>
            </p:nvSpPr>
            <p:spPr>
              <a:xfrm>
                <a:off x="3740040" y="28465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43" name="Oval 49"/>
              <p:cNvSpPr/>
              <p:nvPr/>
            </p:nvSpPr>
            <p:spPr>
              <a:xfrm>
                <a:off x="4054320" y="28465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44" name="Oval 50"/>
              <p:cNvSpPr/>
              <p:nvPr/>
            </p:nvSpPr>
            <p:spPr>
              <a:xfrm>
                <a:off x="4378320" y="28465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45" name="Oval 51"/>
              <p:cNvSpPr/>
              <p:nvPr/>
            </p:nvSpPr>
            <p:spPr>
              <a:xfrm>
                <a:off x="4692600" y="28465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46" name="Oval 52"/>
              <p:cNvSpPr/>
              <p:nvPr/>
            </p:nvSpPr>
            <p:spPr>
              <a:xfrm>
                <a:off x="356868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47" name="Oval 53"/>
              <p:cNvSpPr/>
              <p:nvPr/>
            </p:nvSpPr>
            <p:spPr>
              <a:xfrm>
                <a:off x="388296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48" name="Oval 54"/>
              <p:cNvSpPr/>
              <p:nvPr/>
            </p:nvSpPr>
            <p:spPr>
              <a:xfrm>
                <a:off x="420660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49" name="Oval 55"/>
              <p:cNvSpPr/>
              <p:nvPr/>
            </p:nvSpPr>
            <p:spPr>
              <a:xfrm>
                <a:off x="4520880" y="3141720"/>
                <a:ext cx="28764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50" name="Oval 56"/>
              <p:cNvSpPr/>
              <p:nvPr/>
            </p:nvSpPr>
            <p:spPr>
              <a:xfrm>
                <a:off x="484488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751" name="Group 57"/>
            <p:cNvGrpSpPr/>
            <p:nvPr/>
          </p:nvGrpSpPr>
          <p:grpSpPr>
            <a:xfrm>
              <a:off x="5425920" y="2846520"/>
              <a:ext cx="1563480" cy="582480"/>
              <a:chOff x="5425920" y="2846520"/>
              <a:chExt cx="1563480" cy="582480"/>
            </a:xfrm>
          </p:grpSpPr>
          <p:sp>
            <p:nvSpPr>
              <p:cNvPr id="752" name="Oval 58"/>
              <p:cNvSpPr/>
              <p:nvPr/>
            </p:nvSpPr>
            <p:spPr>
              <a:xfrm>
                <a:off x="5597280" y="28465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53" name="Oval 59"/>
              <p:cNvSpPr/>
              <p:nvPr/>
            </p:nvSpPr>
            <p:spPr>
              <a:xfrm>
                <a:off x="5911560" y="28465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54" name="Oval 60"/>
              <p:cNvSpPr/>
              <p:nvPr/>
            </p:nvSpPr>
            <p:spPr>
              <a:xfrm>
                <a:off x="6235560" y="28465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55" name="Oval 61"/>
              <p:cNvSpPr/>
              <p:nvPr/>
            </p:nvSpPr>
            <p:spPr>
              <a:xfrm>
                <a:off x="6549840" y="28465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56" name="Oval 62"/>
              <p:cNvSpPr/>
              <p:nvPr/>
            </p:nvSpPr>
            <p:spPr>
              <a:xfrm>
                <a:off x="542592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57" name="Oval 63"/>
              <p:cNvSpPr/>
              <p:nvPr/>
            </p:nvSpPr>
            <p:spPr>
              <a:xfrm>
                <a:off x="574020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58" name="Oval 64"/>
              <p:cNvSpPr/>
              <p:nvPr/>
            </p:nvSpPr>
            <p:spPr>
              <a:xfrm>
                <a:off x="606384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59" name="Oval 65"/>
              <p:cNvSpPr/>
              <p:nvPr/>
            </p:nvSpPr>
            <p:spPr>
              <a:xfrm>
                <a:off x="6378120" y="3141720"/>
                <a:ext cx="28764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60" name="Oval 66"/>
              <p:cNvSpPr/>
              <p:nvPr/>
            </p:nvSpPr>
            <p:spPr>
              <a:xfrm>
                <a:off x="670212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761" name="Rectangle 68"/>
          <p:cNvSpPr/>
          <p:nvPr/>
        </p:nvSpPr>
        <p:spPr>
          <a:xfrm>
            <a:off x="4410000" y="2276640"/>
            <a:ext cx="31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以三九二十七为例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458640" y="417600"/>
            <a:ext cx="6850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学习新知，自主探究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3" name="Text Box 70"/>
          <p:cNvSpPr/>
          <p:nvPr/>
        </p:nvSpPr>
        <p:spPr>
          <a:xfrm>
            <a:off x="611280" y="1619280"/>
            <a:ext cx="662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二）理解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的意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9"/>
          <p:cNvSpPr/>
          <p:nvPr/>
        </p:nvSpPr>
        <p:spPr>
          <a:xfrm>
            <a:off x="1557360" y="47181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同学是这样画的，谁看懂了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5" name="Text Box 42"/>
          <p:cNvSpPr/>
          <p:nvPr/>
        </p:nvSpPr>
        <p:spPr>
          <a:xfrm>
            <a:off x="2332080" y="51498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表示的是哪句口诀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6" name="Rectangle 44"/>
          <p:cNvSpPr/>
          <p:nvPr/>
        </p:nvSpPr>
        <p:spPr>
          <a:xfrm>
            <a:off x="1546200" y="3716280"/>
            <a:ext cx="211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九四十五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7" name="Rectangle 45"/>
          <p:cNvSpPr/>
          <p:nvPr/>
        </p:nvSpPr>
        <p:spPr>
          <a:xfrm>
            <a:off x="3706920" y="3724200"/>
            <a:ext cx="40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5    9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8" name="Text Box 47"/>
          <p:cNvSpPr/>
          <p:nvPr/>
        </p:nvSpPr>
        <p:spPr>
          <a:xfrm>
            <a:off x="2332080" y="5581800"/>
            <a:ext cx="59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口诀可以帮我们计算哪个乘法算式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769" name="Group 63"/>
          <p:cNvGrpSpPr/>
          <p:nvPr/>
        </p:nvGrpSpPr>
        <p:grpSpPr>
          <a:xfrm>
            <a:off x="2089080" y="2851200"/>
            <a:ext cx="4041720" cy="662040"/>
            <a:chOff x="2089080" y="2851200"/>
            <a:chExt cx="4041720" cy="662040"/>
          </a:xfrm>
        </p:grpSpPr>
        <p:grpSp>
          <p:nvGrpSpPr>
            <p:cNvPr id="770" name="Group 50"/>
            <p:cNvGrpSpPr/>
            <p:nvPr/>
          </p:nvGrpSpPr>
          <p:grpSpPr>
            <a:xfrm>
              <a:off x="2089080" y="2851200"/>
              <a:ext cx="660240" cy="662040"/>
              <a:chOff x="2089080" y="2851200"/>
              <a:chExt cx="660240" cy="662040"/>
            </a:xfrm>
          </p:grpSpPr>
          <p:sp>
            <p:nvSpPr>
              <p:cNvPr id="771" name="WordArt 27"/>
              <p:cNvSpPr txBox="1"/>
              <p:nvPr/>
            </p:nvSpPr>
            <p:spPr>
              <a:xfrm>
                <a:off x="2261880" y="2995920"/>
                <a:ext cx="315360" cy="368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72" name="Oval 28"/>
              <p:cNvSpPr/>
              <p:nvPr/>
            </p:nvSpPr>
            <p:spPr>
              <a:xfrm>
                <a:off x="2089080" y="2851200"/>
                <a:ext cx="660240" cy="662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773" name="Group 51"/>
            <p:cNvGrpSpPr/>
            <p:nvPr/>
          </p:nvGrpSpPr>
          <p:grpSpPr>
            <a:xfrm>
              <a:off x="2936880" y="2851200"/>
              <a:ext cx="660240" cy="662040"/>
              <a:chOff x="2936880" y="2851200"/>
              <a:chExt cx="660240" cy="662040"/>
            </a:xfrm>
          </p:grpSpPr>
          <p:sp>
            <p:nvSpPr>
              <p:cNvPr id="774" name="WordArt 52"/>
              <p:cNvSpPr txBox="1"/>
              <p:nvPr/>
            </p:nvSpPr>
            <p:spPr>
              <a:xfrm>
                <a:off x="3109680" y="2995920"/>
                <a:ext cx="315360" cy="368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75" name="Oval 53"/>
              <p:cNvSpPr/>
              <p:nvPr/>
            </p:nvSpPr>
            <p:spPr>
              <a:xfrm>
                <a:off x="2936880" y="2851200"/>
                <a:ext cx="660240" cy="662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776" name="Group 54"/>
            <p:cNvGrpSpPr/>
            <p:nvPr/>
          </p:nvGrpSpPr>
          <p:grpSpPr>
            <a:xfrm>
              <a:off x="3774960" y="2851200"/>
              <a:ext cx="660600" cy="662040"/>
              <a:chOff x="3774960" y="2851200"/>
              <a:chExt cx="660600" cy="662040"/>
            </a:xfrm>
          </p:grpSpPr>
          <p:sp>
            <p:nvSpPr>
              <p:cNvPr id="777" name="WordArt 55"/>
              <p:cNvSpPr txBox="1"/>
              <p:nvPr/>
            </p:nvSpPr>
            <p:spPr>
              <a:xfrm>
                <a:off x="3948120" y="2995920"/>
                <a:ext cx="315720" cy="368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78" name="Oval 56"/>
              <p:cNvSpPr/>
              <p:nvPr/>
            </p:nvSpPr>
            <p:spPr>
              <a:xfrm>
                <a:off x="3774960" y="2851200"/>
                <a:ext cx="660600" cy="662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779" name="Group 57"/>
            <p:cNvGrpSpPr/>
            <p:nvPr/>
          </p:nvGrpSpPr>
          <p:grpSpPr>
            <a:xfrm>
              <a:off x="4622760" y="2851200"/>
              <a:ext cx="660240" cy="662040"/>
              <a:chOff x="4622760" y="2851200"/>
              <a:chExt cx="660240" cy="662040"/>
            </a:xfrm>
          </p:grpSpPr>
          <p:sp>
            <p:nvSpPr>
              <p:cNvPr id="780" name="WordArt 58"/>
              <p:cNvSpPr txBox="1"/>
              <p:nvPr/>
            </p:nvSpPr>
            <p:spPr>
              <a:xfrm>
                <a:off x="4795560" y="2995920"/>
                <a:ext cx="315360" cy="368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81" name="Oval 59"/>
              <p:cNvSpPr/>
              <p:nvPr/>
            </p:nvSpPr>
            <p:spPr>
              <a:xfrm>
                <a:off x="4622760" y="2851200"/>
                <a:ext cx="660240" cy="662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782" name="Group 60"/>
            <p:cNvGrpSpPr/>
            <p:nvPr/>
          </p:nvGrpSpPr>
          <p:grpSpPr>
            <a:xfrm>
              <a:off x="5470560" y="2851200"/>
              <a:ext cx="660240" cy="662040"/>
              <a:chOff x="5470560" y="2851200"/>
              <a:chExt cx="660240" cy="662040"/>
            </a:xfrm>
          </p:grpSpPr>
          <p:sp>
            <p:nvSpPr>
              <p:cNvPr id="783" name="WordArt 61"/>
              <p:cNvSpPr txBox="1"/>
              <p:nvPr/>
            </p:nvSpPr>
            <p:spPr>
              <a:xfrm>
                <a:off x="5643360" y="2995920"/>
                <a:ext cx="315360" cy="368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84" name="Oval 62"/>
              <p:cNvSpPr/>
              <p:nvPr/>
            </p:nvSpPr>
            <p:spPr>
              <a:xfrm>
                <a:off x="5470560" y="2851200"/>
                <a:ext cx="660240" cy="662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785" name="Rectangle 64"/>
          <p:cNvSpPr/>
          <p:nvPr/>
        </p:nvSpPr>
        <p:spPr>
          <a:xfrm>
            <a:off x="4410000" y="2276640"/>
            <a:ext cx="31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以五九四十五为例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458640" y="417600"/>
            <a:ext cx="6850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学习新知，自主探究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7" name="Text Box 67"/>
          <p:cNvSpPr/>
          <p:nvPr/>
        </p:nvSpPr>
        <p:spPr>
          <a:xfrm>
            <a:off x="611280" y="1619280"/>
            <a:ext cx="662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二）理解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的意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4"/>
          <p:cNvSpPr/>
          <p:nvPr/>
        </p:nvSpPr>
        <p:spPr>
          <a:xfrm>
            <a:off x="611280" y="530064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能用这幅图说明其他口诀的意思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9" name="Rectangle 8"/>
          <p:cNvSpPr/>
          <p:nvPr/>
        </p:nvSpPr>
        <p:spPr>
          <a:xfrm>
            <a:off x="1384200" y="5695200"/>
            <a:ext cx="56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能到前面边指着图边说说他的意思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0" name="Rectangle 9"/>
          <p:cNvSpPr/>
          <p:nvPr/>
        </p:nvSpPr>
        <p:spPr>
          <a:xfrm>
            <a:off x="6173640" y="5300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以六九五十四为例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1" name="Rectangle 10"/>
          <p:cNvSpPr/>
          <p:nvPr/>
        </p:nvSpPr>
        <p:spPr>
          <a:xfrm>
            <a:off x="2013840" y="6091920"/>
            <a:ext cx="26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口诀可以计算哪个算式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1835280" y="422100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九五十四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3905280" y="42339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4   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94" name="Picture 27" descr="4"/>
          <p:cNvPicPr/>
          <p:nvPr/>
        </p:nvPicPr>
        <p:blipFill>
          <a:blip r:embed="rId1"/>
          <a:stretch/>
        </p:blipFill>
        <p:spPr>
          <a:xfrm>
            <a:off x="1730520" y="1916280"/>
            <a:ext cx="5263920" cy="2530440"/>
          </a:xfrm>
          <a:prstGeom prst="rect">
            <a:avLst/>
          </a:prstGeom>
          <a:ln w="0">
            <a:noFill/>
          </a:ln>
        </p:spPr>
      </p:pic>
      <p:sp>
        <p:nvSpPr>
          <p:cNvPr id="795" name="Freeform 28"/>
          <p:cNvSpPr/>
          <p:nvPr/>
        </p:nvSpPr>
        <p:spPr>
          <a:xfrm>
            <a:off x="2076480" y="2770200"/>
            <a:ext cx="4949640" cy="1336680"/>
          </a:xfrm>
          <a:custGeom>
            <a:avLst/>
            <a:gdLst/>
            <a:ahLst/>
            <a:rect l="l" t="t" r="r" b="b"/>
            <a:pathLst>
              <a:path w="3280" h="887">
                <a:moveTo>
                  <a:pt x="69" y="253"/>
                </a:moveTo>
                <a:cubicBezTo>
                  <a:pt x="138" y="141"/>
                  <a:pt x="462" y="102"/>
                  <a:pt x="639" y="73"/>
                </a:cubicBezTo>
                <a:cubicBezTo>
                  <a:pt x="816" y="44"/>
                  <a:pt x="937" y="91"/>
                  <a:pt x="1131" y="79"/>
                </a:cubicBezTo>
                <a:cubicBezTo>
                  <a:pt x="1325" y="67"/>
                  <a:pt x="1478" y="0"/>
                  <a:pt x="1803" y="1"/>
                </a:cubicBezTo>
                <a:cubicBezTo>
                  <a:pt x="2128" y="2"/>
                  <a:pt x="2882" y="1"/>
                  <a:pt x="3081" y="85"/>
                </a:cubicBezTo>
                <a:cubicBezTo>
                  <a:pt x="3280" y="169"/>
                  <a:pt x="3149" y="391"/>
                  <a:pt x="2997" y="505"/>
                </a:cubicBezTo>
                <a:cubicBezTo>
                  <a:pt x="2845" y="619"/>
                  <a:pt x="2473" y="706"/>
                  <a:pt x="2169" y="769"/>
                </a:cubicBezTo>
                <a:cubicBezTo>
                  <a:pt x="1865" y="832"/>
                  <a:pt x="1497" y="887"/>
                  <a:pt x="1173" y="883"/>
                </a:cubicBezTo>
                <a:cubicBezTo>
                  <a:pt x="849" y="879"/>
                  <a:pt x="406" y="851"/>
                  <a:pt x="222" y="746"/>
                </a:cubicBezTo>
                <a:cubicBezTo>
                  <a:pt x="38" y="641"/>
                  <a:pt x="0" y="365"/>
                  <a:pt x="69" y="253"/>
                </a:cubicBezTo>
                <a:close/>
              </a:path>
            </a:pathLst>
          </a:custGeom>
          <a:noFill/>
          <a:ln w="316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6" name="Rectangle 2"/>
          <p:cNvSpPr/>
          <p:nvPr/>
        </p:nvSpPr>
        <p:spPr>
          <a:xfrm>
            <a:off x="458640" y="417600"/>
            <a:ext cx="6850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学习新知，自主探究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7" name="Text Box 32"/>
          <p:cNvSpPr/>
          <p:nvPr/>
        </p:nvSpPr>
        <p:spPr>
          <a:xfrm>
            <a:off x="611280" y="1619280"/>
            <a:ext cx="662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二）理解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的意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1384200" y="5157000"/>
            <a:ext cx="70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用龙舟图了，你能直接说说剩下每句口诀的意思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9" name="Rectangle 8"/>
          <p:cNvSpPr/>
          <p:nvPr/>
        </p:nvSpPr>
        <p:spPr>
          <a:xfrm>
            <a:off x="2013840" y="5536440"/>
            <a:ext cx="26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口诀可以计算哪个算式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0" name="Rectangle 9"/>
          <p:cNvSpPr/>
          <p:nvPr/>
        </p:nvSpPr>
        <p:spPr>
          <a:xfrm>
            <a:off x="5234040" y="55357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以七九六十三为例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1" name="Rectangle 12"/>
          <p:cNvSpPr/>
          <p:nvPr/>
        </p:nvSpPr>
        <p:spPr>
          <a:xfrm>
            <a:off x="1835280" y="4653000"/>
            <a:ext cx="22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九六十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905280" y="46656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3   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3" name="Rectangle 14"/>
          <p:cNvSpPr/>
          <p:nvPr/>
        </p:nvSpPr>
        <p:spPr>
          <a:xfrm>
            <a:off x="2396160" y="5912280"/>
            <a:ext cx="39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一些口诀呢，能说说这些口诀表示的意思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计算哪个算式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4" name="Rectangle 22"/>
          <p:cNvSpPr/>
          <p:nvPr/>
        </p:nvSpPr>
        <p:spPr>
          <a:xfrm>
            <a:off x="1835280" y="422100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九五十四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5" name="Rectangle 23"/>
          <p:cNvSpPr/>
          <p:nvPr/>
        </p:nvSpPr>
        <p:spPr>
          <a:xfrm>
            <a:off x="3905280" y="42339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4   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06" name="Picture 24" descr="4"/>
          <p:cNvPicPr/>
          <p:nvPr/>
        </p:nvPicPr>
        <p:blipFill>
          <a:blip r:embed="rId1"/>
          <a:stretch/>
        </p:blipFill>
        <p:spPr>
          <a:xfrm>
            <a:off x="1730520" y="1916280"/>
            <a:ext cx="5263920" cy="2530440"/>
          </a:xfrm>
          <a:prstGeom prst="rect">
            <a:avLst/>
          </a:prstGeom>
          <a:ln w="0">
            <a:noFill/>
          </a:ln>
        </p:spPr>
      </p:pic>
      <p:sp>
        <p:nvSpPr>
          <p:cNvPr id="807" name="Freeform 25"/>
          <p:cNvSpPr/>
          <p:nvPr/>
        </p:nvSpPr>
        <p:spPr>
          <a:xfrm>
            <a:off x="2076480" y="2770200"/>
            <a:ext cx="4949640" cy="1336680"/>
          </a:xfrm>
          <a:custGeom>
            <a:avLst/>
            <a:gdLst/>
            <a:ahLst/>
            <a:rect l="l" t="t" r="r" b="b"/>
            <a:pathLst>
              <a:path w="3280" h="887">
                <a:moveTo>
                  <a:pt x="69" y="253"/>
                </a:moveTo>
                <a:cubicBezTo>
                  <a:pt x="138" y="141"/>
                  <a:pt x="462" y="102"/>
                  <a:pt x="639" y="73"/>
                </a:cubicBezTo>
                <a:cubicBezTo>
                  <a:pt x="816" y="44"/>
                  <a:pt x="937" y="91"/>
                  <a:pt x="1131" y="79"/>
                </a:cubicBezTo>
                <a:cubicBezTo>
                  <a:pt x="1325" y="67"/>
                  <a:pt x="1478" y="0"/>
                  <a:pt x="1803" y="1"/>
                </a:cubicBezTo>
                <a:cubicBezTo>
                  <a:pt x="2128" y="2"/>
                  <a:pt x="2882" y="1"/>
                  <a:pt x="3081" y="85"/>
                </a:cubicBezTo>
                <a:cubicBezTo>
                  <a:pt x="3280" y="169"/>
                  <a:pt x="3149" y="391"/>
                  <a:pt x="2997" y="505"/>
                </a:cubicBezTo>
                <a:cubicBezTo>
                  <a:pt x="2845" y="619"/>
                  <a:pt x="2473" y="706"/>
                  <a:pt x="2169" y="769"/>
                </a:cubicBezTo>
                <a:cubicBezTo>
                  <a:pt x="1865" y="832"/>
                  <a:pt x="1497" y="887"/>
                  <a:pt x="1173" y="883"/>
                </a:cubicBezTo>
                <a:cubicBezTo>
                  <a:pt x="849" y="879"/>
                  <a:pt x="406" y="851"/>
                  <a:pt x="222" y="746"/>
                </a:cubicBezTo>
                <a:cubicBezTo>
                  <a:pt x="38" y="641"/>
                  <a:pt x="0" y="365"/>
                  <a:pt x="69" y="253"/>
                </a:cubicBezTo>
                <a:close/>
              </a:path>
            </a:pathLst>
          </a:custGeom>
          <a:noFill/>
          <a:ln w="316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8" name="Rectangle 2"/>
          <p:cNvSpPr/>
          <p:nvPr/>
        </p:nvSpPr>
        <p:spPr>
          <a:xfrm>
            <a:off x="458640" y="417600"/>
            <a:ext cx="6850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学习新知，自主探究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9" name="Text Box 28"/>
          <p:cNvSpPr/>
          <p:nvPr/>
        </p:nvSpPr>
        <p:spPr>
          <a:xfrm>
            <a:off x="611280" y="1619280"/>
            <a:ext cx="662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二）理解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的意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AutoShape 12"/>
          <p:cNvSpPr/>
          <p:nvPr/>
        </p:nvSpPr>
        <p:spPr>
          <a:xfrm>
            <a:off x="3346560" y="2239920"/>
            <a:ext cx="1911240" cy="3060720"/>
          </a:xfrm>
          <a:custGeom>
            <a:avLst/>
            <a:gdLst>
              <a:gd name="textAreaLeft" fmla="*/ 93240 w 1911240"/>
              <a:gd name="textAreaRight" fmla="*/ 1818000 w 1911240"/>
              <a:gd name="textAreaTop" fmla="*/ 93240 h 3060720"/>
              <a:gd name="textAreaBottom" fmla="*/ 2967480 h 3060720"/>
            </a:gdLst>
            <a:ahLst/>
            <a:rect l="textAreaLeft" t="textAreaTop" r="textAreaRight" b="textAreaBottom"/>
            <a:pathLst>
              <a:path w="21600" h="34588">
                <a:moveTo>
                  <a:pt x="3600" y="0"/>
                </a:moveTo>
                <a:arcTo wR="3600" hR="3600" stAng="16200000" swAng="-5400000"/>
                <a:lnTo>
                  <a:pt x="0" y="30988"/>
                </a:lnTo>
                <a:arcTo wR="3600" hR="3600" stAng="10800000" swAng="-5400000"/>
                <a:lnTo>
                  <a:pt x="18000" y="345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1f7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1" name="Text Box 3"/>
          <p:cNvSpPr/>
          <p:nvPr/>
        </p:nvSpPr>
        <p:spPr>
          <a:xfrm>
            <a:off x="611280" y="1590840"/>
            <a:ext cx="475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意义记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2" name="Text Box 4"/>
          <p:cNvSpPr/>
          <p:nvPr/>
        </p:nvSpPr>
        <p:spPr>
          <a:xfrm>
            <a:off x="1701720" y="5445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我们一起拍手读读这些口诀吧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3" name="Text Box 5"/>
          <p:cNvSpPr/>
          <p:nvPr/>
        </p:nvSpPr>
        <p:spPr>
          <a:xfrm>
            <a:off x="2479680" y="5813280"/>
            <a:ext cx="50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来给大家背一背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4" name="Text Box 6"/>
          <p:cNvSpPr/>
          <p:nvPr/>
        </p:nvSpPr>
        <p:spPr>
          <a:xfrm>
            <a:off x="2476440" y="6180120"/>
            <a:ext cx="51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再背一背，你是怎么记住的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5581800" y="2263680"/>
            <a:ext cx="172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562200" y="2244600"/>
            <a:ext cx="19418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九得九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九十八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九二十七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九三十六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九四十五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九五十四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九六十三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九七十二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九八十一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7" name="Text Box 11"/>
          <p:cNvSpPr/>
          <p:nvPr/>
        </p:nvSpPr>
        <p:spPr>
          <a:xfrm>
            <a:off x="1763640" y="2263680"/>
            <a:ext cx="17179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7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6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5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4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3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8" name="Rectangle 2"/>
          <p:cNvSpPr/>
          <p:nvPr/>
        </p:nvSpPr>
        <p:spPr>
          <a:xfrm>
            <a:off x="458640" y="417600"/>
            <a:ext cx="6850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学习新知，自主探究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37Z</dcterms:modified>
  <cp:revision>5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