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media/chimes.wav" ContentType="audio/x-wav"/>
  <Override PartName="/ppt/media/type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4C1E-BA1B-482A-AF72-9DE80D11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C93E-EA35-470A-ACC6-642ACA7D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7A7-3DF1-4199-94AE-8CE9EF9C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641-ADB8-4764-A0F1-3D7D27A4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C9C-916F-4595-8401-176EF8A5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DD5-D6F1-4A70-9BD7-9D352DF0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E7B-9BB8-42B4-9508-3365DF5E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694-D203-4364-8728-12924A18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81A-F5DD-45F6-A4D3-5135251D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31B6-45E2-4EB2-A1F9-47B31BDC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430-8DE7-47B4-AD44-A0870966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BA1B-BE94-4224-BAB4-A6C06975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5F20-605C-4CD2-8DE9-95C37C8BB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3.gi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e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239148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矩形 4" descr=""/>
          <p:cNvPicPr/>
          <p:nvPr/>
        </p:nvPicPr>
        <p:blipFill>
          <a:blip r:embed="rId2"/>
          <a:stretch/>
        </p:blipFill>
        <p:spPr>
          <a:xfrm>
            <a:off x="971640" y="1235160"/>
            <a:ext cx="8064360" cy="2216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be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557_200532519343594528"/>
          <p:cNvPicPr/>
          <p:nvPr/>
        </p:nvPicPr>
        <p:blipFill>
          <a:blip r:embed="rId2"/>
          <a:stretch/>
        </p:blipFill>
        <p:spPr>
          <a:xfrm>
            <a:off x="304920" y="22860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900000" y="9079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、一个农场计划在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公顷的地里播种大豆和玉米。播种面积的比是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。两种作物各播种多少公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042920" y="2997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总面积平均分成的份数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+2=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042920" y="37162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播种大豆的面积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867280" y="3357720"/>
            <a:ext cx="57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5867280" y="393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6443640" y="3716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公顷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1116000" y="4581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播种玉米的面积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940360" y="4365720"/>
            <a:ext cx="79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594036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6443640" y="465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公顷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1332000" y="5516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答：播种大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公顷，播种玉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公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1403280" y="333360"/>
            <a:ext cx="36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一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be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1523880" y="5335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二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14400" y="1143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一种什锦糖是由奶糖、水果糖、和酥糖按照</a:t>
            </a:r>
            <a:r>
              <a:rPr b="0" lang="en-US" sz="2800" spc="-1" strike="noStrike">
                <a:solidFill>
                  <a:srgbClr val="00cc99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：</a:t>
            </a:r>
            <a:r>
              <a:rPr b="0" lang="en-US" sz="2800" spc="-1" strike="noStrike">
                <a:solidFill>
                  <a:srgbClr val="00cc99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：</a:t>
            </a:r>
            <a:r>
              <a:rPr b="0" lang="en-US" sz="2800" spc="-1" strike="noStrike">
                <a:solidFill>
                  <a:srgbClr val="00cc99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混合成的。要配制这样的什锦糖</a:t>
            </a:r>
            <a:r>
              <a:rPr b="0" lang="en-US" sz="2800" spc="-1" strike="noStrike">
                <a:solidFill>
                  <a:srgbClr val="00cc99"/>
                </a:solidFill>
                <a:latin typeface="宋体"/>
              </a:rPr>
              <a:t>500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千克，需要奶糖、水果糖、和酥糖各多少千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557_200532519343594528"/>
          <p:cNvPicPr/>
          <p:nvPr/>
        </p:nvPicPr>
        <p:blipFill>
          <a:blip r:embed="rId2"/>
          <a:stretch/>
        </p:blipFill>
        <p:spPr>
          <a:xfrm>
            <a:off x="304920" y="30492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1979640" y="278136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总份数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+5+2=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981080" y="35053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奶糖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962520" y="3200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4191120" y="3733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4648320" y="3505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1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1905120" y="4114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水果糖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4267080" y="38862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4876920" y="4114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2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1905120" y="4876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酥糖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4038480" y="472428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7"/>
          <p:cNvSpPr/>
          <p:nvPr/>
        </p:nvSpPr>
        <p:spPr>
          <a:xfrm>
            <a:off x="419112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4800600" y="50292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1219320" y="5715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答：需要奶糖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千克、水果糖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千克、酥糖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千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0" descr="be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762120" y="13716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用</a:t>
            </a:r>
            <a:r>
              <a:rPr b="0" lang="en-US" sz="3200" spc="-1" strike="noStrike">
                <a:solidFill>
                  <a:srgbClr val="00cc99"/>
                </a:solidFill>
                <a:latin typeface="宋体"/>
              </a:rPr>
              <a:t>84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厘米长的铁丝围成一个三角形，三条边的长度比是</a:t>
            </a:r>
            <a:r>
              <a:rPr b="0" lang="en-US" sz="3200" spc="-1" strike="noStrike">
                <a:solidFill>
                  <a:srgbClr val="00cc99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：</a:t>
            </a:r>
            <a:r>
              <a:rPr b="0" lang="en-US" sz="3200" spc="-1" strike="noStrike">
                <a:solidFill>
                  <a:srgbClr val="00cc99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：</a:t>
            </a:r>
            <a:r>
              <a:rPr b="0" lang="en-US" sz="3200" spc="-1" strike="noStrike">
                <a:solidFill>
                  <a:srgbClr val="00cc99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。三角形的三条边各长多少厘米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914400" y="3276720"/>
            <a:ext cx="1371600" cy="27432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743200" y="3886200"/>
            <a:ext cx="4419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84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84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84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843280" y="328464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3+4+5=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429000" y="4038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505320" y="3657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3506760" y="434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50676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3505320" y="4114800"/>
            <a:ext cx="380880" cy="0"/>
          </a:xfrm>
          <a:prstGeom prst="line">
            <a:avLst/>
          </a:prstGeom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430080" y="47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3430080" y="5410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3505320" y="4800600"/>
            <a:ext cx="457200" cy="0"/>
          </a:xfrm>
          <a:prstGeom prst="line">
            <a:avLst/>
          </a:prstGeom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3505320" y="5486400"/>
            <a:ext cx="457200" cy="0"/>
          </a:xfrm>
          <a:prstGeom prst="line">
            <a:avLst/>
          </a:prstGeom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3886200" y="3886200"/>
            <a:ext cx="198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=21(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=28(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=35(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4038480" y="5943600"/>
            <a:ext cx="221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2438280" y="58672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答：三条边分别长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21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,28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, 35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1676520" y="6094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三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2" descr="557_200532519343594528"/>
          <p:cNvPicPr/>
          <p:nvPr/>
        </p:nvPicPr>
        <p:blipFill>
          <a:blip r:embed="rId2"/>
          <a:stretch/>
        </p:blipFill>
        <p:spPr>
          <a:xfrm>
            <a:off x="304920" y="304920"/>
            <a:ext cx="1050840" cy="1074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FIREWK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1295280" y="1600200"/>
            <a:ext cx="6858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祝贺你们闯关成功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ff33"/>
                </a:solidFill>
                <a:latin typeface="Times New Roman"/>
                <a:ea typeface="华文彩云"/>
              </a:rPr>
              <a:t>你们永远是最棒的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4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"/>
          <p:cNvSpPr/>
          <p:nvPr/>
        </p:nvSpPr>
        <p:spPr>
          <a:xfrm>
            <a:off x="838080" y="380880"/>
            <a:ext cx="8458200" cy="138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再攀高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甲乙两个数的比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6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甲数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乙数是多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838080" y="35053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爸爸和王叔叔合作出资做生意，爸爸出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，王叔叔出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，一年后共盈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，爸爸和王叔叔各分得多少钱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3" descr="557_200532519343594528"/>
          <p:cNvPicPr/>
          <p:nvPr/>
        </p:nvPicPr>
        <p:blipFill>
          <a:blip r:embed="rId2"/>
          <a:stretch/>
        </p:blipFill>
        <p:spPr>
          <a:xfrm>
            <a:off x="152280" y="0"/>
            <a:ext cx="1051200" cy="1074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3E82-DF98-47DA-9098-92EE5CCE97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be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"/>
          <p:cNvSpPr/>
          <p:nvPr/>
        </p:nvSpPr>
        <p:spPr>
          <a:xfrm>
            <a:off x="685800" y="685800"/>
            <a:ext cx="79246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生活中的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地球上的淡水含量与地球上水总量的比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安利洗涤剂与水的正常比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我们喝的鲜橙多中橙汁与水的比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妈妈做米饭时米与水的比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一种咖啡奶，咖啡和奶的比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557_200532519343594528"/>
          <p:cNvPicPr/>
          <p:nvPr/>
        </p:nvPicPr>
        <p:blipFill>
          <a:blip r:embed="rId2"/>
          <a:stretch/>
        </p:blipFill>
        <p:spPr>
          <a:xfrm>
            <a:off x="3124080" y="380880"/>
            <a:ext cx="1051200" cy="1074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0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533520" y="1066680"/>
            <a:ext cx="8229600" cy="37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活学活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、白兔和灰兔只数的比是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，白兔占两种兔总只数的（    ），灰兔占两种兔总只数的（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2 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六三班男生和女生的比是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2:5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，男生占全班人数的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(      )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，女生占全班人数的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(    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6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37152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8" descr=""/>
          <p:cNvPicPr/>
          <p:nvPr/>
        </p:nvPicPr>
        <p:blipFill>
          <a:blip r:embed="rId3"/>
          <a:stretch/>
        </p:blipFill>
        <p:spPr>
          <a:xfrm>
            <a:off x="7010280" y="2057400"/>
            <a:ext cx="452520" cy="762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"/>
          <p:cNvPicPr/>
          <p:nvPr/>
        </p:nvPicPr>
        <p:blipFill>
          <a:blip r:embed="rId4"/>
          <a:stretch/>
        </p:blipFill>
        <p:spPr>
          <a:xfrm>
            <a:off x="2666880" y="3886200"/>
            <a:ext cx="247680" cy="76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6" descr=""/>
          <p:cNvPicPr/>
          <p:nvPr/>
        </p:nvPicPr>
        <p:blipFill>
          <a:blip r:embed="rId5"/>
          <a:stretch/>
        </p:blipFill>
        <p:spPr>
          <a:xfrm>
            <a:off x="7162920" y="3962520"/>
            <a:ext cx="222120" cy="685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557_200532519343594528"/>
          <p:cNvPicPr/>
          <p:nvPr/>
        </p:nvPicPr>
        <p:blipFill>
          <a:blip r:embed="rId6"/>
          <a:stretch/>
        </p:blipFill>
        <p:spPr>
          <a:xfrm>
            <a:off x="152280" y="0"/>
            <a:ext cx="1051200" cy="1074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6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7"/>
          <p:cNvSpPr/>
          <p:nvPr/>
        </p:nvSpPr>
        <p:spPr>
          <a:xfrm>
            <a:off x="609480" y="914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、肯德基的老板听说这种新出的咖啡奶口感好，受欢迎，决定引进这种咖啡奶，他想请同学帮忙计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8" descr="557_200532519343594528"/>
          <p:cNvPicPr/>
          <p:nvPr/>
        </p:nvPicPr>
        <p:blipFill>
          <a:blip r:embed="rId2"/>
          <a:stretch/>
        </p:blipFill>
        <p:spPr>
          <a:xfrm>
            <a:off x="304920" y="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0"/>
          <p:cNvSpPr/>
          <p:nvPr/>
        </p:nvSpPr>
        <p:spPr>
          <a:xfrm>
            <a:off x="762120" y="17524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一杯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330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毫升的咖啡奶，咖啡和奶的比为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。需要咖啡和奶各多少毫升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1371600" y="380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尝试探究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990720" y="3048120"/>
            <a:ext cx="7238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想：咖啡和奶的比是</a:t>
            </a:r>
            <a:r>
              <a:rPr b="0" lang="en-US" sz="2000" spc="-1" strike="noStrike">
                <a:solidFill>
                  <a:srgbClr val="00cc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：</a:t>
            </a:r>
            <a:r>
              <a:rPr b="0" lang="en-US" sz="2000" spc="-1" strike="noStrike">
                <a:solidFill>
                  <a:srgbClr val="00cc00"/>
                </a:solidFill>
                <a:latin typeface="宋体"/>
              </a:rPr>
              <a:t>9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，就是说，在</a:t>
            </a:r>
            <a:r>
              <a:rPr b="0" lang="en-US" sz="2000" spc="-1" strike="noStrike">
                <a:solidFill>
                  <a:srgbClr val="00cc00"/>
                </a:solidFill>
                <a:latin typeface="宋体"/>
              </a:rPr>
              <a:t>330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毫升的咖啡奶中，咖啡占</a:t>
            </a:r>
            <a:r>
              <a:rPr b="0" lang="en-US" sz="2000" spc="-1" strike="noStrike">
                <a:solidFill>
                  <a:srgbClr val="00cc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份，奶占</a:t>
            </a:r>
            <a:r>
              <a:rPr b="0" lang="en-US" sz="2000" spc="-1" strike="noStrike">
                <a:solidFill>
                  <a:srgbClr val="00cc00"/>
                </a:solidFill>
                <a:latin typeface="宋体"/>
              </a:rPr>
              <a:t>9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份，一共是</a:t>
            </a:r>
            <a:r>
              <a:rPr b="0" lang="en-US" sz="2000" spc="-1" strike="noStrike">
                <a:solidFill>
                  <a:srgbClr val="00cc00"/>
                </a:solidFill>
                <a:latin typeface="宋体"/>
              </a:rPr>
              <a:t>11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份。也就是说，咖啡占咖啡奶的     ，奶占咖啡奶的      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1371600" y="3733920"/>
            <a:ext cx="5335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3809880" y="3733920"/>
            <a:ext cx="5335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1523880" y="43434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咖啡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咖啡奶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4191120" y="4419720"/>
            <a:ext cx="5331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190512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奶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咖啡奶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3"/>
          <p:cNvSpPr/>
          <p:nvPr/>
        </p:nvSpPr>
        <p:spPr>
          <a:xfrm>
            <a:off x="4191120" y="5029200"/>
            <a:ext cx="5331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6"/>
          <p:cNvSpPr/>
          <p:nvPr/>
        </p:nvSpPr>
        <p:spPr>
          <a:xfrm>
            <a:off x="1447920" y="3962520"/>
            <a:ext cx="304560" cy="0"/>
          </a:xfrm>
          <a:prstGeom prst="line">
            <a:avLst/>
          </a:prstGeom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7"/>
          <p:cNvSpPr/>
          <p:nvPr/>
        </p:nvSpPr>
        <p:spPr>
          <a:xfrm>
            <a:off x="3886200" y="3962520"/>
            <a:ext cx="304920" cy="0"/>
          </a:xfrm>
          <a:prstGeom prst="line">
            <a:avLst/>
          </a:prstGeom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8"/>
          <p:cNvSpPr/>
          <p:nvPr/>
        </p:nvSpPr>
        <p:spPr>
          <a:xfrm>
            <a:off x="4343400" y="5257800"/>
            <a:ext cx="304920" cy="0"/>
          </a:xfrm>
          <a:prstGeom prst="line">
            <a:avLst/>
          </a:prstGeom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9"/>
          <p:cNvSpPr/>
          <p:nvPr/>
        </p:nvSpPr>
        <p:spPr>
          <a:xfrm>
            <a:off x="4343400" y="4648320"/>
            <a:ext cx="304920" cy="0"/>
          </a:xfrm>
          <a:prstGeom prst="line">
            <a:avLst/>
          </a:prstGeom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863640" y="6008760"/>
            <a:ext cx="642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8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1066680" y="175248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工农业生产和生活中，常常需要把一个数量按照一定的比来进行分配。这种分配方法通常叫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按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比例分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557_200532519343594528"/>
          <p:cNvPicPr/>
          <p:nvPr/>
        </p:nvPicPr>
        <p:blipFill>
          <a:blip r:embed="rId2"/>
          <a:stretch/>
        </p:blipFill>
        <p:spPr>
          <a:xfrm>
            <a:off x="304920" y="22860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3048120" y="76212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比的应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14300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尝试探究：</a:t>
            </a: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557_200532519343594528"/>
          <p:cNvPicPr/>
          <p:nvPr/>
        </p:nvPicPr>
        <p:blipFill>
          <a:blip r:embed="rId2"/>
          <a:stretch/>
        </p:blipFill>
        <p:spPr>
          <a:xfrm>
            <a:off x="0" y="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609480" y="9907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、学校把栽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280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棵树的任务，按照六年级三个班的人数，分配给各班。一班有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47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，二班有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45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，三班有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48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。三个班各应栽树多少棵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5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609480" y="914400"/>
            <a:ext cx="7994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、学校把栽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280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棵树的任务，按照六年级三个班的人数，分配给各班。一班有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47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，二班有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45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，三班有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48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。三个班各应栽树多少棵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557_200532519343594528"/>
          <p:cNvPicPr/>
          <p:nvPr/>
        </p:nvPicPr>
        <p:blipFill>
          <a:blip r:embed="rId2"/>
          <a:stretch/>
        </p:blipFill>
        <p:spPr>
          <a:xfrm>
            <a:off x="228600" y="152280"/>
            <a:ext cx="1050840" cy="10749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116000" y="2565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）三个班的总人数：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47+45+48=140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116000" y="335772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）一班应栽的棵数：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28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084720" y="3141720"/>
            <a:ext cx="6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9"/>
          <p:cNvSpPr/>
          <p:nvPr/>
        </p:nvSpPr>
        <p:spPr>
          <a:xfrm>
            <a:off x="6084720" y="3716280"/>
            <a:ext cx="505080" cy="0"/>
          </a:xfrm>
          <a:prstGeom prst="line">
            <a:avLst/>
          </a:prstGeom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6804000" y="3357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宋体"/>
              </a:rPr>
              <a:t>=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94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棵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116000" y="40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）二班应栽的棵树：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28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6084720" y="4005360"/>
            <a:ext cx="7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6084720" y="4437000"/>
            <a:ext cx="648000" cy="0"/>
          </a:xfrm>
          <a:prstGeom prst="line">
            <a:avLst/>
          </a:prstGeom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6804000" y="4221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=90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1116000" y="49417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）三班应栽的棵数：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28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6012000" y="4797360"/>
            <a:ext cx="64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6012000" y="5229360"/>
            <a:ext cx="504720" cy="0"/>
          </a:xfrm>
          <a:prstGeom prst="line">
            <a:avLst/>
          </a:prstGeom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6732720" y="5013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=96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（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826920" y="573408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答：一班、二班、三班各应栽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94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棵、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90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棵、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96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1523880" y="457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尝试探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143000" y="1295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已知总数和各部分数的比，求各部分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557_200532519343594528"/>
          <p:cNvPicPr/>
          <p:nvPr/>
        </p:nvPicPr>
        <p:blipFill>
          <a:blip r:embed="rId2"/>
          <a:stretch/>
        </p:blipFill>
        <p:spPr>
          <a:xfrm>
            <a:off x="228600" y="152280"/>
            <a:ext cx="1050840" cy="10749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990720" y="762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结构特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90720" y="2057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方法与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762120" y="2895480"/>
            <a:ext cx="7924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、根据比先求出总份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、求出各部分数占总数的几分之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、运用分数乘法列式计算，求出各部分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、答题并检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2" descr="be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914400" y="83808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一个农场计划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公顷的地里播种大豆和玉米。播种面积的比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。两种作物各播种多少公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557_200532519343594528"/>
          <p:cNvPicPr/>
          <p:nvPr/>
        </p:nvPicPr>
        <p:blipFill>
          <a:blip r:embed="rId2"/>
          <a:stretch/>
        </p:blipFill>
        <p:spPr>
          <a:xfrm>
            <a:off x="304920" y="30492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1403280" y="333360"/>
            <a:ext cx="36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一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1447920" y="22096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二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914400" y="2666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一种什锦糖是由奶糖、水果糖、和酥糖按照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混合成的。要配制这样的什锦糖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0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千克，需要奶糖、水果糖、和酥糖各多少千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523880" y="39625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三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914400" y="46483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8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厘米长的铁丝围成一个三角形，三条边的长度比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。三角形的三条边各长多少厘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0T01:16:5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1:29Z</dcterms:modified>
  <cp:revision>8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