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7.gif" ContentType="image/gif"/>
  <Override PartName="/ppt/media/image5.png" ContentType="image/png"/>
  <Override PartName="/ppt/media/image8.jpeg" ContentType="image/jpeg"/>
  <Override PartName="/ppt/media/image12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A87-8F5C-4D72-9812-A16EE213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6DD-B1C0-42D8-99D1-365857A6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FF6-C02C-44DE-B4DC-0C7EEE44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BAE-FCEB-4899-BF1A-07A3C13A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B40-A6A4-41E8-AF5F-AF9D1566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7E8-4233-4313-A889-CFF4662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DB0-538A-43C9-BE46-3F5E7FD6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6B2-74F2-4145-8C6D-68B870EF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005-D4F8-4A9C-AB90-DA2E15AC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69A-EC68-4E93-B60B-6D213A7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85B-27B5-4494-A5B4-A974724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06C-155D-4876-8C95-EBD1ADA0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ED6B-61E1-47BF-953F-A6A57FB8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2"/>
          <p:cNvGrpSpPr/>
          <p:nvPr/>
        </p:nvGrpSpPr>
        <p:grpSpPr>
          <a:xfrm>
            <a:off x="0" y="0"/>
            <a:ext cx="9143640" cy="5790960"/>
            <a:chOff x="0" y="0"/>
            <a:chExt cx="9143640" cy="5790960"/>
          </a:xfrm>
        </p:grpSpPr>
        <p:pic>
          <p:nvPicPr>
            <p:cNvPr id="43" name="Picture 15" descr="200671120440642"/>
            <p:cNvPicPr/>
            <p:nvPr/>
          </p:nvPicPr>
          <p:blipFill>
            <a:blip r:embed="rId17"/>
            <a:stretch/>
          </p:blipFill>
          <p:spPr>
            <a:xfrm>
              <a:off x="0" y="0"/>
              <a:ext cx="914364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AutoShape 20"/>
            <p:cNvSpPr/>
            <p:nvPr/>
          </p:nvSpPr>
          <p:spPr>
            <a:xfrm>
              <a:off x="6958800" y="3425400"/>
              <a:ext cx="2184840" cy="2202120"/>
            </a:xfrm>
            <a:prstGeom prst="wedgeEllipseCallout">
              <a:avLst>
                <a:gd name="adj1" fmla="val -73226"/>
                <a:gd name="adj2" fmla="val -4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18" descr="ma2_004"/>
            <p:cNvPicPr/>
            <p:nvPr/>
          </p:nvPicPr>
          <p:blipFill>
            <a:blip r:embed="rId18"/>
            <a:stretch/>
          </p:blipFill>
          <p:spPr>
            <a:xfrm>
              <a:off x="7282800" y="3833640"/>
              <a:ext cx="1456560" cy="130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WordArt 16" descr=""/>
          <p:cNvPicPr/>
          <p:nvPr/>
        </p:nvPicPr>
        <p:blipFill>
          <a:blip r:embed="rId19"/>
          <a:stretch/>
        </p:blipFill>
        <p:spPr>
          <a:xfrm>
            <a:off x="1990800" y="507960"/>
            <a:ext cx="5686200" cy="3213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23"/>
          <p:cNvSpPr txBox="1"/>
          <p:nvPr/>
        </p:nvSpPr>
        <p:spPr>
          <a:xfrm>
            <a:off x="1676520" y="5627520"/>
            <a:ext cx="59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课标版小学语文六年级上册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485080" y="6307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父    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7720" y="21333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书页中分明多了几张毛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晚上，父亲对我说：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打你不为别的事，都像你这样白看书，人家怎么过日子？搬运队的马车夫需要马草，你可以扯马草换钱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父亲</a:t>
            </a:r>
            <a:r>
              <a:rPr b="1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3" name="AutoShape 9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91504"/>
                <a:gd name="adj2" fmla="val 5163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语言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7080" y="5105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碧  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仿宋"/>
              </a:rPr>
              <a:t>姑娘接过我的马草，提进了里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碧云</a:t>
            </a:r>
            <a:r>
              <a:rPr b="1" lang="en-US" sz="3600" spc="-1" strike="noStrike">
                <a:solidFill>
                  <a:srgbClr val="006600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9" name="AutoShape 7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119069"/>
                <a:gd name="adj2" fmla="val -1863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动作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780109963x0902007-fm02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124080" y="32000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几次写到了“别饿坏了那匹马”，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3200400" y="19810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探讨问题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4" name="Picture 5" descr="ma2_004"/>
          <p:cNvPicPr/>
          <p:nvPr/>
        </p:nvPicPr>
        <p:blipFill>
          <a:blip r:embed="rId3"/>
          <a:stretch/>
        </p:blipFill>
        <p:spPr>
          <a:xfrm>
            <a:off x="7543800" y="5334120"/>
            <a:ext cx="1295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1430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在文中出现了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次是“我”把马草卖给残疾青年，离开书摊时，青年嘱咐“我”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是青年看见“我”背着马草走向书摊时，吩咐妹妹碧云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次是“我”对青年说的话。“我”担心误了喂马时间而饿着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609480" y="2209680"/>
            <a:ext cx="468360" cy="2619360"/>
            <a:chOff x="609480" y="2209680"/>
            <a:chExt cx="468360" cy="2619360"/>
          </a:xfrm>
        </p:grpSpPr>
        <p:pic>
          <p:nvPicPr>
            <p:cNvPr id="108" name="Picture 4" descr="01a"/>
            <p:cNvPicPr/>
            <p:nvPr/>
          </p:nvPicPr>
          <p:blipFill>
            <a:blip r:embed="rId3"/>
            <a:stretch/>
          </p:blipFill>
          <p:spPr>
            <a:xfrm>
              <a:off x="609480" y="220968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01a"/>
            <p:cNvPicPr/>
            <p:nvPr/>
          </p:nvPicPr>
          <p:blipFill>
            <a:blip r:embed="rId4"/>
            <a:stretch/>
          </p:blipFill>
          <p:spPr>
            <a:xfrm>
              <a:off x="609480" y="3276360"/>
              <a:ext cx="4683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01a"/>
            <p:cNvPicPr/>
            <p:nvPr/>
          </p:nvPicPr>
          <p:blipFill>
            <a:blip r:embed="rId5"/>
            <a:stretch/>
          </p:blipFill>
          <p:spPr>
            <a:xfrm>
              <a:off x="609480" y="4343400"/>
              <a:ext cx="4665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WordArt 8"/>
          <p:cNvSpPr txBox="1"/>
          <p:nvPr/>
        </p:nvSpPr>
        <p:spPr>
          <a:xfrm>
            <a:off x="4419720" y="5791320"/>
            <a:ext cx="3047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善意的谎言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别饿坏了那匹马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22860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既是课文的题目，也是推动故事发生的关键句。文章用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贯穿全文，起到了层层推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20067112044064202"/>
          <p:cNvPicPr/>
          <p:nvPr/>
        </p:nvPicPr>
        <p:blipFill>
          <a:blip r:embed="rId3"/>
          <a:stretch/>
        </p:blipFill>
        <p:spPr>
          <a:xfrm>
            <a:off x="2057400" y="4648320"/>
            <a:ext cx="1752480" cy="1800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"/>
          <p:cNvSpPr/>
          <p:nvPr/>
        </p:nvSpPr>
        <p:spPr>
          <a:xfrm>
            <a:off x="4876920" y="4572000"/>
            <a:ext cx="3124080" cy="1828800"/>
          </a:xfrm>
          <a:prstGeom prst="wedgeEllipseCallout">
            <a:avLst>
              <a:gd name="adj1" fmla="val -79930"/>
              <a:gd name="adj2" fmla="val -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ma2_004"/>
          <p:cNvPicPr/>
          <p:nvPr/>
        </p:nvPicPr>
        <p:blipFill>
          <a:blip r:embed="rId4"/>
          <a:stretch/>
        </p:blipFill>
        <p:spPr>
          <a:xfrm>
            <a:off x="5486400" y="48769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228600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推开了木板房的门，真相终于大白。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站在那一堆枯黄的马草前，脑海中也许会浮现出一幕幕往事；耳畔也许还会回响着守摊的残疾青年说过的每一句话；也许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…</a:t>
            </a:r>
            <a:r>
              <a:rPr b="0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在这一刻都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请发挥你的想象，把它写下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1-4"/>
          <p:cNvPicPr/>
          <p:nvPr/>
        </p:nvPicPr>
        <p:blipFill>
          <a:blip r:embed="rId3"/>
          <a:stretch/>
        </p:blipFill>
        <p:spPr>
          <a:xfrm>
            <a:off x="7543800" y="5029200"/>
            <a:ext cx="1295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6CA5-0350-4E3F-99E7-5A0710E587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3682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2826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刻骨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毛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一如既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瞥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尴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971800" y="1282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形容记忆深刻，永远不忘。多用于对别人的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971800" y="2273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口语，就是面值一角的人民币纸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48120" y="2806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048120" y="334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跟过去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48120" y="3873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眼看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048120" y="440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处境困难，不好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8654"/>
          <p:cNvPicPr/>
          <p:nvPr/>
        </p:nvPicPr>
        <p:blipFill>
          <a:blip r:embed="rId2"/>
          <a:stretch/>
        </p:blipFill>
        <p:spPr>
          <a:xfrm>
            <a:off x="7315200" y="44830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76160" y="3429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0067112044064202"/>
          <p:cNvPicPr/>
          <p:nvPr/>
        </p:nvPicPr>
        <p:blipFill>
          <a:blip r:embed="rId2"/>
          <a:stretch/>
        </p:blipFill>
        <p:spPr>
          <a:xfrm>
            <a:off x="762120" y="1600200"/>
            <a:ext cx="175248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8654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7720" y="2971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主要写了酷爱读书的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在失去看书机会时，摆书摊的残疾青年谎称家中有马，买下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的马草，让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得以继续看书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067112044064201"/>
          <p:cNvPicPr/>
          <p:nvPr/>
        </p:nvPicPr>
        <p:blipFill>
          <a:blip r:embed="rId2"/>
          <a:stretch/>
        </p:blipFill>
        <p:spPr>
          <a:xfrm>
            <a:off x="533520" y="12952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8654"/>
          <p:cNvPicPr/>
          <p:nvPr/>
        </p:nvPicPr>
        <p:blipFill>
          <a:blip r:embed="rId3"/>
          <a:stretch/>
        </p:blipFill>
        <p:spPr>
          <a:xfrm>
            <a:off x="7467480" y="5562720"/>
            <a:ext cx="1047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文中出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这些人物分别有什么样的性格特点呢？请从文中找出有关的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828800" y="22096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速读课文，回答问题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Picture 8" descr="Gif0405_136"/>
          <p:cNvPicPr/>
          <p:nvPr/>
        </p:nvPicPr>
        <p:blipFill>
          <a:blip r:embed="rId2"/>
          <a:stretch/>
        </p:blipFill>
        <p:spPr>
          <a:xfrm>
            <a:off x="6781680" y="1219320"/>
            <a:ext cx="1905120" cy="16192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"/>
          <p:cNvSpPr/>
          <p:nvPr/>
        </p:nvSpPr>
        <p:spPr>
          <a:xfrm>
            <a:off x="849240" y="747720"/>
            <a:ext cx="66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52320" y="9140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残疾青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240" y="25142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依然宽厚地对我一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瞥见轮椅上的他正定定地看着我，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坐下慢慢看吧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说着指了指身旁的一只小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别打孩子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年轻人竭力想从轮椅上挣扎起来阻止我父亲，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孩子看书不是坏事。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67112044064201"/>
          <p:cNvPicPr/>
          <p:nvPr/>
        </p:nvPicPr>
        <p:blipFill>
          <a:blip r:embed="rId2"/>
          <a:stretch/>
        </p:blipFill>
        <p:spPr>
          <a:xfrm>
            <a:off x="457200" y="685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380880" y="1447920"/>
            <a:ext cx="1524240" cy="2057400"/>
          </a:xfrm>
          <a:prstGeom prst="wedgeRoundRectCallout">
            <a:avLst>
              <a:gd name="adj1" fmla="val 74166"/>
              <a:gd name="adj2" fmla="val -42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先是一愣，继而眼睛一亮，笑着对我说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过来，让我看看你的马草。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认真地看过马草后，冲里屋叫道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，你出来一下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别别别</a:t>
            </a: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……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急了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！碧云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用双手拼命摇着轮椅，想挡住我的路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你放下！等碧云来拿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回来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在身后喊道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那马会踢伤你的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残疾青年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宽厚、善良、善解人意，用心良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语言、动作、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80720" y="1599840"/>
            <a:ext cx="5410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上小学五年级那年，学校不远处的书摊是我放学后流连忘返的地方。可是更多的时候，手无分文的我只能装作选书的样子，偷看几则小故事，然后溜之大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攥着马草换来的毛票，我立即奔向书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”</a:t>
            </a: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喜爱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0067112044064202"/>
          <p:cNvPicPr/>
          <p:nvPr/>
        </p:nvPicPr>
        <p:blipFill>
          <a:blip r:embed="rId3"/>
          <a:stretch/>
        </p:blipFill>
        <p:spPr>
          <a:xfrm>
            <a:off x="380880" y="1371600"/>
            <a:ext cx="1690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0"/>
          <p:cNvGrpSpPr/>
          <p:nvPr/>
        </p:nvGrpSpPr>
        <p:grpSpPr>
          <a:xfrm>
            <a:off x="7620120" y="1295280"/>
            <a:ext cx="838080" cy="2362320"/>
            <a:chOff x="7620120" y="1295280"/>
            <a:chExt cx="838080" cy="2362320"/>
          </a:xfrm>
        </p:grpSpPr>
        <p:sp>
          <p:nvSpPr>
            <p:cNvPr id="82" name="AutoShape 11"/>
            <p:cNvSpPr/>
            <p:nvPr/>
          </p:nvSpPr>
          <p:spPr>
            <a:xfrm>
              <a:off x="7620120" y="1295280"/>
              <a:ext cx="838080" cy="2362320"/>
            </a:xfrm>
            <a:prstGeom prst="wedgeRoundRectCallout">
              <a:avLst>
                <a:gd name="adj1" fmla="val -60037"/>
                <a:gd name="adj2" fmla="val 6223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7696080" y="137160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4"/>
          <p:cNvSpPr/>
          <p:nvPr/>
        </p:nvSpPr>
        <p:spPr>
          <a:xfrm>
            <a:off x="5105520" y="1295280"/>
            <a:ext cx="2971800" cy="914400"/>
          </a:xfrm>
          <a:prstGeom prst="wedgeRoundRectCallout">
            <a:avLst>
              <a:gd name="adj1" fmla="val -68856"/>
              <a:gd name="adj2" fmla="val 9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1371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2742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是迟了！我已经走进他家的后院，看见了一堆枯蔫焦黄的马草──这些日子我卖给他的所有的马草！那匹马呢？那匹香甜地吃着我的马草的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523880" y="4800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段话通过两个感叹句、两个问句写出了“我”见到马草后的震惊与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09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4:56Z</dcterms:modified>
  <cp:revision>2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