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1E6F-BF10-474B-9001-E65D3186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A4D-2907-4EE4-8906-84A61990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5398-34A0-480B-AF51-69096768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7C105-5942-48EA-BB47-8E0E130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B5E9F-34AE-4B3F-9979-E4325246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E2BFE-4729-4322-85BC-BC2457A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6F0DA-4315-4BA8-A815-13FD88F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94CCD-B39C-44DB-955A-B328126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BE91A-8BCA-4768-91B8-A6E2776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DA253-3ADB-48AE-B86A-358809D1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4997F-EB4B-4452-9194-10863409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159B0-DBCC-43E9-B3E4-8A1132CF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405-6594-4E70-8438-E9D3DFFC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4D639-E7C2-4AC3-A43D-2180743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386CE-1CF8-4BBD-861C-2D540073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3714E-D01C-4CF0-9C04-93CFCEDC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C04F0-2D25-4AB1-AB63-DDFEFE4D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B130C-59AE-4F13-A1AC-F5227633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87935-5F6F-4FA1-BFC8-E1CA64E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5875B-D1F0-488A-AB2F-34248F4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E7973-2F0F-4434-A6A2-F42CBEAB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9188F-5478-4FAC-A5FD-0E0DE9F0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72263-9735-4D0C-A08C-52478C33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78D-8490-413C-99BC-1289398E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FD1BE-E0AF-4BB5-93CC-B74C6F86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3EA76-C1C8-41D8-9A28-522716BC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689E-314B-4F31-A03A-6DD6E74D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BD69B-43C5-48F4-A37F-C41443FA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04A6-68A2-4912-80BE-2376F941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F3CFB-A918-41B8-8BCA-C112386D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EF00-1CCF-44BD-AFE2-BE3512A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1EA04-0BF5-45BE-B738-520D01EF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76ABB-A643-43D9-859D-CD4902E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E514-5C2B-4FF0-9CC0-BB2999B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72D-D83C-47C1-B1D8-B5380630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38558-CC21-4008-9CA4-6D6DFE7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EA035-8102-49C8-91B3-3E01886E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ABFFB-E13D-45AF-B429-25A9D9CA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3F37-9663-4BBE-ADEF-C647DCCB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2D477-1E26-448D-A052-1FDBF78D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6B3FF-93C5-4388-9464-75BE5E36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18E31-9DC0-41A9-B309-DE8C96DD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D125C-9F24-48C1-8215-4AA48756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0EAFA-66A5-4DDF-BF06-92CD77E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27F2-8AC4-4E8A-B37F-5EE92142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4CD9-88CC-4C5D-9CF9-93BF6729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64618-5EAB-451A-81E0-C700FF4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7F3AF-9D32-44C5-9CFD-444E12B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D7319-EB81-47BA-B3E6-27EE513E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3F945-0B6B-48CD-8637-78686C1E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42B5-0B51-404C-A865-B14D0CB5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9E52-0634-4848-8260-DA352F07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214B-3E8B-499F-A868-DDD9099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A1B2-4D84-42AB-900D-2598E2E4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5D6B-465D-48C3-8D17-9C22E77E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8186-C173-4478-80B1-3D8E3E6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CEA-2EA2-49D0-B20E-52AA75D6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0DBA-295F-4128-97D9-D0C5D55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F73-27C5-4E6D-9882-CC81330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C45-F667-4355-9A91-8DCCCE3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2B35-50FD-4995-8900-91CCD28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2B0-4926-4459-AD06-5616574B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4454-703A-4F73-A2B4-59C44D5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63844-D944-4D73-AD76-CF46AAB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D681-7B9E-4F26-A3BE-ADA940E3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DEF7-25F1-42B1-9FFF-4503598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D48D-0ADA-4AD2-8E06-0BBB3726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88F-A379-42A1-A06A-103E38F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CEEF-708B-4B6B-B7B4-3D9C8F7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B537-7974-4DC2-86A1-17F1E18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6035-0A69-4027-9A0D-8E53421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43E4-40D3-4679-8814-314D2BE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32F6D-EC28-4C30-B280-2973EE22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4815-C8A3-4B1D-8D86-07D57471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F3E1-0E61-43A9-AD07-4E1ACB9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9DF2-92B8-4734-9762-5DCA804A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CC34-FDA2-4181-8F83-301302DE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2773-5B3B-4984-BBFD-10180F2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17C-F9A3-465A-B74D-545863A6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3EE54-27B3-46F2-841B-14AD083E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E65B-A9EA-404B-99E9-2B85E183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7510-AD5B-41AE-8688-BDC7AE8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AB9F8-1960-4B3A-B395-858FB1C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47260-F44C-4730-816C-4CE8E4C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5F1E0-BA11-4004-81B9-943AB4C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CF4A-4CCF-4747-B2CA-DD6748A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FFDB-38E5-4EB3-BCD1-EE39365F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46A81-B29E-4E1F-B243-DB3C16D8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E166-A71A-416E-A0B7-C04512E9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BFF-5B95-4DF0-8E62-3ABF856B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CBA10-9853-402A-B0E8-CEFBD71C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55F7-956B-4273-B9D6-2A6ADD3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DBFB8-2AF2-45CB-A061-4BB01F0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673C-18FD-4E33-9012-4B163211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2927-D7B1-4D0F-BA6E-6A8A140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D42CA-E92D-4B52-B28D-E861275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F66D-F48D-4C4E-8B3E-2143A59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DE9F-C6FE-4567-929B-300BAAA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069F-6E8B-4341-B449-48628CF5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DEEC-BEFF-45FB-A13F-5F4AC6E7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988-B6D5-4646-97B9-E808D539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5AD05-A781-4B48-B4A6-A8978E4A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9B7A3-8F40-4E5E-9A51-0C96787F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0C92-BBF9-40DD-945C-AC28239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D42E-3941-411F-9321-AC0D97D6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7C74-429E-48AF-9655-A0CAE461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46CE-D67B-41E0-A187-D8297B1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42E96-1E2A-4066-91F0-F113C0C5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6BA8-D2DD-47A0-A831-3F7D963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4905-752B-4BC7-98AC-78DA4F5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A191A-D719-452D-B078-B5EAA54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FC2-1267-4480-A0B4-BFFD1D4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5E232-554E-4331-A818-829EE9BB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870E-184D-4720-B34B-74447C60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E4F74-C079-4E76-AA38-99FFE9F0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192F7-E8E0-4E1D-BA6B-F4ACF096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D5F6-0BD5-43EC-9785-99C5658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21CD-FECF-4643-939B-CF39DE4E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5850-410E-4317-9DC0-1C361E93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8E135-C75A-4B84-8D7E-0F64E96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5D21-9106-4160-B855-F8450D66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4320B-D6FC-4076-81AB-F6E9145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20E-19A6-4541-8148-9E702A27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B4546-1A24-43F9-BFA3-A98E198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B41F-58E4-4C4B-A0A9-DB3229CE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FD98-161C-44D1-9869-6446892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91B93-14AD-4B92-9E3B-0A734DC2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1628-164C-4872-B8CF-6CD359D6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965C-E7A3-4191-9763-4EA7EDE2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1E3F-E5B9-4404-B5A0-74ADFF4C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28354-0B9C-4286-AFC1-0D891A6F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9654B-6F1F-4A47-A054-FC35C5B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945E1-C914-43ED-87F9-9850769E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F32-6021-4AAA-AC0E-BE03807F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ACAB3-7E66-4AD1-B59E-A268B10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1FAB-9583-46D4-BBEF-59D10BD5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C8A80-11EE-40AA-B26F-AA9EE9B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15105-F1FD-4AF9-837C-59C585B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ADC6E-B004-4BBB-9A3E-D37C386B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6168-9B68-4A0A-B17F-1667C964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C7723-3283-45F0-81CF-BF483EB4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4EC42-04DD-42C7-A296-A0566AAB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46F7F-13B7-4D2F-879C-6538258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7BAEA-9D7F-4E66-8A94-1AB4D85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86C3-A030-4CC8-B207-38CBF1198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ADEA-0CEA-4EEE-9534-7674339D61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0D2B-F3AA-47F8-AE23-E8CB6A8C43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60EF-15D1-46D2-8BF9-837754E4F5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32B-8CB8-4A35-819B-DE9451AF8C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FE8-E0E0-458B-9D56-739660B490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8096-FB9F-48C9-A1E2-C2AD18C790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9E6-B64F-47D1-8479-5A2C14485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35C-C726-46AC-84B5-0EE468E49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AD3B-A744-457E-8ADE-EDA5DB9E6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5D92-B777-4525-AE88-41CB19034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CE2-E738-4225-94A9-A0E753D288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200508241924507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6"/>
          <p:cNvSpPr/>
          <p:nvPr/>
        </p:nvSpPr>
        <p:spPr>
          <a:xfrm>
            <a:off x="863640" y="1916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不连续进位加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矩形 7"/>
          <p:cNvSpPr/>
          <p:nvPr/>
        </p:nvSpPr>
        <p:spPr>
          <a:xfrm>
            <a:off x="225504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820800" y="79200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巩固反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1652040" y="160020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直接在竖式上计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3295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5" descr="http://zhenyuan.sdedu.net/RESOURCE/XX/XXSX/DGJC/204/023/ja4_349.jpg"/>
          <p:cNvPicPr/>
          <p:nvPr/>
        </p:nvPicPr>
        <p:blipFill>
          <a:blip r:embed="rId2"/>
          <a:stretch/>
        </p:blipFill>
        <p:spPr>
          <a:xfrm>
            <a:off x="1828800" y="2514600"/>
            <a:ext cx="6172200" cy="14050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7"/>
          <p:cNvSpPr/>
          <p:nvPr/>
        </p:nvSpPr>
        <p:spPr>
          <a:xfrm>
            <a:off x="1527480" y="4419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列竖式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1865160" y="5334120"/>
            <a:ext cx="58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26=    162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27=    7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605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820800" y="79200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巩固反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437120" y="19810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  <a:ea typeface="Times New Roman"/>
              </a:rPr>
              <a:t>．判断正误并改正．</a:t>
            </a:r>
            <a:r>
              <a:rPr b="1" lang="zh-CN" sz="2400" spc="-1" strike="noStrike">
                <a:solidFill>
                  <a:srgbClr val="cccc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3295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8" descr="http://zhenyuan.sdedu.net/RESOURCE/XX/XXSX/DGJC/204/023/ja4_350.jpg"/>
          <p:cNvPicPr/>
          <p:nvPr/>
        </p:nvPicPr>
        <p:blipFill>
          <a:blip r:embed="rId2"/>
          <a:stretch/>
        </p:blipFill>
        <p:spPr>
          <a:xfrm>
            <a:off x="1143000" y="3114720"/>
            <a:ext cx="7772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2793960" y="1981080"/>
            <a:ext cx="393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1738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＋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625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6237-1767-4F1D-BEB3-44644CC58B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9920" y="29196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．口算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896040" y="26431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．求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38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加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</a:rPr>
              <a:t>的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4784760" y="5219640"/>
            <a:ext cx="40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满十，向十位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119960" y="1027080"/>
            <a:ext cx="67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29800" y="1015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5144400" y="103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7506360" y="1015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2629800" y="1866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5169960" y="1886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7506360" y="186696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5"/>
          <p:cNvSpPr/>
          <p:nvPr/>
        </p:nvSpPr>
        <p:spPr>
          <a:xfrm>
            <a:off x="4740480" y="3238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笔算两位数加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6"/>
          <p:cNvSpPr/>
          <p:nvPr/>
        </p:nvSpPr>
        <p:spPr>
          <a:xfrm>
            <a:off x="5192640" y="3894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同数位对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2"/>
          <p:cNvGrpSpPr/>
          <p:nvPr/>
        </p:nvGrpSpPr>
        <p:grpSpPr>
          <a:xfrm>
            <a:off x="1898640" y="3633840"/>
            <a:ext cx="1056960" cy="1144800"/>
            <a:chOff x="1898640" y="3633840"/>
            <a:chExt cx="1056960" cy="1144800"/>
          </a:xfrm>
        </p:grpSpPr>
        <p:sp>
          <p:nvSpPr>
            <p:cNvPr id="508" name="Text Box 12"/>
            <p:cNvSpPr/>
            <p:nvPr/>
          </p:nvSpPr>
          <p:spPr>
            <a:xfrm>
              <a:off x="2264400" y="363384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3 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2254680" y="419724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2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9"/>
            <p:cNvSpPr/>
            <p:nvPr/>
          </p:nvSpPr>
          <p:spPr>
            <a:xfrm>
              <a:off x="1898640" y="477684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20"/>
            <p:cNvSpPr/>
            <p:nvPr/>
          </p:nvSpPr>
          <p:spPr>
            <a:xfrm>
              <a:off x="1900440" y="42433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Text Box 23"/>
          <p:cNvSpPr/>
          <p:nvPr/>
        </p:nvSpPr>
        <p:spPr>
          <a:xfrm>
            <a:off x="5131440" y="45338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个位加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2595240" y="485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2290680" y="485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793960" y="1981080"/>
            <a:ext cx="393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1738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＋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625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1080000" y="1066680"/>
            <a:ext cx="39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宋体"/>
              </a:rPr>
              <a:t>求</a:t>
            </a:r>
            <a:r>
              <a:rPr b="0" lang="zh-CN" sz="3600" spc="-1" strike="noStrike">
                <a:solidFill>
                  <a:srgbClr val="ccff33"/>
                </a:solidFill>
                <a:latin typeface="宋体"/>
              </a:rPr>
              <a:t>1738</a:t>
            </a:r>
            <a:r>
              <a:rPr b="0" lang="zh-CN" sz="3600" spc="-1" strike="noStrike">
                <a:solidFill>
                  <a:srgbClr val="ccff33"/>
                </a:solidFill>
                <a:latin typeface="宋体"/>
              </a:rPr>
              <a:t>加上</a:t>
            </a:r>
            <a:r>
              <a:rPr b="0" lang="zh-CN" sz="3600" spc="-1" strike="noStrike">
                <a:solidFill>
                  <a:srgbClr val="ccff33"/>
                </a:solidFill>
                <a:latin typeface="宋体"/>
              </a:rPr>
              <a:t>625</a:t>
            </a:r>
            <a:r>
              <a:rPr b="0" lang="zh-CN" sz="3600" spc="-1" strike="noStrike">
                <a:solidFill>
                  <a:srgbClr val="ccff33"/>
                </a:solidFill>
                <a:latin typeface="宋体"/>
              </a:rPr>
              <a:t>的和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1330560" y="86364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求下面两个数的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3" descr="a"/>
          <p:cNvPicPr/>
          <p:nvPr/>
        </p:nvPicPr>
        <p:blipFill>
          <a:blip r:embed="rId2"/>
          <a:stretch/>
        </p:blipFill>
        <p:spPr>
          <a:xfrm>
            <a:off x="2306520" y="2065320"/>
            <a:ext cx="4094280" cy="1363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b"/>
          <p:cNvPicPr/>
          <p:nvPr/>
        </p:nvPicPr>
        <p:blipFill>
          <a:blip r:embed="rId3"/>
          <a:stretch/>
        </p:blipFill>
        <p:spPr>
          <a:xfrm>
            <a:off x="2362320" y="4197240"/>
            <a:ext cx="3429000" cy="11844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3962880" y="3429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4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962880" y="58672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772760" y="3200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4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3"/>
          <p:cNvSpPr/>
          <p:nvPr/>
        </p:nvSpPr>
        <p:spPr>
          <a:xfrm>
            <a:off x="7772760" y="3780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6858000" y="4465800"/>
            <a:ext cx="167652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6859440" y="383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8077320" y="3322800"/>
            <a:ext cx="380880" cy="9903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7"/>
          <p:cNvSpPr/>
          <p:nvPr/>
        </p:nvSpPr>
        <p:spPr>
          <a:xfrm>
            <a:off x="8078400" y="4560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7772400" y="3322800"/>
            <a:ext cx="380880" cy="9903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9"/>
          <p:cNvSpPr/>
          <p:nvPr/>
        </p:nvSpPr>
        <p:spPr>
          <a:xfrm>
            <a:off x="7773480" y="4552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6781680" y="236232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43+3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52960" y="816120"/>
            <a:ext cx="30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求下面两个数的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3" descr="a"/>
          <p:cNvPicPr/>
          <p:nvPr/>
        </p:nvPicPr>
        <p:blipFill>
          <a:blip r:embed="rId2"/>
          <a:stretch/>
        </p:blipFill>
        <p:spPr>
          <a:xfrm>
            <a:off x="2306520" y="2065320"/>
            <a:ext cx="4094280" cy="1363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b"/>
          <p:cNvPicPr/>
          <p:nvPr/>
        </p:nvPicPr>
        <p:blipFill>
          <a:blip r:embed="rId3"/>
          <a:stretch/>
        </p:blipFill>
        <p:spPr>
          <a:xfrm>
            <a:off x="2362320" y="4197240"/>
            <a:ext cx="3429000" cy="11844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2819880" y="3429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4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819880" y="58672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7772760" y="32004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4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7772760" y="3780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3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6858000" y="4465800"/>
            <a:ext cx="167652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6859440" y="383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8078400" y="4560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7391520" y="3322800"/>
            <a:ext cx="380880" cy="99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7773480" y="4552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5" descr="s"/>
          <p:cNvPicPr/>
          <p:nvPr/>
        </p:nvPicPr>
        <p:blipFill>
          <a:blip r:embed="rId4"/>
          <a:stretch/>
        </p:blipFill>
        <p:spPr>
          <a:xfrm>
            <a:off x="355680" y="2193840"/>
            <a:ext cx="863640" cy="1014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" descr="s"/>
          <p:cNvPicPr/>
          <p:nvPr/>
        </p:nvPicPr>
        <p:blipFill>
          <a:blip r:embed="rId5"/>
          <a:stretch/>
        </p:blipFill>
        <p:spPr>
          <a:xfrm>
            <a:off x="1295280" y="2209680"/>
            <a:ext cx="863640" cy="10144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7" descr="s"/>
          <p:cNvPicPr/>
          <p:nvPr/>
        </p:nvPicPr>
        <p:blipFill>
          <a:blip r:embed="rId6"/>
          <a:stretch/>
        </p:blipFill>
        <p:spPr>
          <a:xfrm>
            <a:off x="1066680" y="4343400"/>
            <a:ext cx="863640" cy="101448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9"/>
          <p:cNvSpPr/>
          <p:nvPr/>
        </p:nvSpPr>
        <p:spPr>
          <a:xfrm>
            <a:off x="2509200" y="342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2509200" y="586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3926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392600" y="3772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7391520" y="4648320"/>
            <a:ext cx="38088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8" dur="1" fill="hold"/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934280" y="1325520"/>
            <a:ext cx="33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270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8 =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84560" y="29718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2 7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4414680" y="36370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5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3505320" y="4343400"/>
            <a:ext cx="16761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506760" y="3625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4770360" y="441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7"/>
          <p:cNvSpPr/>
          <p:nvPr/>
        </p:nvSpPr>
        <p:spPr>
          <a:xfrm>
            <a:off x="2684520" y="1628640"/>
            <a:ext cx="6490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2" descr="270"/>
          <p:cNvPicPr/>
          <p:nvPr/>
        </p:nvPicPr>
        <p:blipFill>
          <a:blip r:embed="rId17"/>
          <a:stretch/>
        </p:blipFill>
        <p:spPr>
          <a:xfrm>
            <a:off x="1676520" y="914400"/>
            <a:ext cx="6138720" cy="2530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58"/>
          <p:cNvPicPr/>
          <p:nvPr/>
        </p:nvPicPr>
        <p:blipFill>
          <a:blip r:embed="rId18"/>
          <a:stretch/>
        </p:blipFill>
        <p:spPr>
          <a:xfrm>
            <a:off x="4572000" y="396252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100"/>
          <p:cNvPicPr/>
          <p:nvPr/>
        </p:nvPicPr>
        <p:blipFill>
          <a:blip r:embed="rId19"/>
          <a:stretch/>
        </p:blipFill>
        <p:spPr>
          <a:xfrm>
            <a:off x="1600200" y="403848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5"/>
          <p:cNvSpPr/>
          <p:nvPr/>
        </p:nvSpPr>
        <p:spPr>
          <a:xfrm>
            <a:off x="4495680" y="1066680"/>
            <a:ext cx="2286000" cy="533412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6"/>
          <p:cNvSpPr/>
          <p:nvPr/>
        </p:nvSpPr>
        <p:spPr>
          <a:xfrm flipH="1">
            <a:off x="3809880" y="50292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934280" y="561960"/>
            <a:ext cx="33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270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＋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58 =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084560" y="22082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2 7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414680" y="287352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5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5"/>
          <p:cNvSpPr/>
          <p:nvPr/>
        </p:nvSpPr>
        <p:spPr>
          <a:xfrm>
            <a:off x="3505320" y="3579840"/>
            <a:ext cx="16761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506760" y="286236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4770360" y="3656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4421160" y="3656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275000" y="3236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4040280" y="3656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101240" y="1325520"/>
            <a:ext cx="44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809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76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和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4084560" y="37018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8 0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735360" y="43671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3 7 6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5"/>
          <p:cNvSpPr/>
          <p:nvPr/>
        </p:nvSpPr>
        <p:spPr>
          <a:xfrm>
            <a:off x="3200400" y="5073480"/>
            <a:ext cx="19810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201840" y="43560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770360" y="5149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4421160" y="5149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655880" y="47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084560" y="5149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3350160" y="243828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809 + 3764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4002120" y="4738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3735360" y="5149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4"/>
          <p:cNvSpPr/>
          <p:nvPr/>
        </p:nvSpPr>
        <p:spPr>
          <a:xfrm>
            <a:off x="5638680" y="24382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Times New Roman"/>
              </a:rPr>
              <a:t>45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1"/>
          <p:cNvSpPr/>
          <p:nvPr/>
        </p:nvSpPr>
        <p:spPr>
          <a:xfrm>
            <a:off x="382680" y="63342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56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08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