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B070-2040-42E5-BB17-25F813284D60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31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C70E-1B64-4D21-A5B8-ADDD70FE35A6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0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1158840" y="2238480"/>
            <a:ext cx="564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笔算乘法（不进位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7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3"/>
          <a:stretch/>
        </p:blipFill>
        <p:spPr>
          <a:xfrm>
            <a:off x="755640" y="851040"/>
            <a:ext cx="785880" cy="7855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1103400" y="646200"/>
            <a:ext cx="55436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两位数乘两位数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26980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029840" y="606096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855720" y="2271600"/>
            <a:ext cx="79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习十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226980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7DE5-EDA9-4892-9D06-BC372F02B3B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Text Box 273"/>
          <p:cNvSpPr/>
          <p:nvPr/>
        </p:nvSpPr>
        <p:spPr>
          <a:xfrm>
            <a:off x="2351160" y="2362320"/>
            <a:ext cx="1295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" name="Text Box 274"/>
          <p:cNvSpPr/>
          <p:nvPr/>
        </p:nvSpPr>
        <p:spPr>
          <a:xfrm>
            <a:off x="2951280" y="3087720"/>
            <a:ext cx="531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" name="Text Box 280"/>
          <p:cNvSpPr/>
          <p:nvPr/>
        </p:nvSpPr>
        <p:spPr>
          <a:xfrm>
            <a:off x="2951280" y="3605040"/>
            <a:ext cx="7617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" name="Text Box 284"/>
          <p:cNvSpPr/>
          <p:nvPr/>
        </p:nvSpPr>
        <p:spPr>
          <a:xfrm>
            <a:off x="2438280" y="3605040"/>
            <a:ext cx="762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169800" y="2885760"/>
            <a:ext cx="360" cy="360360"/>
            <a:chOff x="3169800" y="2885760"/>
            <a:chExt cx="360" cy="360360"/>
          </a:xfrm>
        </p:grpSpPr>
        <p:sp>
          <p:nvSpPr>
            <p:cNvPr id="57" name="Line 289"/>
            <p:cNvSpPr/>
            <p:nvPr/>
          </p:nvSpPr>
          <p:spPr>
            <a:xfrm flipV="1">
              <a:off x="3170160" y="2885760"/>
              <a:ext cx="0" cy="3603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 rot="10800000">
              <a:off x="3169800" y="288576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766960" y="2900520"/>
            <a:ext cx="403200" cy="349200"/>
            <a:chOff x="2766960" y="2900520"/>
            <a:chExt cx="403200" cy="349200"/>
          </a:xfrm>
        </p:grpSpPr>
        <p:sp>
          <p:nvSpPr>
            <p:cNvPr id="60" name="Line 290"/>
            <p:cNvSpPr/>
            <p:nvPr/>
          </p:nvSpPr>
          <p:spPr>
            <a:xfrm flipH="1" flipV="1">
              <a:off x="2766960" y="2900520"/>
              <a:ext cx="403200" cy="34920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 rot="10800000">
              <a:off x="2766960" y="2900520"/>
              <a:ext cx="40320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62" name="直接连接符 47"/>
          <p:cNvSpPr/>
          <p:nvPr/>
        </p:nvSpPr>
        <p:spPr>
          <a:xfrm>
            <a:off x="2008080" y="3659040"/>
            <a:ext cx="1476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" name="Text Box 273"/>
          <p:cNvSpPr/>
          <p:nvPr/>
        </p:nvSpPr>
        <p:spPr>
          <a:xfrm>
            <a:off x="4641840" y="2362320"/>
            <a:ext cx="1785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" name="Text Box 274"/>
          <p:cNvSpPr/>
          <p:nvPr/>
        </p:nvSpPr>
        <p:spPr>
          <a:xfrm>
            <a:off x="5722920" y="3087720"/>
            <a:ext cx="490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" name="Text Box 280"/>
          <p:cNvSpPr/>
          <p:nvPr/>
        </p:nvSpPr>
        <p:spPr>
          <a:xfrm>
            <a:off x="5722920" y="3605040"/>
            <a:ext cx="762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" name="Text Box 284"/>
          <p:cNvSpPr/>
          <p:nvPr/>
        </p:nvSpPr>
        <p:spPr>
          <a:xfrm>
            <a:off x="5170320" y="3605040"/>
            <a:ext cx="762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89240" y="2885760"/>
            <a:ext cx="360" cy="360360"/>
            <a:chOff x="5889240" y="2885760"/>
            <a:chExt cx="360" cy="360360"/>
          </a:xfrm>
        </p:grpSpPr>
        <p:sp>
          <p:nvSpPr>
            <p:cNvPr id="68" name="Line 289"/>
            <p:cNvSpPr/>
            <p:nvPr/>
          </p:nvSpPr>
          <p:spPr>
            <a:xfrm flipV="1">
              <a:off x="5889600" y="2885760"/>
              <a:ext cx="0" cy="3603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 rot="10800000">
              <a:off x="5889240" y="288576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457600" y="2890440"/>
            <a:ext cx="431640" cy="358920"/>
            <a:chOff x="5457600" y="2890440"/>
            <a:chExt cx="431640" cy="358920"/>
          </a:xfrm>
        </p:grpSpPr>
        <p:sp>
          <p:nvSpPr>
            <p:cNvPr id="71" name="Line 290"/>
            <p:cNvSpPr/>
            <p:nvPr/>
          </p:nvSpPr>
          <p:spPr>
            <a:xfrm flipH="1" flipV="1">
              <a:off x="5457600" y="2890440"/>
              <a:ext cx="431640" cy="35892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 rot="10800000">
              <a:off x="5457600" y="2890440"/>
              <a:ext cx="43164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73" name="直接连接符 56"/>
          <p:cNvSpPr/>
          <p:nvPr/>
        </p:nvSpPr>
        <p:spPr>
          <a:xfrm>
            <a:off x="4280040" y="3648240"/>
            <a:ext cx="19206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932000" y="2900520"/>
            <a:ext cx="957240" cy="349200"/>
            <a:chOff x="4932000" y="2900520"/>
            <a:chExt cx="957240" cy="349200"/>
          </a:xfrm>
        </p:grpSpPr>
        <p:sp>
          <p:nvSpPr>
            <p:cNvPr id="75" name="Line 290"/>
            <p:cNvSpPr/>
            <p:nvPr/>
          </p:nvSpPr>
          <p:spPr>
            <a:xfrm flipH="1" flipV="1">
              <a:off x="4932000" y="2900520"/>
              <a:ext cx="957240" cy="34920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 rot="10800000">
              <a:off x="4932000" y="2900520"/>
              <a:ext cx="95724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77" name="Text Box 284"/>
          <p:cNvSpPr/>
          <p:nvPr/>
        </p:nvSpPr>
        <p:spPr>
          <a:xfrm>
            <a:off x="4641840" y="3605040"/>
            <a:ext cx="500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78" name="Group 38"/>
          <p:cNvGrpSpPr/>
          <p:nvPr/>
        </p:nvGrpSpPr>
        <p:grpSpPr>
          <a:xfrm>
            <a:off x="5292720" y="1728720"/>
            <a:ext cx="3314880" cy="1268640"/>
            <a:chOff x="5292720" y="1728720"/>
            <a:chExt cx="3314880" cy="1268640"/>
          </a:xfrm>
        </p:grpSpPr>
        <p:pic>
          <p:nvPicPr>
            <p:cNvPr id="79" name="Picture 15" descr="男天使"/>
            <p:cNvPicPr/>
            <p:nvPr/>
          </p:nvPicPr>
          <p:blipFill>
            <a:blip r:embed="rId1"/>
            <a:stretch/>
          </p:blipFill>
          <p:spPr>
            <a:xfrm>
              <a:off x="7238880" y="1728720"/>
              <a:ext cx="136872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27"/>
            <p:cNvSpPr/>
            <p:nvPr/>
          </p:nvSpPr>
          <p:spPr>
            <a:xfrm>
              <a:off x="5292720" y="1728720"/>
              <a:ext cx="1946160" cy="538200"/>
            </a:xfrm>
            <a:prstGeom prst="wedgeRoundRectCallout">
              <a:avLst>
                <a:gd name="adj1" fmla="val 57263"/>
                <a:gd name="adj2" fmla="val -11476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用竖式计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81" name="Group 44"/>
          <p:cNvGrpSpPr/>
          <p:nvPr/>
        </p:nvGrpSpPr>
        <p:grpSpPr>
          <a:xfrm>
            <a:off x="536400" y="4246560"/>
            <a:ext cx="5154480" cy="1628640"/>
            <a:chOff x="536400" y="4246560"/>
            <a:chExt cx="5154480" cy="1628640"/>
          </a:xfrm>
        </p:grpSpPr>
        <p:pic>
          <p:nvPicPr>
            <p:cNvPr id="82" name="Picture 42" descr="107"/>
            <p:cNvPicPr/>
            <p:nvPr/>
          </p:nvPicPr>
          <p:blipFill>
            <a:blip r:embed="rId2"/>
            <a:stretch/>
          </p:blipFill>
          <p:spPr>
            <a:xfrm>
              <a:off x="536400" y="4246560"/>
              <a:ext cx="162072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AutoShape 27"/>
            <p:cNvSpPr/>
            <p:nvPr/>
          </p:nvSpPr>
          <p:spPr>
            <a:xfrm>
              <a:off x="1838160" y="4538520"/>
              <a:ext cx="3852720" cy="540720"/>
            </a:xfrm>
            <a:prstGeom prst="wedgeRoundRectCallout">
              <a:avLst>
                <a:gd name="adj1" fmla="val -55009"/>
                <a:gd name="adj2" fmla="val -68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怎样计算多位数乘一位数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84" name="Group 51"/>
          <p:cNvGrpSpPr/>
          <p:nvPr/>
        </p:nvGrpSpPr>
        <p:grpSpPr>
          <a:xfrm>
            <a:off x="3255840" y="5060880"/>
            <a:ext cx="5426280" cy="1463400"/>
            <a:chOff x="3255840" y="5060880"/>
            <a:chExt cx="5426280" cy="1463400"/>
          </a:xfrm>
        </p:grpSpPr>
        <p:pic>
          <p:nvPicPr>
            <p:cNvPr id="85" name="Picture 49" descr="83"/>
            <p:cNvPicPr/>
            <p:nvPr/>
          </p:nvPicPr>
          <p:blipFill>
            <a:blip r:embed="rId3"/>
            <a:stretch/>
          </p:blipFill>
          <p:spPr>
            <a:xfrm>
              <a:off x="7697880" y="5060880"/>
              <a:ext cx="984240" cy="14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AutoShape 27"/>
            <p:cNvSpPr/>
            <p:nvPr/>
          </p:nvSpPr>
          <p:spPr>
            <a:xfrm>
              <a:off x="3255840" y="5464080"/>
              <a:ext cx="4170600" cy="891000"/>
            </a:xfrm>
            <a:prstGeom prst="wedgeRoundRectCallout">
              <a:avLst>
                <a:gd name="adj1" fmla="val 54634"/>
                <a:gd name="adj2" fmla="val -128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多位数乘一位数要用一位数分别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去乘多位数每一位上的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87" name="Rectangle 52"/>
          <p:cNvSpPr/>
          <p:nvPr/>
        </p:nvSpPr>
        <p:spPr>
          <a:xfrm>
            <a:off x="2058120" y="306864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Rectangle 53"/>
          <p:cNvSpPr/>
          <p:nvPr/>
        </p:nvSpPr>
        <p:spPr>
          <a:xfrm>
            <a:off x="4309200" y="306864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226980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"/>
          <p:cNvPicPr/>
          <p:nvPr/>
        </p:nvPicPr>
        <p:blipFill>
          <a:blip r:embed="rId1"/>
          <a:stretch/>
        </p:blipFill>
        <p:spPr>
          <a:xfrm>
            <a:off x="219240" y="204840"/>
            <a:ext cx="87055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7"/>
          <p:cNvSpPr/>
          <p:nvPr/>
        </p:nvSpPr>
        <p:spPr>
          <a:xfrm>
            <a:off x="360360" y="1547640"/>
            <a:ext cx="525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一）情境引入，探究算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2" name="Picture 27" descr=""/>
          <p:cNvPicPr/>
          <p:nvPr/>
        </p:nvPicPr>
        <p:blipFill>
          <a:blip r:embed="rId1"/>
          <a:stretch/>
        </p:blipFill>
        <p:spPr>
          <a:xfrm>
            <a:off x="1577880" y="2682720"/>
            <a:ext cx="5759640" cy="2676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2948040" y="5727600"/>
            <a:ext cx="270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？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TextBox 27"/>
          <p:cNvSpPr/>
          <p:nvPr/>
        </p:nvSpPr>
        <p:spPr>
          <a:xfrm>
            <a:off x="1469880" y="2109960"/>
            <a:ext cx="7566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套书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，王老师买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套。一共买了多少本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6" name="Group 22"/>
          <p:cNvGrpSpPr/>
          <p:nvPr/>
        </p:nvGrpSpPr>
        <p:grpSpPr>
          <a:xfrm>
            <a:off x="595440" y="4848120"/>
            <a:ext cx="3111480" cy="1595520"/>
            <a:chOff x="595440" y="4848120"/>
            <a:chExt cx="3111480" cy="1595520"/>
          </a:xfrm>
        </p:grpSpPr>
        <p:pic>
          <p:nvPicPr>
            <p:cNvPr id="97" name="Picture 23" descr="107"/>
            <p:cNvPicPr/>
            <p:nvPr/>
          </p:nvPicPr>
          <p:blipFill>
            <a:blip r:embed="rId2"/>
            <a:stretch/>
          </p:blipFill>
          <p:spPr>
            <a:xfrm>
              <a:off x="595440" y="4848120"/>
              <a:ext cx="158760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AutoShape 27"/>
            <p:cNvSpPr/>
            <p:nvPr/>
          </p:nvSpPr>
          <p:spPr>
            <a:xfrm>
              <a:off x="1764000" y="5076720"/>
              <a:ext cx="1942920" cy="503280"/>
            </a:xfrm>
            <a:prstGeom prst="wedgeRoundRectCallout">
              <a:avLst>
                <a:gd name="adj1" fmla="val -60699"/>
                <a:gd name="adj2" fmla="val -709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怎样列式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4" descr="C:\Users\wangwei\AppData\Local\Temp\SNAGHTML14882eb.PNG"/>
          <p:cNvPicPr/>
          <p:nvPr/>
        </p:nvPicPr>
        <p:blipFill>
          <a:blip r:embed="rId1"/>
          <a:stretch/>
        </p:blipFill>
        <p:spPr>
          <a:xfrm>
            <a:off x="6078600" y="1781280"/>
            <a:ext cx="2597040" cy="2066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60360" y="1547640"/>
            <a:ext cx="407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探究竖式写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Text Box 24"/>
          <p:cNvSpPr/>
          <p:nvPr/>
        </p:nvSpPr>
        <p:spPr>
          <a:xfrm>
            <a:off x="2587680" y="2208240"/>
            <a:ext cx="238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2602080" y="4910040"/>
            <a:ext cx="16189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814480" y="4816440"/>
            <a:ext cx="18288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6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557440" y="3370320"/>
            <a:ext cx="6253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240000" y="3527280"/>
            <a:ext cx="1071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2602080" y="4102200"/>
            <a:ext cx="16189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240000" y="2746440"/>
            <a:ext cx="1000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62080" y="3290400"/>
            <a:ext cx="360" cy="360360"/>
            <a:chOff x="3862080" y="3290400"/>
            <a:chExt cx="360" cy="360360"/>
          </a:xfrm>
        </p:grpSpPr>
        <p:sp>
          <p:nvSpPr>
            <p:cNvPr id="110" name="Line 10"/>
            <p:cNvSpPr/>
            <p:nvPr/>
          </p:nvSpPr>
          <p:spPr>
            <a:xfrm flipV="1">
              <a:off x="3862440" y="3290400"/>
              <a:ext cx="0" cy="360360"/>
            </a:xfrm>
            <a:prstGeom prst="line">
              <a:avLst/>
            </a:prstGeom>
            <a:ln w="1908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 rot="10800000">
              <a:off x="3862080" y="329040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2" name="Line 11"/>
          <p:cNvSpPr/>
          <p:nvPr/>
        </p:nvSpPr>
        <p:spPr>
          <a:xfrm flipH="1" flipV="1">
            <a:off x="3423960" y="3292560"/>
            <a:ext cx="446040" cy="358560"/>
          </a:xfrm>
          <a:prstGeom prst="line">
            <a:avLst/>
          </a:prstGeom>
          <a:ln w="1908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654360" y="4017960"/>
            <a:ext cx="6876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225960" y="4375080"/>
            <a:ext cx="357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黑体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227400" y="40147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214880" y="4103640"/>
            <a:ext cx="319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…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4×2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的积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41280" y="4103640"/>
            <a:ext cx="1928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套书的本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cxnSp>
        <p:nvCxnSpPr>
          <p:cNvPr id="118" name="直接箭头连接符 49"/>
          <p:cNvCxnSpPr/>
          <p:nvPr/>
        </p:nvCxnSpPr>
        <p:spPr>
          <a:xfrm flipH="1" flipV="1">
            <a:off x="2369520" y="4352040"/>
            <a:ext cx="432360" cy="2520"/>
          </a:xfrm>
          <a:prstGeom prst="straightConnector1">
            <a:avLst/>
          </a:prstGeom>
          <a:ln w="19080">
            <a:solidFill>
              <a:srgbClr val="0066ff"/>
            </a:solidFill>
            <a:round/>
            <a:tailEnd len="med" type="triangle" w="med"/>
          </a:ln>
        </p:spPr>
      </p:cxnSp>
      <p:grpSp>
        <p:nvGrpSpPr>
          <p:cNvPr id="119" name=""/>
          <p:cNvGrpSpPr/>
          <p:nvPr/>
        </p:nvGrpSpPr>
        <p:grpSpPr>
          <a:xfrm>
            <a:off x="3439800" y="3292560"/>
            <a:ext cx="430560" cy="358560"/>
            <a:chOff x="3439800" y="3292560"/>
            <a:chExt cx="430560" cy="358560"/>
          </a:xfrm>
        </p:grpSpPr>
        <p:sp>
          <p:nvSpPr>
            <p:cNvPr id="120" name="Line 10"/>
            <p:cNvSpPr/>
            <p:nvPr/>
          </p:nvSpPr>
          <p:spPr>
            <a:xfrm flipV="1">
              <a:off x="3440160" y="3292560"/>
              <a:ext cx="430200" cy="3585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 rot="10800000">
              <a:off x="3439800" y="3292560"/>
              <a:ext cx="430200" cy="35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447720" y="3290400"/>
            <a:ext cx="360" cy="360360"/>
            <a:chOff x="3447720" y="3290400"/>
            <a:chExt cx="360" cy="360360"/>
          </a:xfrm>
        </p:grpSpPr>
        <p:sp>
          <p:nvSpPr>
            <p:cNvPr id="123" name="Line 11"/>
            <p:cNvSpPr/>
            <p:nvPr/>
          </p:nvSpPr>
          <p:spPr>
            <a:xfrm flipV="1">
              <a:off x="3448080" y="3290400"/>
              <a:ext cx="0" cy="3603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 rot="10800000">
              <a:off x="3447720" y="329040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25" name="Text Box 13"/>
          <p:cNvSpPr/>
          <p:nvPr/>
        </p:nvSpPr>
        <p:spPr>
          <a:xfrm>
            <a:off x="2801880" y="4367160"/>
            <a:ext cx="378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214880" y="4452840"/>
            <a:ext cx="4244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…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4×1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的积（个位的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不写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41280" y="4452840"/>
            <a:ext cx="1928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套书的本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cxnSp>
        <p:nvCxnSpPr>
          <p:cNvPr id="128" name="直接箭头连接符 57"/>
          <p:cNvCxnSpPr/>
          <p:nvPr/>
        </p:nvCxnSpPr>
        <p:spPr>
          <a:xfrm flipH="1" flipV="1">
            <a:off x="2369520" y="4701960"/>
            <a:ext cx="432360" cy="2160"/>
          </a:xfrm>
          <a:prstGeom prst="straightConnector1">
            <a:avLst/>
          </a:prstGeom>
          <a:ln w="19080">
            <a:solidFill>
              <a:srgbClr val="ff0000"/>
            </a:solidFill>
            <a:round/>
            <a:tailEnd len="med" type="triangle" w="med"/>
          </a:ln>
        </p:spPr>
      </p:cxnSp>
      <p:sp>
        <p:nvSpPr>
          <p:cNvPr id="129" name="Text Box 5"/>
          <p:cNvSpPr/>
          <p:nvPr/>
        </p:nvSpPr>
        <p:spPr>
          <a:xfrm>
            <a:off x="4167360" y="2162160"/>
            <a:ext cx="9284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圆角矩形 2"/>
          <p:cNvSpPr/>
          <p:nvPr/>
        </p:nvSpPr>
        <p:spPr>
          <a:xfrm>
            <a:off x="6084720" y="3497400"/>
            <a:ext cx="2590920" cy="344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圆角矩形 33"/>
          <p:cNvSpPr/>
          <p:nvPr/>
        </p:nvSpPr>
        <p:spPr>
          <a:xfrm>
            <a:off x="6084720" y="1763640"/>
            <a:ext cx="2590920" cy="1722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5419440" y="2444760"/>
            <a:ext cx="625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套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TextBox 35"/>
          <p:cNvSpPr/>
          <p:nvPr/>
        </p:nvSpPr>
        <p:spPr>
          <a:xfrm>
            <a:off x="5396040" y="3468600"/>
            <a:ext cx="67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套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4" name="Group 42"/>
          <p:cNvGrpSpPr/>
          <p:nvPr/>
        </p:nvGrpSpPr>
        <p:grpSpPr>
          <a:xfrm>
            <a:off x="960480" y="5032440"/>
            <a:ext cx="4648320" cy="1612440"/>
            <a:chOff x="960480" y="5032440"/>
            <a:chExt cx="4648320" cy="1612440"/>
          </a:xfrm>
        </p:grpSpPr>
        <p:pic>
          <p:nvPicPr>
            <p:cNvPr id="135" name="Picture 40" descr="107"/>
            <p:cNvPicPr/>
            <p:nvPr/>
          </p:nvPicPr>
          <p:blipFill>
            <a:blip r:embed="rId2"/>
            <a:stretch/>
          </p:blipFill>
          <p:spPr>
            <a:xfrm>
              <a:off x="960480" y="5032440"/>
              <a:ext cx="1619280" cy="16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AutoShape 27"/>
            <p:cNvSpPr/>
            <p:nvPr/>
          </p:nvSpPr>
          <p:spPr>
            <a:xfrm>
              <a:off x="2774880" y="5579640"/>
              <a:ext cx="2833920" cy="517680"/>
            </a:xfrm>
            <a:prstGeom prst="wedgeRoundRectCallout">
              <a:avLst>
                <a:gd name="adj1" fmla="val -58046"/>
                <a:gd name="adj2" fmla="val -3090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用竖式怎样计算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37" name="Rectangle 35"/>
          <p:cNvSpPr/>
          <p:nvPr/>
        </p:nvSpPr>
        <p:spPr>
          <a:xfrm>
            <a:off x="226980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"/>
                            </p:stCondLst>
                            <p:childTnLst>
                              <p:par>
                                <p:cTn id="143" dur="indefinite" nodeType="after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57"/>
          <p:cNvGrpSpPr/>
          <p:nvPr/>
        </p:nvGrpSpPr>
        <p:grpSpPr>
          <a:xfrm>
            <a:off x="3849840" y="5165640"/>
            <a:ext cx="4851360" cy="1463760"/>
            <a:chOff x="3849840" y="5165640"/>
            <a:chExt cx="4851360" cy="1463760"/>
          </a:xfrm>
        </p:grpSpPr>
        <p:pic>
          <p:nvPicPr>
            <p:cNvPr id="139" name="Picture 55" descr="83"/>
            <p:cNvPicPr/>
            <p:nvPr/>
          </p:nvPicPr>
          <p:blipFill>
            <a:blip r:embed="rId1"/>
            <a:stretch/>
          </p:blipFill>
          <p:spPr>
            <a:xfrm>
              <a:off x="7697880" y="5165640"/>
              <a:ext cx="100332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AutoShape 27"/>
            <p:cNvSpPr/>
            <p:nvPr/>
          </p:nvSpPr>
          <p:spPr>
            <a:xfrm>
              <a:off x="3849840" y="5681880"/>
              <a:ext cx="3314880" cy="891000"/>
            </a:xfrm>
            <a:prstGeom prst="wedgeRoundRectCallout">
              <a:avLst>
                <a:gd name="adj1" fmla="val 54689"/>
                <a:gd name="adj2" fmla="val -3150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乘得的积要分别和乘数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位、十位对齐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41" name="Text Box 7"/>
          <p:cNvSpPr/>
          <p:nvPr/>
        </p:nvSpPr>
        <p:spPr>
          <a:xfrm>
            <a:off x="360360" y="1547640"/>
            <a:ext cx="407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三）观察比较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2" name="Group 60"/>
          <p:cNvGrpSpPr/>
          <p:nvPr/>
        </p:nvGrpSpPr>
        <p:grpSpPr>
          <a:xfrm>
            <a:off x="2341440" y="4871880"/>
            <a:ext cx="6462720" cy="1839600"/>
            <a:chOff x="2341440" y="4871880"/>
            <a:chExt cx="6462720" cy="1839600"/>
          </a:xfrm>
        </p:grpSpPr>
        <p:sp>
          <p:nvSpPr>
            <p:cNvPr id="143" name="AutoShape 27"/>
            <p:cNvSpPr/>
            <p:nvPr/>
          </p:nvSpPr>
          <p:spPr>
            <a:xfrm>
              <a:off x="2341440" y="5662440"/>
              <a:ext cx="4822560" cy="936360"/>
            </a:xfrm>
            <a:prstGeom prst="wedgeRoundRectCallout">
              <a:avLst>
                <a:gd name="adj1" fmla="val 53819"/>
                <a:gd name="adj2" fmla="val -3017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都是用第二个乘数每一位上的数分别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去乘第一个乘数每一位上的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4" name="Picture 59" descr="女孩9"/>
            <p:cNvPicPr/>
            <p:nvPr/>
          </p:nvPicPr>
          <p:blipFill>
            <a:blip r:embed="rId2"/>
            <a:srcRect l="7377" t="0" r="18503" b="0"/>
            <a:stretch/>
          </p:blipFill>
          <p:spPr>
            <a:xfrm>
              <a:off x="7419600" y="4871880"/>
              <a:ext cx="1384560" cy="183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6" name="组合 2"/>
          <p:cNvGrpSpPr/>
          <p:nvPr/>
        </p:nvGrpSpPr>
        <p:grpSpPr>
          <a:xfrm>
            <a:off x="1692360" y="2487600"/>
            <a:ext cx="2130480" cy="2241720"/>
            <a:chOff x="1692360" y="2487600"/>
            <a:chExt cx="2130480" cy="2241720"/>
          </a:xfrm>
        </p:grpSpPr>
        <p:sp>
          <p:nvSpPr>
            <p:cNvPr id="147" name="Text Box 12"/>
            <p:cNvSpPr/>
            <p:nvPr/>
          </p:nvSpPr>
          <p:spPr>
            <a:xfrm>
              <a:off x="2737080" y="3351240"/>
              <a:ext cx="7016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8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8" name="Line 4"/>
            <p:cNvSpPr/>
            <p:nvPr/>
          </p:nvSpPr>
          <p:spPr>
            <a:xfrm>
              <a:off x="1692360" y="4203360"/>
              <a:ext cx="1620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9" name="Text Box 5"/>
            <p:cNvSpPr/>
            <p:nvPr/>
          </p:nvSpPr>
          <p:spPr>
            <a:xfrm>
              <a:off x="1954080" y="4100760"/>
              <a:ext cx="18687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8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1692360" y="2911680"/>
              <a:ext cx="6386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1" name="Text Box 7"/>
            <p:cNvSpPr/>
            <p:nvPr/>
          </p:nvSpPr>
          <p:spPr>
            <a:xfrm>
              <a:off x="2319480" y="2878200"/>
              <a:ext cx="10969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1692360" y="3426480"/>
              <a:ext cx="1620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3" name="Text Box 9"/>
            <p:cNvSpPr/>
            <p:nvPr/>
          </p:nvSpPr>
          <p:spPr>
            <a:xfrm>
              <a:off x="2319480" y="2487600"/>
              <a:ext cx="10238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4" name="Text Box 13"/>
            <p:cNvSpPr/>
            <p:nvPr/>
          </p:nvSpPr>
          <p:spPr>
            <a:xfrm>
              <a:off x="2319480" y="3675240"/>
              <a:ext cx="3636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5" name="Text Box 14"/>
            <p:cNvSpPr/>
            <p:nvPr/>
          </p:nvSpPr>
          <p:spPr>
            <a:xfrm>
              <a:off x="2320920" y="334476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6" name="Text Box 13"/>
            <p:cNvSpPr/>
            <p:nvPr/>
          </p:nvSpPr>
          <p:spPr>
            <a:xfrm>
              <a:off x="1954080" y="3667320"/>
              <a:ext cx="3650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7" name="组合 1"/>
          <p:cNvGrpSpPr/>
          <p:nvPr/>
        </p:nvGrpSpPr>
        <p:grpSpPr>
          <a:xfrm>
            <a:off x="5691240" y="2487600"/>
            <a:ext cx="1765080" cy="1568520"/>
            <a:chOff x="5691240" y="2487600"/>
            <a:chExt cx="1765080" cy="1568520"/>
          </a:xfrm>
        </p:grpSpPr>
        <p:sp>
          <p:nvSpPr>
            <p:cNvPr id="158" name="Text Box 7"/>
            <p:cNvSpPr/>
            <p:nvPr/>
          </p:nvSpPr>
          <p:spPr>
            <a:xfrm>
              <a:off x="6326280" y="2878200"/>
              <a:ext cx="1071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9" name="Text Box 6"/>
            <p:cNvSpPr/>
            <p:nvPr/>
          </p:nvSpPr>
          <p:spPr>
            <a:xfrm>
              <a:off x="5691240" y="2911680"/>
              <a:ext cx="6253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0" name="Line 8"/>
            <p:cNvSpPr/>
            <p:nvPr/>
          </p:nvSpPr>
          <p:spPr>
            <a:xfrm>
              <a:off x="5708520" y="3426480"/>
              <a:ext cx="1620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1" name="Text Box 9"/>
            <p:cNvSpPr/>
            <p:nvPr/>
          </p:nvSpPr>
          <p:spPr>
            <a:xfrm>
              <a:off x="6310080" y="2487600"/>
              <a:ext cx="100008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2" name="Text Box 12"/>
            <p:cNvSpPr/>
            <p:nvPr/>
          </p:nvSpPr>
          <p:spPr>
            <a:xfrm>
              <a:off x="6769080" y="3351240"/>
              <a:ext cx="6872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8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6311520" y="335124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64" name="圆角矩形 61"/>
          <p:cNvSpPr/>
          <p:nvPr/>
        </p:nvSpPr>
        <p:spPr>
          <a:xfrm>
            <a:off x="1695600" y="2060640"/>
            <a:ext cx="1571400" cy="4316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50"/>
                </a:solidFill>
                <a:latin typeface="Arial"/>
              </a:rPr>
              <a:t>今天学习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圆角矩形 62"/>
          <p:cNvSpPr/>
          <p:nvPr/>
        </p:nvSpPr>
        <p:spPr>
          <a:xfrm>
            <a:off x="5700600" y="2071800"/>
            <a:ext cx="1571760" cy="4204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50"/>
                </a:solidFill>
                <a:latin typeface="Arial"/>
              </a:rPr>
              <a:t>以前学习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6" name="Group 49"/>
          <p:cNvGrpSpPr/>
          <p:nvPr/>
        </p:nvGrpSpPr>
        <p:grpSpPr>
          <a:xfrm>
            <a:off x="358920" y="4338720"/>
            <a:ext cx="5735520" cy="1612800"/>
            <a:chOff x="358920" y="4338720"/>
            <a:chExt cx="5735520" cy="1612800"/>
          </a:xfrm>
        </p:grpSpPr>
        <p:pic>
          <p:nvPicPr>
            <p:cNvPr id="167" name="Picture 47" descr="107"/>
            <p:cNvPicPr/>
            <p:nvPr/>
          </p:nvPicPr>
          <p:blipFill>
            <a:blip r:embed="rId3"/>
            <a:stretch/>
          </p:blipFill>
          <p:spPr>
            <a:xfrm>
              <a:off x="358920" y="4338720"/>
              <a:ext cx="161280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AutoShape 27"/>
            <p:cNvSpPr/>
            <p:nvPr/>
          </p:nvSpPr>
          <p:spPr>
            <a:xfrm>
              <a:off x="1969920" y="4652640"/>
              <a:ext cx="4124520" cy="934920"/>
            </a:xfrm>
            <a:prstGeom prst="wedgeRoundRectCallout">
              <a:avLst>
                <a:gd name="adj1" fmla="val -55078"/>
                <a:gd name="adj2" fmla="val -23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今天学习的笔算乘法和以前学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的笔算乘法有什么联系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2681280" y="4562640"/>
            <a:ext cx="2143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71680" y="157176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做一做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Line 4"/>
          <p:cNvSpPr/>
          <p:nvPr/>
        </p:nvSpPr>
        <p:spPr>
          <a:xfrm>
            <a:off x="933480" y="465300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019160" y="4562640"/>
            <a:ext cx="1900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9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820800" y="3348000"/>
            <a:ext cx="6253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1406520" y="3303720"/>
            <a:ext cx="1071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Line 8"/>
          <p:cNvSpPr/>
          <p:nvPr/>
        </p:nvSpPr>
        <p:spPr>
          <a:xfrm>
            <a:off x="933480" y="386064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406520" y="2500200"/>
            <a:ext cx="1000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020680" y="3020760"/>
            <a:ext cx="360" cy="360360"/>
            <a:chOff x="2020680" y="3020760"/>
            <a:chExt cx="360" cy="360360"/>
          </a:xfrm>
        </p:grpSpPr>
        <p:sp>
          <p:nvSpPr>
            <p:cNvPr id="179" name="Line 10"/>
            <p:cNvSpPr/>
            <p:nvPr/>
          </p:nvSpPr>
          <p:spPr>
            <a:xfrm flipV="1">
              <a:off x="2021040" y="3020760"/>
              <a:ext cx="0" cy="360360"/>
            </a:xfrm>
            <a:prstGeom prst="line">
              <a:avLst/>
            </a:prstGeom>
            <a:ln w="1908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 rot="10800000">
              <a:off x="2020680" y="302076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81" name="Line 11"/>
          <p:cNvSpPr/>
          <p:nvPr/>
        </p:nvSpPr>
        <p:spPr>
          <a:xfrm flipH="1" flipV="1">
            <a:off x="1627200" y="3020760"/>
            <a:ext cx="393840" cy="360360"/>
          </a:xfrm>
          <a:prstGeom prst="line">
            <a:avLst/>
          </a:prstGeom>
          <a:ln w="1908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1809720" y="3774960"/>
            <a:ext cx="687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1406520" y="4119480"/>
            <a:ext cx="357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1407960" y="37623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628640" y="3020760"/>
            <a:ext cx="392400" cy="360360"/>
            <a:chOff x="1628640" y="3020760"/>
            <a:chExt cx="392400" cy="360360"/>
          </a:xfrm>
        </p:grpSpPr>
        <p:sp>
          <p:nvSpPr>
            <p:cNvPr id="186" name="Line 10"/>
            <p:cNvSpPr/>
            <p:nvPr/>
          </p:nvSpPr>
          <p:spPr>
            <a:xfrm flipV="1">
              <a:off x="1628640" y="3020760"/>
              <a:ext cx="392400" cy="3603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 rot="10800000">
              <a:off x="1628640" y="3020760"/>
              <a:ext cx="3924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626840" y="3020760"/>
            <a:ext cx="360" cy="360360"/>
            <a:chOff x="1626840" y="3020760"/>
            <a:chExt cx="360" cy="360360"/>
          </a:xfrm>
        </p:grpSpPr>
        <p:sp>
          <p:nvSpPr>
            <p:cNvPr id="189" name="Line 11"/>
            <p:cNvSpPr/>
            <p:nvPr/>
          </p:nvSpPr>
          <p:spPr>
            <a:xfrm flipV="1">
              <a:off x="1627200" y="3020760"/>
              <a:ext cx="0" cy="3603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 rot="10800000">
              <a:off x="1626840" y="302076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91" name="Text Box 13"/>
          <p:cNvSpPr/>
          <p:nvPr/>
        </p:nvSpPr>
        <p:spPr>
          <a:xfrm>
            <a:off x="1019160" y="4119480"/>
            <a:ext cx="357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2627280" y="465300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849400" y="3348000"/>
            <a:ext cx="625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463920" y="3303720"/>
            <a:ext cx="1071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2627280" y="386064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3463920" y="2500200"/>
            <a:ext cx="1000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106520" y="3020760"/>
            <a:ext cx="360" cy="360360"/>
            <a:chOff x="4106520" y="3020760"/>
            <a:chExt cx="360" cy="360360"/>
          </a:xfrm>
        </p:grpSpPr>
        <p:sp>
          <p:nvSpPr>
            <p:cNvPr id="198" name="Line 10"/>
            <p:cNvSpPr/>
            <p:nvPr/>
          </p:nvSpPr>
          <p:spPr>
            <a:xfrm flipV="1">
              <a:off x="4106880" y="3020760"/>
              <a:ext cx="0" cy="360360"/>
            </a:xfrm>
            <a:prstGeom prst="line">
              <a:avLst/>
            </a:prstGeom>
            <a:ln w="1908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 rot="10800000">
              <a:off x="4106520" y="302076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00" name="Line 11"/>
          <p:cNvSpPr/>
          <p:nvPr/>
        </p:nvSpPr>
        <p:spPr>
          <a:xfrm flipH="1" flipV="1">
            <a:off x="3656160" y="3020760"/>
            <a:ext cx="452160" cy="360360"/>
          </a:xfrm>
          <a:prstGeom prst="line">
            <a:avLst/>
          </a:prstGeom>
          <a:ln w="1908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3879720" y="3774960"/>
            <a:ext cx="687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3463920" y="4119480"/>
            <a:ext cx="357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3465360" y="37623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1120" y="3020760"/>
            <a:ext cx="457200" cy="360360"/>
            <a:chOff x="3651120" y="3020760"/>
            <a:chExt cx="457200" cy="360360"/>
          </a:xfrm>
        </p:grpSpPr>
        <p:sp>
          <p:nvSpPr>
            <p:cNvPr id="205" name="Line 10"/>
            <p:cNvSpPr/>
            <p:nvPr/>
          </p:nvSpPr>
          <p:spPr>
            <a:xfrm flipV="1">
              <a:off x="3651120" y="3020760"/>
              <a:ext cx="457200" cy="3603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 rot="10800000">
              <a:off x="3651120" y="3020760"/>
              <a:ext cx="4572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655800" y="3020760"/>
            <a:ext cx="360" cy="360360"/>
            <a:chOff x="3655800" y="3020760"/>
            <a:chExt cx="360" cy="360360"/>
          </a:xfrm>
        </p:grpSpPr>
        <p:sp>
          <p:nvSpPr>
            <p:cNvPr id="208" name="Line 11"/>
            <p:cNvSpPr/>
            <p:nvPr/>
          </p:nvSpPr>
          <p:spPr>
            <a:xfrm flipV="1">
              <a:off x="3656160" y="3020760"/>
              <a:ext cx="0" cy="3603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 rot="10800000">
              <a:off x="3655800" y="302076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0" name="Text Box 13"/>
          <p:cNvSpPr/>
          <p:nvPr/>
        </p:nvSpPr>
        <p:spPr>
          <a:xfrm>
            <a:off x="3068640" y="4119480"/>
            <a:ext cx="357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Line 4"/>
          <p:cNvSpPr/>
          <p:nvPr/>
        </p:nvSpPr>
        <p:spPr>
          <a:xfrm>
            <a:off x="4976640" y="465300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121360" y="4562640"/>
            <a:ext cx="18288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863960" y="3348000"/>
            <a:ext cx="625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478480" y="3303720"/>
            <a:ext cx="1071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Line 8"/>
          <p:cNvSpPr/>
          <p:nvPr/>
        </p:nvSpPr>
        <p:spPr>
          <a:xfrm>
            <a:off x="4976640" y="386064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5478480" y="2500200"/>
            <a:ext cx="1000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121080" y="3020760"/>
            <a:ext cx="360" cy="360360"/>
            <a:chOff x="6121080" y="3020760"/>
            <a:chExt cx="360" cy="360360"/>
          </a:xfrm>
        </p:grpSpPr>
        <p:sp>
          <p:nvSpPr>
            <p:cNvPr id="218" name="Line 10"/>
            <p:cNvSpPr/>
            <p:nvPr/>
          </p:nvSpPr>
          <p:spPr>
            <a:xfrm flipV="1">
              <a:off x="6121440" y="3020760"/>
              <a:ext cx="0" cy="360360"/>
            </a:xfrm>
            <a:prstGeom prst="line">
              <a:avLst/>
            </a:prstGeom>
            <a:ln w="1908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 rot="10800000">
              <a:off x="6121080" y="302076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0" name="Line 11"/>
          <p:cNvSpPr/>
          <p:nvPr/>
        </p:nvSpPr>
        <p:spPr>
          <a:xfrm flipH="1" flipV="1">
            <a:off x="5661000" y="3020760"/>
            <a:ext cx="463680" cy="360360"/>
          </a:xfrm>
          <a:prstGeom prst="line">
            <a:avLst/>
          </a:prstGeom>
          <a:ln w="1908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5904000" y="3774960"/>
            <a:ext cx="687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5478480" y="4119480"/>
            <a:ext cx="357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481360" y="375768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661000" y="3020760"/>
            <a:ext cx="463680" cy="360360"/>
            <a:chOff x="5661000" y="3020760"/>
            <a:chExt cx="463680" cy="360360"/>
          </a:xfrm>
        </p:grpSpPr>
        <p:sp>
          <p:nvSpPr>
            <p:cNvPr id="225" name="Line 10"/>
            <p:cNvSpPr/>
            <p:nvPr/>
          </p:nvSpPr>
          <p:spPr>
            <a:xfrm flipV="1">
              <a:off x="5661000" y="3020760"/>
              <a:ext cx="463680" cy="3603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 rot="10800000">
              <a:off x="5661000" y="3020760"/>
              <a:ext cx="46368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670360" y="3020760"/>
            <a:ext cx="360" cy="360360"/>
            <a:chOff x="5670360" y="3020760"/>
            <a:chExt cx="360" cy="360360"/>
          </a:xfrm>
        </p:grpSpPr>
        <p:sp>
          <p:nvSpPr>
            <p:cNvPr id="228" name="Line 11"/>
            <p:cNvSpPr/>
            <p:nvPr/>
          </p:nvSpPr>
          <p:spPr>
            <a:xfrm flipV="1">
              <a:off x="5670720" y="3020760"/>
              <a:ext cx="0" cy="3603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 rot="10800000">
              <a:off x="5670360" y="302076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30" name="Text Box 13"/>
          <p:cNvSpPr/>
          <p:nvPr/>
        </p:nvSpPr>
        <p:spPr>
          <a:xfrm>
            <a:off x="5121360" y="4119480"/>
            <a:ext cx="357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6991200" y="465300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135920" y="4562640"/>
            <a:ext cx="18288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6878520" y="3348000"/>
            <a:ext cx="625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7521480" y="3303720"/>
            <a:ext cx="1071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6991200" y="386064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7521480" y="2500200"/>
            <a:ext cx="1000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135640" y="3020760"/>
            <a:ext cx="360" cy="360360"/>
            <a:chOff x="8135640" y="3020760"/>
            <a:chExt cx="360" cy="360360"/>
          </a:xfrm>
        </p:grpSpPr>
        <p:sp>
          <p:nvSpPr>
            <p:cNvPr id="238" name="Line 10"/>
            <p:cNvSpPr/>
            <p:nvPr/>
          </p:nvSpPr>
          <p:spPr>
            <a:xfrm flipV="1">
              <a:off x="8136000" y="3020760"/>
              <a:ext cx="0" cy="360360"/>
            </a:xfrm>
            <a:prstGeom prst="line">
              <a:avLst/>
            </a:prstGeom>
            <a:ln w="1908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 rot="10800000">
              <a:off x="8135640" y="302076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40" name="Line 11"/>
          <p:cNvSpPr/>
          <p:nvPr/>
        </p:nvSpPr>
        <p:spPr>
          <a:xfrm flipH="1" flipV="1">
            <a:off x="7696080" y="3020760"/>
            <a:ext cx="439920" cy="360360"/>
          </a:xfrm>
          <a:prstGeom prst="line">
            <a:avLst/>
          </a:prstGeom>
          <a:ln w="1908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7908840" y="3774960"/>
            <a:ext cx="687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7521480" y="4119480"/>
            <a:ext cx="357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7524360" y="375768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706880" y="3020760"/>
            <a:ext cx="429120" cy="360360"/>
            <a:chOff x="7706880" y="3020760"/>
            <a:chExt cx="429120" cy="360360"/>
          </a:xfrm>
        </p:grpSpPr>
        <p:sp>
          <p:nvSpPr>
            <p:cNvPr id="245" name="Line 10"/>
            <p:cNvSpPr/>
            <p:nvPr/>
          </p:nvSpPr>
          <p:spPr>
            <a:xfrm flipV="1">
              <a:off x="7707240" y="3020760"/>
              <a:ext cx="428760" cy="3603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 rot="10800000">
              <a:off x="7706880" y="3020760"/>
              <a:ext cx="4287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706880" y="3020760"/>
            <a:ext cx="360" cy="360360"/>
            <a:chOff x="7706880" y="3020760"/>
            <a:chExt cx="360" cy="360360"/>
          </a:xfrm>
        </p:grpSpPr>
        <p:sp>
          <p:nvSpPr>
            <p:cNvPr id="248" name="Line 11"/>
            <p:cNvSpPr/>
            <p:nvPr/>
          </p:nvSpPr>
          <p:spPr>
            <a:xfrm flipV="1">
              <a:off x="7707240" y="3020760"/>
              <a:ext cx="0" cy="3603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 rot="10800000">
              <a:off x="7706880" y="302076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50" name="Text Box 13"/>
          <p:cNvSpPr/>
          <p:nvPr/>
        </p:nvSpPr>
        <p:spPr>
          <a:xfrm>
            <a:off x="7135920" y="4119480"/>
            <a:ext cx="357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"/>
                            </p:stCondLst>
                            <p:childTnLst>
                              <p:par>
                                <p:cTn id="22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"/>
                            </p:stCondLst>
                            <p:childTnLst>
                              <p:par>
                                <p:cTn id="241" dur="indefinite" nodeType="after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"/>
                            </p:stCondLst>
                            <p:childTnLst>
                              <p:par>
                                <p:cTn id="2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"/>
                            </p:stCondLst>
                            <p:childTnLst>
                              <p:par>
                                <p:cTn id="2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"/>
                            </p:stCondLst>
                            <p:childTnLst>
                              <p:par>
                                <p:cTn id="295" dur="indefinite" nodeType="after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"/>
                            </p:stCondLst>
                            <p:childTnLst>
                              <p:par>
                                <p:cTn id="30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"/>
                            </p:stCondLst>
                            <p:childTnLst>
                              <p:par>
                                <p:cTn id="3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"/>
                            </p:stCondLst>
                            <p:childTnLst>
                              <p:par>
                                <p:cTn id="349" dur="indefinite" nodeType="after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"/>
                            </p:stCondLst>
                            <p:childTnLst>
                              <p:par>
                                <p:cTn id="3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"/>
                            </p:stCondLst>
                            <p:childTnLst>
                              <p:par>
                                <p:cTn id="38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"/>
                            </p:stCondLst>
                            <p:childTnLst>
                              <p:par>
                                <p:cTn id="403" dur="indefinite" nodeType="after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"/>
                            </p:stCondLst>
                            <p:childTnLst>
                              <p:par>
                                <p:cTn id="4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5"/>
          <p:cNvSpPr/>
          <p:nvPr/>
        </p:nvSpPr>
        <p:spPr>
          <a:xfrm>
            <a:off x="4264200" y="4192560"/>
            <a:ext cx="2143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571680" y="1576440"/>
            <a:ext cx="477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啄木鸟治病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53" name="Picture 58" descr="u4jx03"/>
          <p:cNvPicPr/>
          <p:nvPr/>
        </p:nvPicPr>
        <p:blipFill>
          <a:blip r:embed="rId1"/>
          <a:srcRect l="24760" t="25172" r="42080" b="16567"/>
          <a:stretch/>
        </p:blipFill>
        <p:spPr>
          <a:xfrm>
            <a:off x="852480" y="2602080"/>
            <a:ext cx="1647720" cy="21715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TextBox 1"/>
          <p:cNvSpPr/>
          <p:nvPr/>
        </p:nvSpPr>
        <p:spPr>
          <a:xfrm>
            <a:off x="2422440" y="4995720"/>
            <a:ext cx="155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    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TextBox 20"/>
          <p:cNvSpPr/>
          <p:nvPr/>
        </p:nvSpPr>
        <p:spPr>
          <a:xfrm>
            <a:off x="4510080" y="4981680"/>
            <a:ext cx="155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    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2484360" y="429264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2608200" y="4192560"/>
            <a:ext cx="18288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035160" y="3025800"/>
            <a:ext cx="1071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2484360" y="354492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3035160" y="2637000"/>
            <a:ext cx="10004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3440160" y="3443400"/>
            <a:ext cx="6872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Text Box 14"/>
          <p:cNvSpPr/>
          <p:nvPr/>
        </p:nvSpPr>
        <p:spPr>
          <a:xfrm>
            <a:off x="3038040" y="34434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4" name="组合 132"/>
          <p:cNvGrpSpPr/>
          <p:nvPr/>
        </p:nvGrpSpPr>
        <p:grpSpPr>
          <a:xfrm>
            <a:off x="3038400" y="3789360"/>
            <a:ext cx="757440" cy="557280"/>
            <a:chOff x="3038400" y="3789360"/>
            <a:chExt cx="757440" cy="557280"/>
          </a:xfrm>
        </p:grpSpPr>
        <p:sp>
          <p:nvSpPr>
            <p:cNvPr id="265" name="Text Box 13"/>
            <p:cNvSpPr/>
            <p:nvPr/>
          </p:nvSpPr>
          <p:spPr>
            <a:xfrm>
              <a:off x="3438720" y="3789360"/>
              <a:ext cx="3571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8</a:t>
              </a:r>
              <a:r>
                <a:rPr b="1" lang="zh-CN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6" name="Text Box 13"/>
            <p:cNvSpPr/>
            <p:nvPr/>
          </p:nvSpPr>
          <p:spPr>
            <a:xfrm>
              <a:off x="3038400" y="3789360"/>
              <a:ext cx="3571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8</a:t>
              </a:r>
              <a:r>
                <a:rPr b="1" lang="zh-CN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67" name="Line 4"/>
          <p:cNvSpPr/>
          <p:nvPr/>
        </p:nvSpPr>
        <p:spPr>
          <a:xfrm>
            <a:off x="4479840" y="429264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267080" y="4192560"/>
            <a:ext cx="2143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4400640" y="3030480"/>
            <a:ext cx="6253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5091120" y="3025800"/>
            <a:ext cx="1071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4479840" y="354492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5091120" y="2637000"/>
            <a:ext cx="1000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5516640" y="3443400"/>
            <a:ext cx="6872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5094000" y="34434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5" name="组合 138"/>
          <p:cNvGrpSpPr/>
          <p:nvPr/>
        </p:nvGrpSpPr>
        <p:grpSpPr>
          <a:xfrm>
            <a:off x="4683240" y="3772080"/>
            <a:ext cx="752400" cy="564840"/>
            <a:chOff x="4683240" y="3772080"/>
            <a:chExt cx="752400" cy="564840"/>
          </a:xfrm>
        </p:grpSpPr>
        <p:sp>
          <p:nvSpPr>
            <p:cNvPr id="276" name="Text Box 13"/>
            <p:cNvSpPr/>
            <p:nvPr/>
          </p:nvSpPr>
          <p:spPr>
            <a:xfrm>
              <a:off x="5078520" y="3780000"/>
              <a:ext cx="35712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r>
                <a:rPr b="1" lang="zh-CN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7" name="Text Box 13"/>
            <p:cNvSpPr/>
            <p:nvPr/>
          </p:nvSpPr>
          <p:spPr>
            <a:xfrm>
              <a:off x="4683240" y="3772080"/>
              <a:ext cx="35712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78" name="Line 4"/>
          <p:cNvSpPr/>
          <p:nvPr/>
        </p:nvSpPr>
        <p:spPr>
          <a:xfrm>
            <a:off x="6527880" y="429264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6672240" y="4192560"/>
            <a:ext cx="18288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6415200" y="3030480"/>
            <a:ext cx="6253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7067520" y="3025800"/>
            <a:ext cx="1071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2" name="Line 8"/>
          <p:cNvSpPr/>
          <p:nvPr/>
        </p:nvSpPr>
        <p:spPr>
          <a:xfrm>
            <a:off x="6527880" y="354492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7067520" y="2637000"/>
            <a:ext cx="1000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7512120" y="3443400"/>
            <a:ext cx="6872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7067520" y="3780000"/>
            <a:ext cx="357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7070400" y="34434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6697800" y="3772080"/>
            <a:ext cx="357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TextBox 20"/>
          <p:cNvSpPr/>
          <p:nvPr/>
        </p:nvSpPr>
        <p:spPr>
          <a:xfrm>
            <a:off x="6526080" y="5013360"/>
            <a:ext cx="155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    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2343240" y="3030480"/>
            <a:ext cx="6253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TextBox 129"/>
          <p:cNvSpPr/>
          <p:nvPr/>
        </p:nvSpPr>
        <p:spPr>
          <a:xfrm>
            <a:off x="7104240" y="497376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TextBox 130"/>
          <p:cNvSpPr/>
          <p:nvPr/>
        </p:nvSpPr>
        <p:spPr>
          <a:xfrm>
            <a:off x="3021840" y="497376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TextBox 131"/>
          <p:cNvSpPr/>
          <p:nvPr/>
        </p:nvSpPr>
        <p:spPr>
          <a:xfrm>
            <a:off x="5075280" y="497376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93" name="组合 134"/>
          <p:cNvGrpSpPr/>
          <p:nvPr/>
        </p:nvGrpSpPr>
        <p:grpSpPr>
          <a:xfrm>
            <a:off x="3035160" y="3789360"/>
            <a:ext cx="757440" cy="557280"/>
            <a:chOff x="3035160" y="3789360"/>
            <a:chExt cx="757440" cy="557280"/>
          </a:xfrm>
        </p:grpSpPr>
        <p:sp>
          <p:nvSpPr>
            <p:cNvPr id="294" name="Text Box 13"/>
            <p:cNvSpPr/>
            <p:nvPr/>
          </p:nvSpPr>
          <p:spPr>
            <a:xfrm>
              <a:off x="3435480" y="3789360"/>
              <a:ext cx="3571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8</a:t>
              </a:r>
              <a:r>
                <a:rPr b="1" lang="zh-CN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5" name="Text Box 13"/>
            <p:cNvSpPr/>
            <p:nvPr/>
          </p:nvSpPr>
          <p:spPr>
            <a:xfrm>
              <a:off x="3035160" y="3789360"/>
              <a:ext cx="3571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8</a:t>
              </a:r>
              <a:r>
                <a:rPr b="1" lang="zh-CN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96" name="Text Box 5"/>
          <p:cNvSpPr/>
          <p:nvPr/>
        </p:nvSpPr>
        <p:spPr>
          <a:xfrm>
            <a:off x="2608200" y="4192560"/>
            <a:ext cx="18288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97" name="组合 139"/>
          <p:cNvGrpSpPr/>
          <p:nvPr/>
        </p:nvGrpSpPr>
        <p:grpSpPr>
          <a:xfrm>
            <a:off x="4681440" y="3774960"/>
            <a:ext cx="752400" cy="565200"/>
            <a:chOff x="4681440" y="3774960"/>
            <a:chExt cx="752400" cy="565200"/>
          </a:xfrm>
        </p:grpSpPr>
        <p:sp>
          <p:nvSpPr>
            <p:cNvPr id="298" name="Text Box 13"/>
            <p:cNvSpPr/>
            <p:nvPr/>
          </p:nvSpPr>
          <p:spPr>
            <a:xfrm>
              <a:off x="5076720" y="3782880"/>
              <a:ext cx="3571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3</a:t>
              </a:r>
              <a:r>
                <a:rPr b="1" lang="zh-CN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4681440" y="3774960"/>
              <a:ext cx="3571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</a:t>
              </a:r>
              <a:r>
                <a:rPr b="1" lang="zh-CN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00" name="组合 142"/>
          <p:cNvGrpSpPr/>
          <p:nvPr/>
        </p:nvGrpSpPr>
        <p:grpSpPr>
          <a:xfrm>
            <a:off x="4700520" y="3770280"/>
            <a:ext cx="752400" cy="565200"/>
            <a:chOff x="4700520" y="3770280"/>
            <a:chExt cx="752400" cy="565200"/>
          </a:xfrm>
        </p:grpSpPr>
        <p:sp>
          <p:nvSpPr>
            <p:cNvPr id="301" name="Text Box 13"/>
            <p:cNvSpPr/>
            <p:nvPr/>
          </p:nvSpPr>
          <p:spPr>
            <a:xfrm>
              <a:off x="5095800" y="3778200"/>
              <a:ext cx="3571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</a:t>
              </a:r>
              <a:r>
                <a:rPr b="1" lang="zh-CN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2" name="Text Box 13"/>
            <p:cNvSpPr/>
            <p:nvPr/>
          </p:nvSpPr>
          <p:spPr>
            <a:xfrm>
              <a:off x="4700520" y="3770280"/>
              <a:ext cx="3571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3</a:t>
              </a:r>
              <a:r>
                <a:rPr b="1" lang="zh-CN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03" name="TextBox 146"/>
          <p:cNvSpPr/>
          <p:nvPr/>
        </p:nvSpPr>
        <p:spPr>
          <a:xfrm>
            <a:off x="5077440" y="497376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4" name="TextBox 148"/>
          <p:cNvSpPr/>
          <p:nvPr/>
        </p:nvSpPr>
        <p:spPr>
          <a:xfrm>
            <a:off x="3021120" y="497376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5" name="Rectangle 57"/>
          <p:cNvSpPr/>
          <p:nvPr/>
        </p:nvSpPr>
        <p:spPr>
          <a:xfrm>
            <a:off x="226980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-0.04548 4.44444E-006 E">
                                      <p:cBhvr>
                                        <p:cTn id="435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"/>
                            </p:stCondLst>
                            <p:childTnLst>
                              <p:par>
                                <p:cTn id="44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"/>
                            </p:stCondLst>
                            <p:childTnLst>
                              <p:par>
                                <p:cTn id="47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"/>
                            </p:stCondLst>
                            <p:childTnLst>
                              <p:par>
                                <p:cTn id="4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776160" y="2214720"/>
            <a:ext cx="8113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一本书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页，如果每天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页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周能读完吗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每天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页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能读完吗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1506600" y="3433680"/>
            <a:ext cx="259236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×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天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×1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页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页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能读完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9" name="矩形 10"/>
          <p:cNvSpPr/>
          <p:nvPr/>
        </p:nvSpPr>
        <p:spPr>
          <a:xfrm>
            <a:off x="4332240" y="3433680"/>
            <a:ext cx="262404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×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页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页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不能读完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10" name="Picture 10" descr="男孩看书"/>
          <p:cNvPicPr/>
          <p:nvPr/>
        </p:nvPicPr>
        <p:blipFill>
          <a:blip r:embed="rId1"/>
          <a:stretch/>
        </p:blipFill>
        <p:spPr>
          <a:xfrm>
            <a:off x="5719680" y="4394160"/>
            <a:ext cx="2664000" cy="2187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6"/>
          <p:cNvSpPr/>
          <p:nvPr/>
        </p:nvSpPr>
        <p:spPr>
          <a:xfrm>
            <a:off x="571680" y="1576440"/>
            <a:ext cx="477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解决问题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5:10Z</dcterms:modified>
  <cp:revision>6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