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9.png" ContentType="image/png"/>
  <Override PartName="/ppt/media/image11.png" ContentType="image/png"/>
  <Override PartName="/ppt/media/image18.jpeg" ContentType="image/jpeg"/>
  <Override PartName="/ppt/media/image17.png" ContentType="image/png"/>
  <Override PartName="/ppt/media/image16.gif" ContentType="image/gif"/>
  <Override PartName="/ppt/media/image14.jpeg" ContentType="image/jpeg"/>
  <Override PartName="/ppt/media/image1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32F8-8E46-4112-BBB9-230D9DA90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437720"/>
            <a:ext cx="82296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815E-9D20-4362-B708-CE4FFAF7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40158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590920"/>
            <a:ext cx="40158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437720"/>
            <a:ext cx="40158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437720"/>
            <a:ext cx="40158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A4BF-F3D4-40E9-8375-FC1448F1D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26496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590920"/>
            <a:ext cx="26496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590920"/>
            <a:ext cx="26496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437720"/>
            <a:ext cx="26496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437720"/>
            <a:ext cx="26496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437720"/>
            <a:ext cx="26496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3F9E-0F78-4549-9134-F0FB57B70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6E08-266D-4BD4-A65C-99E115F7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BC18-D879-484E-8C91-B1251D80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40158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590920"/>
            <a:ext cx="40158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4FB9-1182-463B-B456-AE32CA7E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D1E3-CA06-4C8F-9300-B40BCF4A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5F37-8651-444A-B8C8-EDE9EAA4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40158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590920"/>
            <a:ext cx="40158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437720"/>
            <a:ext cx="40158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0E89-E986-4FFA-83E8-2BEE504F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40158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590920"/>
            <a:ext cx="40158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437720"/>
            <a:ext cx="40158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A2EC-EA40-4E14-BC57-AE67968C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40158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590920"/>
            <a:ext cx="40158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437720"/>
            <a:ext cx="82296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C2ED-9BF2-4303-8894-D26AB6E8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BFCA-6686-47DE-80C9-2EA8E3E1E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6.jpeg"/><Relationship Id="rId18" Type="http://schemas.openxmlformats.org/officeDocument/2006/relationships/image" Target="../media/image7.jpeg"/><Relationship Id="rId19" Type="http://schemas.openxmlformats.org/officeDocument/2006/relationships/image" Target="../media/image8.jpe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ZMM-200661214657"/>
          <p:cNvPicPr/>
          <p:nvPr/>
        </p:nvPicPr>
        <p:blipFill>
          <a:blip r:embed="rId2"/>
          <a:stretch/>
        </p:blipFill>
        <p:spPr>
          <a:xfrm>
            <a:off x="1371600" y="457200"/>
            <a:ext cx="3957480" cy="571500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15" descr=""/>
          <p:cNvPicPr/>
          <p:nvPr/>
        </p:nvPicPr>
        <p:blipFill>
          <a:blip r:embed="rId3"/>
          <a:stretch/>
        </p:blipFill>
        <p:spPr>
          <a:xfrm>
            <a:off x="6014880" y="985680"/>
            <a:ext cx="1635120" cy="4530960"/>
          </a:xfrm>
          <a:prstGeom prst="rect">
            <a:avLst/>
          </a:prstGeom>
          <a:ln w="0">
            <a:noFill/>
          </a:ln>
        </p:spPr>
      </p:pic>
      <p:pic>
        <p:nvPicPr>
          <p:cNvPr id="43" name="矩形 6" descr=""/>
          <p:cNvPicPr/>
          <p:nvPr/>
        </p:nvPicPr>
        <p:blipFill>
          <a:blip r:embed="rId4"/>
          <a:stretch/>
        </p:blipFill>
        <p:spPr>
          <a:xfrm>
            <a:off x="149400" y="6427800"/>
            <a:ext cx="4770360" cy="426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pic_27080501"/>
          <p:cNvPicPr/>
          <p:nvPr/>
        </p:nvPicPr>
        <p:blipFill>
          <a:blip r:embed="rId2"/>
          <a:stretch/>
        </p:blipFill>
        <p:spPr>
          <a:xfrm>
            <a:off x="1371600" y="380880"/>
            <a:ext cx="7238880" cy="57913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854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中宋"/>
              </a:rPr>
              <a:t>反复朗读，思考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523520" y="1599840"/>
            <a:ext cx="5334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文中哪些地方可以体现钟子期是伯牙的知音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288642"/>
          <p:cNvPicPr/>
          <p:nvPr/>
        </p:nvPicPr>
        <p:blipFill>
          <a:blip r:embed="rId2"/>
          <a:stretch/>
        </p:blipFill>
        <p:spPr>
          <a:xfrm>
            <a:off x="1295280" y="380880"/>
            <a:ext cx="7391520" cy="58676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1600200" y="99072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伯牙鼓琴，志在高山，钟子期曰：“善哉，峨峨兮若泰山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200651143358"/>
          <p:cNvPicPr/>
          <p:nvPr/>
        </p:nvPicPr>
        <p:blipFill>
          <a:blip r:embed="rId2"/>
          <a:stretch/>
        </p:blipFill>
        <p:spPr>
          <a:xfrm>
            <a:off x="1371600" y="457200"/>
            <a:ext cx="7315200" cy="5715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1981080" y="1600200"/>
            <a:ext cx="586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志在流水，钟子期曰：“善哉，洋洋兮若江河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904760" y="2209680"/>
            <a:ext cx="55623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伯牙是一个技艺高超的音乐家，生活中应该不缺少别人的赞美，但他因为钟子期的死而“绝弦”了，你怎样看待他的举动？结合课文内容说说你的理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d209"/>
          <p:cNvPicPr/>
          <p:nvPr/>
        </p:nvPicPr>
        <p:blipFill>
          <a:blip r:embed="rId2"/>
          <a:stretch/>
        </p:blipFill>
        <p:spPr>
          <a:xfrm>
            <a:off x="1295280" y="4876920"/>
            <a:ext cx="1376640" cy="1485720"/>
          </a:xfrm>
          <a:prstGeom prst="rect">
            <a:avLst/>
          </a:prstGeom>
          <a:ln w="0">
            <a:noFill/>
          </a:ln>
        </p:spPr>
      </p:pic>
      <p:sp>
        <p:nvSpPr>
          <p:cNvPr id="76" name="WordArt 7"/>
          <p:cNvSpPr txBox="1"/>
          <p:nvPr/>
        </p:nvSpPr>
        <p:spPr>
          <a:xfrm>
            <a:off x="7467480" y="1295280"/>
            <a:ext cx="7621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？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7" name="文本框 1"/>
          <p:cNvSpPr/>
          <p:nvPr/>
        </p:nvSpPr>
        <p:spPr>
          <a:xfrm>
            <a:off x="3079800" y="5338800"/>
            <a:ext cx="552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133360" y="2437920"/>
            <a:ext cx="556236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钟子期死了，伯牙再也没有了知音，再也没有人能真正欣赏自己的音乐，理解自己的感受，所以他决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绝弦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。同时他的举动也是对知音的悼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200511100223593"/>
          <p:cNvPicPr/>
          <p:nvPr/>
        </p:nvPicPr>
        <p:blipFill>
          <a:blip r:embed="rId2"/>
          <a:stretch/>
        </p:blipFill>
        <p:spPr>
          <a:xfrm>
            <a:off x="1752480" y="762120"/>
            <a:ext cx="1447920" cy="17524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3886200" y="144792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Arial"/>
                <a:ea typeface="隶书"/>
              </a:rPr>
              <a:t>“</a:t>
            </a:r>
            <a:r>
              <a:rPr b="0" lang="zh-CN" sz="4800" spc="-1" strike="noStrike">
                <a:solidFill>
                  <a:srgbClr val="3333ff"/>
                </a:solidFill>
                <a:latin typeface="Arial"/>
                <a:ea typeface="隶书"/>
              </a:rPr>
              <a:t>世再无知音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3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ProductSupport_20041126134554"/>
          <p:cNvPicPr/>
          <p:nvPr/>
        </p:nvPicPr>
        <p:blipFill>
          <a:blip r:embed="rId2"/>
          <a:stretch/>
        </p:blipFill>
        <p:spPr>
          <a:xfrm>
            <a:off x="6553080" y="4114800"/>
            <a:ext cx="1828800" cy="16095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4760" y="1219320"/>
            <a:ext cx="3276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楷体_GB2312"/>
              </a:rPr>
              <a:t>作业布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905120" y="2590920"/>
            <a:ext cx="4876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、背诵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、课后搜集表现知音良朋的诗文和名言名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9" descr="14"/>
          <p:cNvPicPr/>
          <p:nvPr/>
        </p:nvPicPr>
        <p:blipFill>
          <a:blip r:embed="rId2"/>
          <a:stretch/>
        </p:blipFill>
        <p:spPr>
          <a:xfrm>
            <a:off x="1371600" y="380880"/>
            <a:ext cx="7238880" cy="5867640"/>
          </a:xfrm>
          <a:prstGeom prst="rect">
            <a:avLst/>
          </a:prstGeom>
          <a:ln w="0">
            <a:noFill/>
          </a:ln>
        </p:spPr>
      </p:pic>
      <p:sp>
        <p:nvSpPr>
          <p:cNvPr id="85" name="WordArt 35"/>
          <p:cNvSpPr txBox="1"/>
          <p:nvPr/>
        </p:nvSpPr>
        <p:spPr>
          <a:xfrm>
            <a:off x="3276720" y="2514600"/>
            <a:ext cx="30477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再见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 spd="slow">
    <p:zoom dir="in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7B68-D5E0-49A9-92BC-4BFB80607D5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8"/>
          <p:cNvSpPr/>
          <p:nvPr/>
        </p:nvSpPr>
        <p:spPr>
          <a:xfrm>
            <a:off x="1905120" y="828720"/>
            <a:ext cx="6476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20068323224199"/>
          <p:cNvPicPr/>
          <p:nvPr/>
        </p:nvPicPr>
        <p:blipFill>
          <a:blip r:embed="rId17"/>
          <a:stretch/>
        </p:blipFill>
        <p:spPr>
          <a:xfrm>
            <a:off x="1371600" y="380880"/>
            <a:ext cx="3505320" cy="2971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200651143358"/>
          <p:cNvPicPr/>
          <p:nvPr/>
        </p:nvPicPr>
        <p:blipFill>
          <a:blip r:embed="rId18"/>
          <a:stretch/>
        </p:blipFill>
        <p:spPr>
          <a:xfrm>
            <a:off x="1371600" y="3505320"/>
            <a:ext cx="5105520" cy="2666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740821"/>
          <p:cNvPicPr/>
          <p:nvPr/>
        </p:nvPicPr>
        <p:blipFill>
          <a:blip r:embed="rId19"/>
          <a:stretch/>
        </p:blipFill>
        <p:spPr>
          <a:xfrm>
            <a:off x="4923000" y="380880"/>
            <a:ext cx="3687480" cy="29718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8"/>
          <p:cNvSpPr/>
          <p:nvPr/>
        </p:nvSpPr>
        <p:spPr>
          <a:xfrm>
            <a:off x="6400800" y="4267080"/>
            <a:ext cx="2362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课前欣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高山流水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中宋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520" y="1143000"/>
            <a:ext cx="5029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黑体"/>
              </a:rPr>
              <a:t>朗读课文，注意停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294920" y="2133720"/>
            <a:ext cx="769644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中宋"/>
              </a:rPr>
              <a:t>伯牙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华文中宋"/>
              </a:rPr>
              <a:t>／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中宋"/>
              </a:rPr>
              <a:t>善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华文中宋"/>
              </a:rPr>
              <a:t>／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中宋"/>
              </a:rPr>
              <a:t>鼓琴，钟子期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华文中宋"/>
              </a:rPr>
              <a:t>／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中宋"/>
              </a:rPr>
              <a:t>善听。伯牙鼓琴，志在高山，钟子期曰：</a:t>
            </a:r>
            <a:r>
              <a:rPr b="1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“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中宋"/>
              </a:rPr>
              <a:t>善哉，峨峨兮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华文中宋"/>
              </a:rPr>
              <a:t>／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中宋"/>
              </a:rPr>
              <a:t>若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华文中宋"/>
              </a:rPr>
              <a:t>／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中宋"/>
              </a:rPr>
              <a:t>泰山！</a:t>
            </a:r>
            <a:r>
              <a:rPr b="1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”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中宋"/>
              </a:rPr>
              <a:t>志在流水，钟子期曰：</a:t>
            </a:r>
            <a:r>
              <a:rPr b="1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“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中宋"/>
              </a:rPr>
              <a:t>善哉，洋洋兮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华文中宋"/>
              </a:rPr>
              <a:t>／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中宋"/>
              </a:rPr>
              <a:t>若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华文中宋"/>
              </a:rPr>
              <a:t>／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中宋"/>
              </a:rPr>
              <a:t>江河！</a:t>
            </a:r>
            <a:r>
              <a:rPr b="1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”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中宋"/>
              </a:rPr>
              <a:t>伯牙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华文中宋"/>
              </a:rPr>
              <a:t>／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中宋"/>
              </a:rPr>
              <a:t>所念，钟子期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华文中宋"/>
              </a:rPr>
              <a:t>／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中宋"/>
              </a:rPr>
              <a:t>必得之。子期死，伯牙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华文中宋"/>
              </a:rPr>
              <a:t>／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中宋"/>
              </a:rPr>
              <a:t>谓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华文中宋"/>
              </a:rPr>
              <a:t>／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中宋"/>
              </a:rPr>
              <a:t>世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华文中宋"/>
              </a:rPr>
              <a:t>／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中宋"/>
              </a:rPr>
              <a:t>再无知音，乃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华文中宋"/>
              </a:rPr>
              <a:t>／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中宋"/>
              </a:rPr>
              <a:t>破琴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华文中宋"/>
              </a:rPr>
              <a:t>／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中宋"/>
              </a:rPr>
              <a:t>绝弦，终身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华文中宋"/>
              </a:rPr>
              <a:t>／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中宋"/>
              </a:rPr>
              <a:t>不复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penjin"/>
          <p:cNvPicPr/>
          <p:nvPr/>
        </p:nvPicPr>
        <p:blipFill>
          <a:blip r:embed="rId2"/>
          <a:stretch/>
        </p:blipFill>
        <p:spPr>
          <a:xfrm>
            <a:off x="1371600" y="990720"/>
            <a:ext cx="12952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76720" y="1143000"/>
            <a:ext cx="2666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解 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04760" y="3276720"/>
            <a:ext cx="556236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伯牙绝弦：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绝，断绝。伯牙因为子期死了，就把琴摔碎，再也不弹琴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600200" y="236232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华文中宋"/>
                <a:ea typeface="华文中宋"/>
              </a:rPr>
              <a:t>“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华文中宋"/>
              </a:rPr>
              <a:t>伯牙绝弦</a:t>
            </a:r>
            <a:r>
              <a:rPr b="1" lang="zh-CN" sz="4000" spc="-1" strike="noStrike">
                <a:solidFill>
                  <a:srgbClr val="008000"/>
                </a:solidFill>
                <a:latin typeface="华文中宋"/>
                <a:ea typeface="华文中宋"/>
              </a:rPr>
              <a:t>”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华文中宋"/>
              </a:rPr>
              <a:t>是什么意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7guohua26"/>
          <p:cNvPicPr/>
          <p:nvPr/>
        </p:nvPicPr>
        <p:blipFill>
          <a:blip r:embed="rId2"/>
          <a:stretch/>
        </p:blipFill>
        <p:spPr>
          <a:xfrm>
            <a:off x="1295280" y="380880"/>
            <a:ext cx="7391520" cy="5867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38480" y="3276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黑体"/>
              </a:rPr>
              <a:t>翻译课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371600" y="4266720"/>
            <a:ext cx="73152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仿宋"/>
              </a:rPr>
              <a:t>结合课文下的注释，翻译课文。大家两人一组互相翻译给对方听，找出你不理解的词语或句子，向老师求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95120" y="1294920"/>
            <a:ext cx="4876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翻译课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980720" y="2590560"/>
            <a:ext cx="58676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仿宋"/>
              </a:rPr>
              <a:t>请同学来翻译课文，一人翻译一句，先把句子朗读一遍，然后解释句中重点词语的意思，最后翻译整个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200692200560"/>
          <p:cNvPicPr/>
          <p:nvPr/>
        </p:nvPicPr>
        <p:blipFill>
          <a:blip r:embed="rId2"/>
          <a:stretch/>
        </p:blipFill>
        <p:spPr>
          <a:xfrm>
            <a:off x="1752480" y="762120"/>
            <a:ext cx="1724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752120" y="990720"/>
            <a:ext cx="6172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中宋"/>
              </a:rPr>
              <a:t>伯牙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善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中宋"/>
              </a:rPr>
              <a:t>鼓琴，钟子期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善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中宋"/>
              </a:rPr>
              <a:t>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善”，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善于，擅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伯牙善于弹琴，钟子期善于欣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中宋"/>
              </a:rPr>
              <a:t>伯牙鼓琴，志在高山，钟子期曰：</a:t>
            </a:r>
            <a:r>
              <a:rPr b="0" lang="zh-CN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善哉，峨峨兮若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中宋"/>
              </a:rPr>
              <a:t>泰山！</a:t>
            </a:r>
            <a:r>
              <a:rPr b="0" lang="zh-CN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善哉”，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太好了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峨峨”，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高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兮”，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啊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若”，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好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伯牙弹琴的时候，心里想到高山，钟子期（听了）说：“太好了！简直就像高大的泰山啊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d208"/>
          <p:cNvPicPr/>
          <p:nvPr/>
        </p:nvPicPr>
        <p:blipFill>
          <a:blip r:embed="rId2"/>
          <a:stretch/>
        </p:blipFill>
        <p:spPr>
          <a:xfrm>
            <a:off x="8458200" y="5029200"/>
            <a:ext cx="14954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752120" y="914400"/>
            <a:ext cx="6782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中宋"/>
              </a:rPr>
              <a:t>志在流水，钟子期曰：</a:t>
            </a:r>
            <a:r>
              <a:rPr b="0" lang="zh-CN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“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中宋"/>
              </a:rPr>
              <a:t>善哉，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洋洋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中宋"/>
              </a:rPr>
              <a:t>兮若江河！</a:t>
            </a:r>
            <a:r>
              <a:rPr b="0" lang="zh-CN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洋洋”，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广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伯牙心里想到流水，钟子期说：“妙极了！这琴声宛如奔腾不息的江河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中宋"/>
              </a:rPr>
              <a:t>伯牙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所念，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中宋"/>
              </a:rPr>
              <a:t>钟子期必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得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中宋"/>
              </a:rPr>
              <a:t>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所念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所想到的。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得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懂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不管伯牙心里想到什么，钟子期都能准确地道出他的心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d208"/>
          <p:cNvPicPr/>
          <p:nvPr/>
        </p:nvPicPr>
        <p:blipFill>
          <a:blip r:embed="rId2"/>
          <a:stretch/>
        </p:blipFill>
        <p:spPr>
          <a:xfrm>
            <a:off x="6934320" y="5105520"/>
            <a:ext cx="14954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752480" y="1447560"/>
            <a:ext cx="6553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中宋"/>
              </a:rPr>
              <a:t>子期死，伯牙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谓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中宋"/>
              </a:rPr>
              <a:t>世再无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知音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中宋"/>
              </a:rPr>
              <a:t>，乃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破琴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中宋"/>
              </a:rPr>
              <a:t>绝弦，终身不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复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中宋"/>
              </a:rPr>
              <a:t>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谓”，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觉得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知音”，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理解自己心意、有共同语言的人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破琴”，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把琴摔碎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“复”，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再，重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子期死后，伯牙觉得世界上再也找不到知音了，于是，他把琴摔碎，终身不再弹琴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d208"/>
          <p:cNvPicPr/>
          <p:nvPr/>
        </p:nvPicPr>
        <p:blipFill>
          <a:blip r:embed="rId2"/>
          <a:stretch/>
        </p:blipFill>
        <p:spPr>
          <a:xfrm>
            <a:off x="7010280" y="5029200"/>
            <a:ext cx="187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8T11:39:5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9:49Z</dcterms:modified>
  <cp:revision>63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1</vt:r8>
  </property>
</Properties>
</file>