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4.jpeg" ContentType="image/jpeg"/>
  <Override PartName="/ppt/media/image3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0E66-A108-46FB-959A-B39001CC3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3C6F-630B-4060-B3AD-103C73A0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CAAC-658E-45AA-A8B5-84896036B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01B4-191E-4264-A0A8-DF334173E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0BBD-D160-429F-A9FF-EEC073E4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97F2-77E2-45F9-B683-F0DCBB54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4271-B10F-4D60-AF99-CC74050A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2F41-FD86-4B19-BCDE-ADE5FCBD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97DD-EDE9-414B-9B83-D4FC4416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2955-15EB-428C-B4BD-489CC3C6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2C04-13C8-4021-B59E-E2B1B026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725D-1E07-4959-B441-8F3A670A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9128-4339-48A2-AA84-581DAF256ED3}" type="slidenum">
              <a:rPr b="0" lang="en-US" sz="1400" spc="-1" strike="noStrike">
                <a:solidFill>
                  <a:srgbClr val="80008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hyperlink" Target="ba.exe" TargetMode="External"/><Relationship Id="rId4" Type="http://schemas.openxmlformats.org/officeDocument/2006/relationships/image" Target="../media/image14.jpeg"/><Relationship Id="rId5" Type="http://schemas.openxmlformats.org/officeDocument/2006/relationships/hyperlink" Target="ru.exe" TargetMode="External"/><Relationship Id="rId6" Type="http://schemas.openxmlformats.org/officeDocument/2006/relationships/image" Target="../media/image15.jpeg"/><Relationship Id="rId7" Type="http://schemas.openxmlformats.org/officeDocument/2006/relationships/hyperlink" Target="da.exe" TargetMode="External"/><Relationship Id="rId8" Type="http://schemas.openxmlformats.org/officeDocument/2006/relationships/image" Target="../media/image16.jpeg"/><Relationship Id="rId9" Type="http://schemas.openxmlformats.org/officeDocument/2006/relationships/hyperlink" Target="tian.exe" TargetMode="External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ziliao/" TargetMode="External"/><Relationship Id="rId14" Type="http://schemas.openxmlformats.org/officeDocument/2006/relationships/hyperlink" Target="http://www.1ppt.com/kejian/" TargetMode="External"/><Relationship Id="rId15" Type="http://schemas.openxmlformats.org/officeDocument/2006/relationships/hyperlink" Target="http://www.1ppt.com/fanwen/" TargetMode="External"/><Relationship Id="rId16" Type="http://schemas.openxmlformats.org/officeDocument/2006/relationships/image" Target="../media/image10.jpe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1"/>
          <p:cNvSpPr/>
          <p:nvPr/>
        </p:nvSpPr>
        <p:spPr>
          <a:xfrm>
            <a:off x="179280" y="6311880"/>
            <a:ext cx="670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幻灯片之家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http://www.eeppt.com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xyx"/>
          <p:cNvPicPr/>
          <p:nvPr/>
        </p:nvPicPr>
        <p:blipFill>
          <a:blip r:embed="rId2"/>
          <a:stretch/>
        </p:blipFill>
        <p:spPr>
          <a:xfrm>
            <a:off x="1219320" y="1050840"/>
            <a:ext cx="1977840" cy="54936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1"/>
          <p:cNvGrpSpPr/>
          <p:nvPr/>
        </p:nvGrpSpPr>
        <p:grpSpPr>
          <a:xfrm>
            <a:off x="1447920" y="1905120"/>
            <a:ext cx="6324480" cy="3860640"/>
            <a:chOff x="1447920" y="1905120"/>
            <a:chExt cx="6324480" cy="3860640"/>
          </a:xfrm>
        </p:grpSpPr>
        <p:pic>
          <p:nvPicPr>
            <p:cNvPr id="107" name="Picture 7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4952880" y="1914480"/>
              <a:ext cx="2819520" cy="174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8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1523880" y="1905120"/>
              <a:ext cx="2819520" cy="17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9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1447920" y="3962520"/>
              <a:ext cx="2895480" cy="174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0" descr="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4952880" y="3962520"/>
              <a:ext cx="2819520" cy="1803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wipe dir="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4" descr="teacher00"/>
          <p:cNvPicPr/>
          <p:nvPr/>
        </p:nvPicPr>
        <p:blipFill>
          <a:blip r:embed="rId2"/>
          <a:stretch/>
        </p:blipFill>
        <p:spPr>
          <a:xfrm>
            <a:off x="6095880" y="4014720"/>
            <a:ext cx="2133720" cy="199728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5"/>
          <p:cNvSpPr/>
          <p:nvPr/>
        </p:nvSpPr>
        <p:spPr>
          <a:xfrm>
            <a:off x="2209680" y="1905120"/>
            <a:ext cx="4800600" cy="1904760"/>
          </a:xfrm>
          <a:prstGeom prst="cloudCallout">
            <a:avLst>
              <a:gd name="adj1" fmla="val 45138"/>
              <a:gd name="adj2" fmla="val 77583"/>
            </a:avLst>
          </a:prstGeom>
          <a:solidFill>
            <a:srgbClr val="99cc00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奥林匹克运动分为夏季运动会和冬季运动会。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13" name="Picture 16" descr="zyz"/>
          <p:cNvPicPr/>
          <p:nvPr/>
        </p:nvPicPr>
        <p:blipFill>
          <a:blip r:embed="rId3"/>
          <a:stretch/>
        </p:blipFill>
        <p:spPr>
          <a:xfrm>
            <a:off x="1219320" y="1017720"/>
            <a:ext cx="1931760" cy="5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15"/>
          <p:cNvSpPr/>
          <p:nvPr/>
        </p:nvSpPr>
        <p:spPr>
          <a:xfrm>
            <a:off x="2057400" y="2590920"/>
            <a:ext cx="4038480" cy="182880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15" name="Group 20"/>
          <p:cNvGrpSpPr/>
          <p:nvPr/>
        </p:nvGrpSpPr>
        <p:grpSpPr>
          <a:xfrm>
            <a:off x="1676520" y="1981080"/>
            <a:ext cx="6483240" cy="3200400"/>
            <a:chOff x="1676520" y="1981080"/>
            <a:chExt cx="6483240" cy="3200400"/>
          </a:xfrm>
        </p:grpSpPr>
        <p:pic>
          <p:nvPicPr>
            <p:cNvPr id="116" name="Picture 17" descr="02_034"/>
            <p:cNvPicPr/>
            <p:nvPr/>
          </p:nvPicPr>
          <p:blipFill>
            <a:blip r:embed="rId2"/>
            <a:stretch/>
          </p:blipFill>
          <p:spPr>
            <a:xfrm>
              <a:off x="1676520" y="1981080"/>
              <a:ext cx="1968480" cy="304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18" descr="02_037"/>
            <p:cNvPicPr/>
            <p:nvPr/>
          </p:nvPicPr>
          <p:blipFill>
            <a:blip r:embed="rId3"/>
            <a:stretch/>
          </p:blipFill>
          <p:spPr>
            <a:xfrm>
              <a:off x="5029200" y="2133720"/>
              <a:ext cx="3130560" cy="3047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8" name="Picture 19" descr="zyz"/>
          <p:cNvPicPr/>
          <p:nvPr/>
        </p:nvPicPr>
        <p:blipFill>
          <a:blip r:embed="rId4"/>
          <a:stretch/>
        </p:blipFill>
        <p:spPr>
          <a:xfrm>
            <a:off x="1219320" y="1017720"/>
            <a:ext cx="1931760" cy="582480"/>
          </a:xfrm>
          <a:prstGeom prst="rect">
            <a:avLst/>
          </a:prstGeom>
          <a:ln w="0">
            <a:noFill/>
          </a:ln>
        </p:spPr>
      </p:pic>
      <p:sp>
        <p:nvSpPr>
          <p:cNvPr id="119" name="文本框 1"/>
          <p:cNvSpPr/>
          <p:nvPr/>
        </p:nvSpPr>
        <p:spPr>
          <a:xfrm>
            <a:off x="-326880" y="5391000"/>
            <a:ext cx="9423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更多免费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PPT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模板尽在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http://www.eeppt.com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1044"/>
          <p:cNvGrpSpPr/>
          <p:nvPr/>
        </p:nvGrpSpPr>
        <p:grpSpPr>
          <a:xfrm>
            <a:off x="1523880" y="1905120"/>
            <a:ext cx="6553440" cy="3124080"/>
            <a:chOff x="1523880" y="1905120"/>
            <a:chExt cx="6553440" cy="3124080"/>
          </a:xfrm>
        </p:grpSpPr>
        <p:pic>
          <p:nvPicPr>
            <p:cNvPr id="121" name="Picture 1041" descr="02_148"/>
            <p:cNvPicPr/>
            <p:nvPr/>
          </p:nvPicPr>
          <p:blipFill>
            <a:blip r:embed="rId2"/>
            <a:stretch/>
          </p:blipFill>
          <p:spPr>
            <a:xfrm>
              <a:off x="1523880" y="1905120"/>
              <a:ext cx="3054600" cy="30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1043" descr="03_211"/>
            <p:cNvPicPr/>
            <p:nvPr/>
          </p:nvPicPr>
          <p:blipFill>
            <a:blip r:embed="rId3"/>
            <a:stretch/>
          </p:blipFill>
          <p:spPr>
            <a:xfrm>
              <a:off x="4991040" y="1981080"/>
              <a:ext cx="3086280" cy="3048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3" name="Picture 1045" descr="zyz"/>
          <p:cNvPicPr/>
          <p:nvPr/>
        </p:nvPicPr>
        <p:blipFill>
          <a:blip r:embed="rId4"/>
          <a:stretch/>
        </p:blipFill>
        <p:spPr>
          <a:xfrm>
            <a:off x="1219320" y="1017720"/>
            <a:ext cx="1931760" cy="5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0"/>
          <p:cNvGrpSpPr/>
          <p:nvPr/>
        </p:nvGrpSpPr>
        <p:grpSpPr>
          <a:xfrm>
            <a:off x="1219320" y="2057400"/>
            <a:ext cx="6933960" cy="3048120"/>
            <a:chOff x="1219320" y="2057400"/>
            <a:chExt cx="6933960" cy="3048120"/>
          </a:xfrm>
        </p:grpSpPr>
        <p:pic>
          <p:nvPicPr>
            <p:cNvPr id="125" name="Picture 7" descr="03_143"/>
            <p:cNvPicPr/>
            <p:nvPr/>
          </p:nvPicPr>
          <p:blipFill>
            <a:blip r:embed="rId2"/>
            <a:stretch/>
          </p:blipFill>
          <p:spPr>
            <a:xfrm>
              <a:off x="1219320" y="2057400"/>
              <a:ext cx="3035160" cy="304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8" descr="02_150"/>
            <p:cNvPicPr/>
            <p:nvPr/>
          </p:nvPicPr>
          <p:blipFill>
            <a:blip r:embed="rId3"/>
            <a:stretch/>
          </p:blipFill>
          <p:spPr>
            <a:xfrm>
              <a:off x="5099040" y="2057400"/>
              <a:ext cx="3054240" cy="3048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7" name="Picture 9" descr="zyz"/>
          <p:cNvPicPr/>
          <p:nvPr/>
        </p:nvPicPr>
        <p:blipFill>
          <a:blip r:embed="rId4"/>
          <a:stretch/>
        </p:blipFill>
        <p:spPr>
          <a:xfrm>
            <a:off x="1219320" y="1017720"/>
            <a:ext cx="1931760" cy="5824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1"/>
          <p:cNvSpPr/>
          <p:nvPr/>
        </p:nvSpPr>
        <p:spPr>
          <a:xfrm>
            <a:off x="2406600" y="562752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更多全套免费课件下载地址：</a:t>
            </a: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第一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PT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模板网：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www.1ppt.com</a:t>
            </a: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3333cc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008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2998-20EA-494A-BA27-16A54410F09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12"/>
          <p:cNvGrpSpPr/>
          <p:nvPr/>
        </p:nvGrpSpPr>
        <p:grpSpPr>
          <a:xfrm>
            <a:off x="1905120" y="1828800"/>
            <a:ext cx="6324480" cy="3657600"/>
            <a:chOff x="1905120" y="1828800"/>
            <a:chExt cx="6324480" cy="3657600"/>
          </a:xfrm>
        </p:grpSpPr>
        <p:sp>
          <p:nvSpPr>
            <p:cNvPr id="43" name="AutoShape 4"/>
            <p:cNvSpPr/>
            <p:nvPr/>
          </p:nvSpPr>
          <p:spPr>
            <a:xfrm>
              <a:off x="1905120" y="1828800"/>
              <a:ext cx="4343400" cy="1600200"/>
            </a:xfrm>
            <a:prstGeom prst="cloudCallout">
              <a:avLst>
                <a:gd name="adj1" fmla="val 62245"/>
                <a:gd name="adj2" fmla="val 92361"/>
              </a:avLst>
            </a:prstGeom>
            <a:solidFill>
              <a:srgbClr val="99cc00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你知道有哪些体育活动？</a:t>
              </a:r>
              <a:endParaRPr b="1" lang="en-US" sz="2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pic>
          <p:nvPicPr>
            <p:cNvPr id="44" name="Picture 5" descr="teacher00"/>
            <p:cNvPicPr/>
            <p:nvPr/>
          </p:nvPicPr>
          <p:blipFill>
            <a:blip r:embed="rId2"/>
            <a:stretch/>
          </p:blipFill>
          <p:spPr>
            <a:xfrm>
              <a:off x="6095880" y="3489480"/>
              <a:ext cx="2133720" cy="1996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Picture 7" descr="00"/>
          <p:cNvPicPr/>
          <p:nvPr/>
        </p:nvPicPr>
        <p:blipFill>
          <a:blip r:embed="rId3"/>
          <a:stretch/>
        </p:blipFill>
        <p:spPr>
          <a:xfrm>
            <a:off x="1219320" y="1650960"/>
            <a:ext cx="2438280" cy="2006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01"/>
          <p:cNvPicPr/>
          <p:nvPr/>
        </p:nvPicPr>
        <p:blipFill>
          <a:blip r:embed="rId4"/>
          <a:stretch/>
        </p:blipFill>
        <p:spPr>
          <a:xfrm>
            <a:off x="4343400" y="1600200"/>
            <a:ext cx="3124080" cy="1459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02"/>
          <p:cNvPicPr/>
          <p:nvPr/>
        </p:nvPicPr>
        <p:blipFill>
          <a:blip r:embed="rId5"/>
          <a:stretch/>
        </p:blipFill>
        <p:spPr>
          <a:xfrm>
            <a:off x="1901880" y="4172040"/>
            <a:ext cx="1298520" cy="1619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03"/>
          <p:cNvPicPr/>
          <p:nvPr/>
        </p:nvPicPr>
        <p:blipFill>
          <a:blip r:embed="rId6"/>
          <a:stretch/>
        </p:blipFill>
        <p:spPr>
          <a:xfrm>
            <a:off x="4724280" y="4038480"/>
            <a:ext cx="2229120" cy="1739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dyd"/>
          <p:cNvPicPr/>
          <p:nvPr/>
        </p:nvPicPr>
        <p:blipFill>
          <a:blip r:embed="rId7"/>
          <a:stretch/>
        </p:blipFill>
        <p:spPr>
          <a:xfrm>
            <a:off x="1112760" y="990720"/>
            <a:ext cx="2011320" cy="617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6"/>
          <p:cNvSpPr/>
          <p:nvPr/>
        </p:nvSpPr>
        <p:spPr>
          <a:xfrm>
            <a:off x="2208240" y="4365720"/>
            <a:ext cx="208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1" lang="zh-CN" sz="400" spc="-1" strike="noStrike">
                <a:solidFill>
                  <a:srgbClr val="4a452a"/>
                </a:solidFill>
                <a:latin typeface="Times New Roman"/>
              </a:rPr>
              <a:t>模板下载：</a:t>
            </a:r>
            <a:r>
              <a:rPr b="1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2"/>
              </a:rPr>
              <a:t>www.1ppt.com/moban/</a:t>
            </a:r>
            <a:r>
              <a:rPr b="1" lang="en-US" sz="4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1" lang="zh-CN" sz="400" spc="-1" strike="noStrike">
                <a:solidFill>
                  <a:srgbClr val="4a452a"/>
                </a:solidFill>
                <a:latin typeface="Times New Roman"/>
              </a:rPr>
              <a:t>行业</a:t>
            </a:r>
            <a:r>
              <a:rPr b="1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1" lang="zh-CN" sz="4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1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www.1ppt.com/hangye/</a:t>
            </a:r>
            <a:r>
              <a:rPr b="1" lang="en-US" sz="4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1" lang="en-US" sz="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" spc="-1" strike="noStrike">
                <a:solidFill>
                  <a:srgbClr val="4a452a"/>
                </a:solidFill>
                <a:latin typeface="Times New Roman"/>
              </a:rPr>
              <a:t>节日</a:t>
            </a:r>
            <a:r>
              <a:rPr b="1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1" lang="zh-CN" sz="4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1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4"/>
              </a:rPr>
              <a:t>www.1ppt.com/jieri/</a:t>
            </a:r>
            <a:r>
              <a:rPr b="1" lang="en-US" sz="400" spc="-1" strike="noStrike">
                <a:solidFill>
                  <a:srgbClr val="4a452a"/>
                </a:solidFill>
                <a:latin typeface="Times New Roman"/>
              </a:rPr>
              <a:t>           PPT</a:t>
            </a:r>
            <a:r>
              <a:rPr b="1" lang="zh-CN" sz="400" spc="-1" strike="noStrike">
                <a:solidFill>
                  <a:srgbClr val="4a452a"/>
                </a:solidFill>
                <a:latin typeface="Times New Roman"/>
              </a:rPr>
              <a:t>素材下载：</a:t>
            </a:r>
            <a:r>
              <a:rPr b="1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5"/>
              </a:rPr>
              <a:t>www.1ppt.com/sucai/</a:t>
            </a:r>
            <a:endParaRPr b="1" lang="en-US" sz="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1" lang="zh-CN" sz="400" spc="-1" strike="noStrike">
                <a:solidFill>
                  <a:srgbClr val="4a452a"/>
                </a:solidFill>
                <a:latin typeface="Times New Roman"/>
              </a:rPr>
              <a:t>背景图片：</a:t>
            </a:r>
            <a:r>
              <a:rPr b="1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6"/>
              </a:rPr>
              <a:t>www.1ppt.com/beijing/</a:t>
            </a:r>
            <a:r>
              <a:rPr b="1" lang="en-US" sz="400" spc="-1" strike="noStrike">
                <a:solidFill>
                  <a:srgbClr val="4a452a"/>
                </a:solidFill>
                <a:latin typeface="Times New Roman"/>
              </a:rPr>
              <a:t>      PPT</a:t>
            </a:r>
            <a:r>
              <a:rPr b="1" lang="zh-CN" sz="400" spc="-1" strike="noStrike">
                <a:solidFill>
                  <a:srgbClr val="4a452a"/>
                </a:solidFill>
                <a:latin typeface="Times New Roman"/>
              </a:rPr>
              <a:t>图表下载：</a:t>
            </a:r>
            <a:r>
              <a:rPr b="1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7"/>
              </a:rPr>
              <a:t>www.1ppt.com/tubiao/</a:t>
            </a:r>
            <a:r>
              <a:rPr b="1" lang="en-US" sz="4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1" lang="en-US" sz="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" spc="-1" strike="noStrike">
                <a:solidFill>
                  <a:srgbClr val="4a452a"/>
                </a:solidFill>
                <a:latin typeface="Times New Roman"/>
              </a:rPr>
              <a:t>优秀</a:t>
            </a:r>
            <a:r>
              <a:rPr b="1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1" lang="zh-CN" sz="4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1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8"/>
              </a:rPr>
              <a:t>www.1ppt.com/xiazai/</a:t>
            </a:r>
            <a:r>
              <a:rPr b="1" lang="en-US" sz="400" spc="-1" strike="noStrike">
                <a:solidFill>
                  <a:srgbClr val="4a452a"/>
                </a:solidFill>
                <a:latin typeface="Times New Roman"/>
              </a:rPr>
              <a:t>        PPT</a:t>
            </a:r>
            <a:r>
              <a:rPr b="1" lang="zh-CN" sz="4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1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9"/>
              </a:rPr>
              <a:t>www.1ppt.com/powerpoint/</a:t>
            </a:r>
            <a:r>
              <a:rPr b="1" lang="en-US" sz="4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1" lang="en-US" sz="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4a452a"/>
                </a:solidFill>
                <a:latin typeface="Times New Roman"/>
              </a:rPr>
              <a:t>Word</a:t>
            </a:r>
            <a:r>
              <a:rPr b="1" lang="zh-CN" sz="4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1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10"/>
              </a:rPr>
              <a:t>www.1ppt.com/word/</a:t>
            </a:r>
            <a:r>
              <a:rPr b="1" lang="en-US" sz="400" spc="-1" strike="noStrike">
                <a:solidFill>
                  <a:srgbClr val="4a452a"/>
                </a:solidFill>
                <a:latin typeface="Times New Roman"/>
              </a:rPr>
              <a:t>              Excel</a:t>
            </a:r>
            <a:r>
              <a:rPr b="1" lang="zh-CN" sz="400" spc="-1" strike="noStrike">
                <a:solidFill>
                  <a:srgbClr val="4a452a"/>
                </a:solidFill>
                <a:latin typeface="Times New Roman"/>
              </a:rPr>
              <a:t>教程：</a:t>
            </a:r>
            <a:r>
              <a:rPr b="1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11"/>
              </a:rPr>
              <a:t>www.1ppt.com/excel</a:t>
            </a:r>
            <a:r>
              <a:rPr b="1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12"/>
              </a:rPr>
              <a:t>/</a:t>
            </a:r>
            <a:r>
              <a:rPr b="1" lang="en-US" sz="4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1" lang="en-US" sz="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" spc="-1" strike="noStrike">
                <a:solidFill>
                  <a:srgbClr val="4a452a"/>
                </a:solidFill>
                <a:latin typeface="Times New Roman"/>
              </a:rPr>
              <a:t>资料下载：</a:t>
            </a:r>
            <a:r>
              <a:rPr b="1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13"/>
              </a:rPr>
              <a:t>www.1ppt.com/ziliao/</a:t>
            </a:r>
            <a:endParaRPr b="1" lang="en-US" sz="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1" lang="zh-CN" sz="400" spc="-1" strike="noStrike">
                <a:solidFill>
                  <a:srgbClr val="4a452a"/>
                </a:solidFill>
                <a:latin typeface="Times New Roman"/>
              </a:rPr>
              <a:t>课件下载：</a:t>
            </a:r>
            <a:r>
              <a:rPr b="1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14"/>
              </a:rPr>
              <a:t>www.1ppt.com/kejian/</a:t>
            </a:r>
            <a:r>
              <a:rPr b="1" lang="en-US" sz="4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1" lang="en-US" sz="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1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15"/>
              </a:rPr>
              <a:t>www.1ppt.com/fanwen/</a:t>
            </a:r>
            <a:r>
              <a:rPr b="1" lang="en-US" sz="400" spc="-1" strike="noStrike">
                <a:solidFill>
                  <a:srgbClr val="4a452a"/>
                </a:solidFill>
                <a:latin typeface="Times New Roman"/>
              </a:rPr>
              <a:t>           </a:t>
            </a:r>
            <a:endParaRPr b="1" lang="en-US" sz="4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1" name="Picture 24" descr="1"/>
          <p:cNvPicPr/>
          <p:nvPr/>
        </p:nvPicPr>
        <p:blipFill>
          <a:blip r:embed="rId16"/>
          <a:stretch/>
        </p:blipFill>
        <p:spPr>
          <a:xfrm>
            <a:off x="1549440" y="1844640"/>
            <a:ext cx="6335640" cy="399888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21"/>
          <p:cNvSpPr/>
          <p:nvPr/>
        </p:nvSpPr>
        <p:spPr>
          <a:xfrm>
            <a:off x="4267080" y="304920"/>
            <a:ext cx="4343400" cy="1981080"/>
          </a:xfrm>
          <a:prstGeom prst="cloudCallout">
            <a:avLst>
              <a:gd name="adj1" fmla="val -46162"/>
              <a:gd name="adj2" fmla="val 60736"/>
            </a:avLst>
          </a:prstGeom>
          <a:solidFill>
            <a:srgbClr val="99cc00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看图，说说课间或课后可以开展哪些活动？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3" name="Picture 23" descr="dyd"/>
          <p:cNvPicPr/>
          <p:nvPr/>
        </p:nvPicPr>
        <p:blipFill>
          <a:blip r:embed="rId17"/>
          <a:stretch/>
        </p:blipFill>
        <p:spPr>
          <a:xfrm>
            <a:off x="1112760" y="990720"/>
            <a:ext cx="2011320" cy="617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1" descr="dyd"/>
          <p:cNvPicPr/>
          <p:nvPr/>
        </p:nvPicPr>
        <p:blipFill>
          <a:blip r:embed="rId2"/>
          <a:stretch/>
        </p:blipFill>
        <p:spPr>
          <a:xfrm>
            <a:off x="1112760" y="990720"/>
            <a:ext cx="2011320" cy="617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2" descr="1"/>
          <p:cNvPicPr/>
          <p:nvPr/>
        </p:nvPicPr>
        <p:blipFill>
          <a:blip r:embed="rId3"/>
          <a:stretch/>
        </p:blipFill>
        <p:spPr>
          <a:xfrm>
            <a:off x="1557360" y="1773360"/>
            <a:ext cx="6110280" cy="4467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9"/>
          <p:cNvSpPr/>
          <p:nvPr/>
        </p:nvSpPr>
        <p:spPr>
          <a:xfrm>
            <a:off x="3513960" y="2819520"/>
            <a:ext cx="19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打   拍   跳   踢 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2622960" y="4129200"/>
            <a:ext cx="438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气球    皮球    排球    足球    皮筋    高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1371600" y="16765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连一连，读一读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437920" y="3200400"/>
            <a:ext cx="1600560" cy="990720"/>
            <a:chOff x="2437920" y="3200400"/>
            <a:chExt cx="1600560" cy="990720"/>
          </a:xfrm>
        </p:grpSpPr>
        <p:sp>
          <p:nvSpPr>
            <p:cNvPr id="60" name="Line 22"/>
            <p:cNvSpPr/>
            <p:nvPr/>
          </p:nvSpPr>
          <p:spPr>
            <a:xfrm flipH="1">
              <a:off x="2437920" y="3200400"/>
              <a:ext cx="1600200" cy="990720"/>
            </a:xfrm>
            <a:prstGeom prst="line">
              <a:avLst/>
            </a:prstGeom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61" name=""/>
            <p:cNvSpPr txBox="1"/>
            <p:nvPr/>
          </p:nvSpPr>
          <p:spPr>
            <a:xfrm>
              <a:off x="2438280" y="3200400"/>
              <a:ext cx="1600200" cy="99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3352320" y="3200400"/>
            <a:ext cx="686160" cy="990720"/>
            <a:chOff x="3352320" y="3200400"/>
            <a:chExt cx="686160" cy="990720"/>
          </a:xfrm>
        </p:grpSpPr>
        <p:sp>
          <p:nvSpPr>
            <p:cNvPr id="63" name="Line 23"/>
            <p:cNvSpPr/>
            <p:nvPr/>
          </p:nvSpPr>
          <p:spPr>
            <a:xfrm flipH="1">
              <a:off x="3352320" y="3200400"/>
              <a:ext cx="685800" cy="990720"/>
            </a:xfrm>
            <a:prstGeom prst="line">
              <a:avLst/>
            </a:prstGeom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64" name=""/>
            <p:cNvSpPr txBox="1"/>
            <p:nvPr/>
          </p:nvSpPr>
          <p:spPr>
            <a:xfrm>
              <a:off x="3352680" y="3200400"/>
              <a:ext cx="685800" cy="99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505320" y="3200400"/>
            <a:ext cx="914400" cy="990720"/>
            <a:chOff x="3505320" y="3200400"/>
            <a:chExt cx="914400" cy="990720"/>
          </a:xfrm>
        </p:grpSpPr>
        <p:sp>
          <p:nvSpPr>
            <p:cNvPr id="66" name="Line 25"/>
            <p:cNvSpPr/>
            <p:nvPr/>
          </p:nvSpPr>
          <p:spPr>
            <a:xfrm>
              <a:off x="3505320" y="3200400"/>
              <a:ext cx="914400" cy="990720"/>
            </a:xfrm>
            <a:prstGeom prst="line">
              <a:avLst/>
            </a:prstGeom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67" name=""/>
            <p:cNvSpPr txBox="1"/>
            <p:nvPr/>
          </p:nvSpPr>
          <p:spPr>
            <a:xfrm>
              <a:off x="3505320" y="3200400"/>
              <a:ext cx="914400" cy="99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4876920" y="3276720"/>
            <a:ext cx="1600200" cy="914400"/>
            <a:chOff x="4876920" y="3276720"/>
            <a:chExt cx="1600200" cy="914400"/>
          </a:xfrm>
        </p:grpSpPr>
        <p:sp>
          <p:nvSpPr>
            <p:cNvPr id="69" name="Line 26"/>
            <p:cNvSpPr/>
            <p:nvPr/>
          </p:nvSpPr>
          <p:spPr>
            <a:xfrm>
              <a:off x="4876920" y="3276720"/>
              <a:ext cx="1600200" cy="914400"/>
            </a:xfrm>
            <a:prstGeom prst="line">
              <a:avLst/>
            </a:prstGeom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>
              <a:off x="4876920" y="3276720"/>
              <a:ext cx="160020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562720" y="3200400"/>
            <a:ext cx="360" cy="1066680"/>
            <a:chOff x="5562720" y="3200400"/>
            <a:chExt cx="360" cy="1066680"/>
          </a:xfrm>
        </p:grpSpPr>
        <p:sp>
          <p:nvSpPr>
            <p:cNvPr id="72" name="Line 27"/>
            <p:cNvSpPr/>
            <p:nvPr/>
          </p:nvSpPr>
          <p:spPr>
            <a:xfrm>
              <a:off x="5562720" y="3200400"/>
              <a:ext cx="0" cy="1066680"/>
            </a:xfrm>
            <a:prstGeom prst="line">
              <a:avLst/>
            </a:prstGeom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73" name=""/>
            <p:cNvSpPr txBox="1"/>
            <p:nvPr/>
          </p:nvSpPr>
          <p:spPr>
            <a:xfrm>
              <a:off x="5562720" y="3200400"/>
              <a:ext cx="360" cy="106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4876920" y="3276720"/>
            <a:ext cx="2590560" cy="990360"/>
            <a:chOff x="4876920" y="3276720"/>
            <a:chExt cx="2590560" cy="990360"/>
          </a:xfrm>
        </p:grpSpPr>
        <p:sp>
          <p:nvSpPr>
            <p:cNvPr id="75" name="Line 29"/>
            <p:cNvSpPr/>
            <p:nvPr/>
          </p:nvSpPr>
          <p:spPr>
            <a:xfrm>
              <a:off x="4876920" y="3276720"/>
              <a:ext cx="2590560" cy="990360"/>
            </a:xfrm>
            <a:prstGeom prst="line">
              <a:avLst/>
            </a:prstGeom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76" name=""/>
            <p:cNvSpPr txBox="1"/>
            <p:nvPr/>
          </p:nvSpPr>
          <p:spPr>
            <a:xfrm>
              <a:off x="4876920" y="3276720"/>
              <a:ext cx="2590560" cy="99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pic>
        <p:nvPicPr>
          <p:cNvPr id="77" name="Picture 30" descr="dyd"/>
          <p:cNvPicPr/>
          <p:nvPr/>
        </p:nvPicPr>
        <p:blipFill>
          <a:blip r:embed="rId2"/>
          <a:stretch/>
        </p:blipFill>
        <p:spPr>
          <a:xfrm>
            <a:off x="1112760" y="990720"/>
            <a:ext cx="2011320" cy="6174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4" descr="dyd"/>
          <p:cNvPicPr/>
          <p:nvPr/>
        </p:nvPicPr>
        <p:blipFill>
          <a:blip r:embed="rId2"/>
          <a:stretch/>
        </p:blipFill>
        <p:spPr>
          <a:xfrm>
            <a:off x="1112760" y="990720"/>
            <a:ext cx="2011320" cy="617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6" descr="1"/>
          <p:cNvPicPr/>
          <p:nvPr/>
        </p:nvPicPr>
        <p:blipFill>
          <a:blip r:embed="rId3"/>
          <a:stretch/>
        </p:blipFill>
        <p:spPr>
          <a:xfrm>
            <a:off x="1554120" y="1657440"/>
            <a:ext cx="6257880" cy="4476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027" descr="teacher00"/>
          <p:cNvPicPr/>
          <p:nvPr/>
        </p:nvPicPr>
        <p:blipFill>
          <a:blip r:embed="rId2"/>
          <a:stretch/>
        </p:blipFill>
        <p:spPr>
          <a:xfrm>
            <a:off x="6095880" y="4014720"/>
            <a:ext cx="2133720" cy="19972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1028"/>
          <p:cNvSpPr/>
          <p:nvPr/>
        </p:nvSpPr>
        <p:spPr>
          <a:xfrm>
            <a:off x="838080" y="1600200"/>
            <a:ext cx="6477120" cy="3048120"/>
          </a:xfrm>
          <a:prstGeom prst="cloudCallout">
            <a:avLst>
              <a:gd name="adj1" fmla="val 43384"/>
              <a:gd name="adj2" fmla="val 53074"/>
            </a:avLst>
          </a:prstGeom>
          <a:solidFill>
            <a:srgbClr val="99cc00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热闹：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说明操场上活动多，充满欢声、笑声。“闹”在这词里读轻声。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锻炼：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通过体育活动使身体强壮的意思。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83" name="Picture 1029" descr="dyd"/>
          <p:cNvPicPr/>
          <p:nvPr/>
        </p:nvPicPr>
        <p:blipFill>
          <a:blip r:embed="rId3"/>
          <a:stretch/>
        </p:blipFill>
        <p:spPr>
          <a:xfrm>
            <a:off x="1112760" y="990720"/>
            <a:ext cx="2011320" cy="617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34"/>
          <p:cNvGrpSpPr/>
          <p:nvPr/>
        </p:nvGrpSpPr>
        <p:grpSpPr>
          <a:xfrm>
            <a:off x="1834200" y="2286000"/>
            <a:ext cx="5175720" cy="2668320"/>
            <a:chOff x="1834200" y="2286000"/>
            <a:chExt cx="5175720" cy="2668320"/>
          </a:xfrm>
        </p:grpSpPr>
        <p:sp>
          <p:nvSpPr>
            <p:cNvPr id="85" name="Text Box 26"/>
            <p:cNvSpPr/>
            <p:nvPr/>
          </p:nvSpPr>
          <p:spPr>
            <a:xfrm>
              <a:off x="1834200" y="2286000"/>
              <a:ext cx="509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ti</a:t>
              </a:r>
              <a:r>
                <a:rPr b="1" lang="en-US" sz="2400" spc="-1" strike="noStrike">
                  <a:solidFill>
                    <a:srgbClr val="ff3300"/>
                  </a:solidFill>
                  <a:latin typeface="Century Gothic"/>
                </a:rPr>
                <a:t>à</a:t>
              </a: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o  gāo  b</a:t>
              </a:r>
              <a:r>
                <a:rPr b="1" lang="en-US" sz="2400" spc="-1" strike="noStrike">
                  <a:solidFill>
                    <a:srgbClr val="ff3300"/>
                  </a:solidFill>
                  <a:latin typeface="Century Gothic"/>
                </a:rPr>
                <a:t>á</a:t>
              </a: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   hé    pāi   pí qiú</a:t>
              </a:r>
              <a:endParaRPr b="1" lang="en-US" sz="2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86" name="Text Box 27"/>
            <p:cNvSpPr/>
            <p:nvPr/>
          </p:nvSpPr>
          <p:spPr>
            <a:xfrm>
              <a:off x="1859400" y="3809880"/>
              <a:ext cx="515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tiān tiān du</a:t>
              </a:r>
              <a:r>
                <a:rPr b="1" lang="en-US" sz="2400" spc="-1" strike="noStrike">
                  <a:solidFill>
                    <a:srgbClr val="ff3300"/>
                  </a:solidFill>
                  <a:latin typeface="Century Gothic"/>
                </a:rPr>
                <a:t>à</a:t>
              </a: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n li</a:t>
              </a:r>
              <a:r>
                <a:rPr b="1" lang="en-US" sz="2400" spc="-1" strike="noStrike">
                  <a:solidFill>
                    <a:srgbClr val="ff3300"/>
                  </a:solidFill>
                  <a:latin typeface="Century Gothic"/>
                </a:rPr>
                <a:t>à</a:t>
              </a: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n shēn tǐ hǎo</a:t>
              </a:r>
              <a:endParaRPr b="1" lang="en-US" sz="2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87" name="Text Box 28"/>
            <p:cNvSpPr/>
            <p:nvPr/>
          </p:nvSpPr>
          <p:spPr>
            <a:xfrm>
              <a:off x="2538360" y="2971800"/>
              <a:ext cx="402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Arial"/>
                </a:rPr>
                <a:t>跳    高     拔    河    拍    皮  球，</a:t>
              </a:r>
              <a:endParaRPr b="1" lang="en-US" sz="2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88" name="Text Box 29"/>
            <p:cNvSpPr/>
            <p:nvPr/>
          </p:nvSpPr>
          <p:spPr>
            <a:xfrm>
              <a:off x="2572200" y="4433760"/>
              <a:ext cx="398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Arial"/>
                </a:rPr>
                <a:t>天    天    锻      炼    身   体  好。</a:t>
              </a:r>
              <a:endParaRPr b="1" lang="en-US" sz="2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pic>
        <p:nvPicPr>
          <p:cNvPr id="89" name="Picture 33" descr="dyd"/>
          <p:cNvPicPr/>
          <p:nvPr/>
        </p:nvPicPr>
        <p:blipFill>
          <a:blip r:embed="rId2"/>
          <a:stretch/>
        </p:blipFill>
        <p:spPr>
          <a:xfrm>
            <a:off x="1112760" y="990720"/>
            <a:ext cx="2011320" cy="617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2"/>
          <p:cNvGrpSpPr/>
          <p:nvPr/>
        </p:nvGrpSpPr>
        <p:grpSpPr>
          <a:xfrm>
            <a:off x="1834200" y="2286000"/>
            <a:ext cx="5175720" cy="2668320"/>
            <a:chOff x="1834200" y="2286000"/>
            <a:chExt cx="5175720" cy="2668320"/>
          </a:xfrm>
        </p:grpSpPr>
        <p:sp>
          <p:nvSpPr>
            <p:cNvPr id="91" name="Text Box 14"/>
            <p:cNvSpPr/>
            <p:nvPr/>
          </p:nvSpPr>
          <p:spPr>
            <a:xfrm>
              <a:off x="1834200" y="2286000"/>
              <a:ext cx="509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ti</a:t>
              </a:r>
              <a:r>
                <a:rPr b="1" lang="en-US" sz="2400" spc="-1" strike="noStrike">
                  <a:solidFill>
                    <a:srgbClr val="ff3300"/>
                  </a:solidFill>
                  <a:latin typeface="Century Gothic"/>
                </a:rPr>
                <a:t>à</a:t>
              </a: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o  gāo  b</a:t>
              </a:r>
              <a:r>
                <a:rPr b="1" lang="en-US" sz="2400" spc="-1" strike="noStrike">
                  <a:solidFill>
                    <a:srgbClr val="ff3300"/>
                  </a:solidFill>
                  <a:latin typeface="Century Gothic"/>
                </a:rPr>
                <a:t>á</a:t>
              </a: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   hé    pāi   pí qiú</a:t>
              </a:r>
              <a:endParaRPr b="1" lang="en-US" sz="2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92" name="Text Box 15"/>
            <p:cNvSpPr/>
            <p:nvPr/>
          </p:nvSpPr>
          <p:spPr>
            <a:xfrm>
              <a:off x="1859400" y="3809880"/>
              <a:ext cx="515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tiān tiān du</a:t>
              </a:r>
              <a:r>
                <a:rPr b="1" lang="en-US" sz="2400" spc="-1" strike="noStrike">
                  <a:solidFill>
                    <a:srgbClr val="ff3300"/>
                  </a:solidFill>
                  <a:latin typeface="Century Gothic"/>
                </a:rPr>
                <a:t>à</a:t>
              </a: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n li</a:t>
              </a:r>
              <a:r>
                <a:rPr b="1" lang="en-US" sz="2400" spc="-1" strike="noStrike">
                  <a:solidFill>
                    <a:srgbClr val="ff3300"/>
                  </a:solidFill>
                  <a:latin typeface="Century Gothic"/>
                </a:rPr>
                <a:t>à</a:t>
              </a: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n shēn tǐ hǎo</a:t>
              </a:r>
              <a:endParaRPr b="1" lang="en-US" sz="2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93" name="Text Box 16"/>
            <p:cNvSpPr/>
            <p:nvPr/>
          </p:nvSpPr>
          <p:spPr>
            <a:xfrm>
              <a:off x="2538360" y="2971800"/>
              <a:ext cx="402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Arial"/>
                </a:rPr>
                <a:t>跳    高     拔    河    拍    皮  球，</a:t>
              </a:r>
              <a:endParaRPr b="1" lang="en-US" sz="2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94" name="Text Box 17"/>
            <p:cNvSpPr/>
            <p:nvPr/>
          </p:nvSpPr>
          <p:spPr>
            <a:xfrm>
              <a:off x="2572200" y="4433760"/>
              <a:ext cx="398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Arial"/>
                </a:rPr>
                <a:t>天    天    锻      炼    身   体  好。</a:t>
              </a:r>
              <a:endParaRPr b="1" lang="en-US" sz="2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3158640" y="2971800"/>
              <a:ext cx="305280" cy="533520"/>
              <a:chOff x="3158640" y="2971800"/>
              <a:chExt cx="305280" cy="533520"/>
            </a:xfrm>
          </p:grpSpPr>
          <p:sp>
            <p:nvSpPr>
              <p:cNvPr id="96" name="Line 18"/>
              <p:cNvSpPr/>
              <p:nvPr/>
            </p:nvSpPr>
            <p:spPr>
              <a:xfrm flipH="1">
                <a:off x="3158640" y="2971800"/>
                <a:ext cx="304920" cy="533520"/>
              </a:xfrm>
              <a:prstGeom prst="line">
                <a:avLst/>
              </a:prstGeom>
              <a:ln w="5724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33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 txBox="1"/>
              <p:nvPr/>
            </p:nvSpPr>
            <p:spPr>
              <a:xfrm>
                <a:off x="3159000" y="2971800"/>
                <a:ext cx="30492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33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4758840" y="2971800"/>
              <a:ext cx="305280" cy="533520"/>
              <a:chOff x="4758840" y="2971800"/>
              <a:chExt cx="305280" cy="533520"/>
            </a:xfrm>
          </p:grpSpPr>
          <p:sp>
            <p:nvSpPr>
              <p:cNvPr id="99" name="Line 19"/>
              <p:cNvSpPr/>
              <p:nvPr/>
            </p:nvSpPr>
            <p:spPr>
              <a:xfrm flipH="1">
                <a:off x="4758840" y="2971800"/>
                <a:ext cx="304920" cy="533520"/>
              </a:xfrm>
              <a:prstGeom prst="line">
                <a:avLst/>
              </a:prstGeom>
              <a:ln w="5724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33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 txBox="1"/>
              <p:nvPr/>
            </p:nvSpPr>
            <p:spPr>
              <a:xfrm>
                <a:off x="4759200" y="2971800"/>
                <a:ext cx="30492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3300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4911840" y="4419720"/>
              <a:ext cx="304560" cy="533160"/>
              <a:chOff x="4911840" y="4419720"/>
              <a:chExt cx="304560" cy="533160"/>
            </a:xfrm>
          </p:grpSpPr>
          <p:sp>
            <p:nvSpPr>
              <p:cNvPr id="102" name="Line 20"/>
              <p:cNvSpPr/>
              <p:nvPr/>
            </p:nvSpPr>
            <p:spPr>
              <a:xfrm flipH="1">
                <a:off x="4911840" y="4419720"/>
                <a:ext cx="304560" cy="533160"/>
              </a:xfrm>
              <a:prstGeom prst="line">
                <a:avLst/>
              </a:prstGeom>
              <a:ln w="5724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33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 txBox="1"/>
              <p:nvPr/>
            </p:nvSpPr>
            <p:spPr>
              <a:xfrm>
                <a:off x="4911840" y="4419720"/>
                <a:ext cx="30456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3300"/>
                  </a:solidFill>
                  <a:latin typeface="Arial"/>
                </a:endParaRPr>
              </a:p>
            </p:txBody>
          </p:sp>
        </p:grpSp>
      </p:grpSp>
      <p:pic>
        <p:nvPicPr>
          <p:cNvPr id="104" name="Picture 21" descr="dyd"/>
          <p:cNvPicPr/>
          <p:nvPr/>
        </p:nvPicPr>
        <p:blipFill>
          <a:blip r:embed="rId2"/>
          <a:stretch/>
        </p:blipFill>
        <p:spPr>
          <a:xfrm>
            <a:off x="1112760" y="990720"/>
            <a:ext cx="2011320" cy="617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02:41:56Z</dcterms:created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xinxing</cp:lastModifiedBy>
  <dcterms:modified xsi:type="dcterms:W3CDTF">2017-04-16T15:53:34Z</dcterms:modified>
  <cp:revision>83</cp:revision>
  <dc:subject>六十铺中小学教育网http://www.lspjy.com</dc:subject>
  <dc:title>六十铺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