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2459-9A57-4CF6-A874-1DD4CB9C5E36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1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BD3B-842E-41D5-8344-6C77BD48A2C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346040" y="871560"/>
            <a:ext cx="3643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运算定律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55640" y="206388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乘法交换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法结合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3"/>
          <a:stretch/>
        </p:blipFill>
        <p:spPr>
          <a:xfrm>
            <a:off x="900000" y="94788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277308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916080" y="6060960"/>
            <a:ext cx="45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71640" y="2565360"/>
            <a:ext cx="728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七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77308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EEFB-C3DF-41E7-91FC-8882562796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复习引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389240" y="1946160"/>
            <a:ext cx="65530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我们已经学过了哪些运算定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2187720" y="3141720"/>
            <a:ext cx="5840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我们是怎样研究加法运算定律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41520" y="2457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加法交换律和加法结合律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441520" y="378936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教师引领学生回忆学习加法运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定律的学习过程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初步发现规律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枚举中验证规律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比较中概括规律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277920" y="5872320"/>
            <a:ext cx="59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23"/>
          <p:cNvSpPr/>
          <p:nvPr/>
        </p:nvSpPr>
        <p:spPr>
          <a:xfrm>
            <a:off x="1930320" y="33019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8" name="Picture 40" descr=""/>
          <p:cNvPicPr/>
          <p:nvPr/>
        </p:nvPicPr>
        <p:blipFill>
          <a:blip r:embed="rId1"/>
          <a:stretch/>
        </p:blipFill>
        <p:spPr>
          <a:xfrm>
            <a:off x="982800" y="2130480"/>
            <a:ext cx="4381200" cy="3448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457200" y="426960"/>
            <a:ext cx="8607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乘法交换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12720" y="1584360"/>
            <a:ext cx="6105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一）收集信息，明确条件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551560" y="2219400"/>
            <a:ext cx="33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"/>
              </a:rPr>
              <a:t>问题：从图中你都知道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"/>
              </a:rPr>
              <a:t>哪些信息？你是怎样理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"/>
              </a:rPr>
              <a:t>这些信息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551560" y="3301920"/>
            <a:ext cx="348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预设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：每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人负责挖坑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种树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人负责抬水、浇树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（每组一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人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551560" y="4479840"/>
            <a:ext cx="33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预设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：每组要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棵树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每棵树要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桶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人对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棵树，每棵树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要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桶水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5551560" y="6021360"/>
            <a:ext cx="34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预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：一共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小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Oval 5"/>
          <p:cNvSpPr/>
          <p:nvPr/>
        </p:nvSpPr>
        <p:spPr>
          <a:xfrm>
            <a:off x="1587600" y="3003480"/>
            <a:ext cx="3544920" cy="2301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Oval 9"/>
          <p:cNvSpPr/>
          <p:nvPr/>
        </p:nvSpPr>
        <p:spPr>
          <a:xfrm>
            <a:off x="1682640" y="3141720"/>
            <a:ext cx="2043360" cy="2068560"/>
          </a:xfrm>
          <a:custGeom>
            <a:avLst/>
            <a:gdLst>
              <a:gd name="textAreaLeft" fmla="*/ 99720 w 2043360"/>
              <a:gd name="textAreaRight" fmla="*/ 1943640 w 2043360"/>
              <a:gd name="textAreaTop" fmla="*/ 99720 h 2068560"/>
              <a:gd name="textAreaBottom" fmla="*/ 1968840 h 2068560"/>
            </a:gdLst>
            <a:ahLst/>
            <a:rect l="textAreaLeft" t="textAreaTop" r="textAreaRight" b="textAreaBottom"/>
            <a:pathLst>
              <a:path w="21600" h="21866">
                <a:moveTo>
                  <a:pt x="3600" y="0"/>
                </a:moveTo>
                <a:arcTo wR="3600" hR="3600" stAng="16200000" swAng="-5400000"/>
                <a:lnTo>
                  <a:pt x="0" y="18266"/>
                </a:lnTo>
                <a:arcTo wR="3600" hR="3600" stAng="10800000" swAng="-5400000"/>
                <a:lnTo>
                  <a:pt x="18000" y="21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3852720" y="3111480"/>
            <a:ext cx="1087560" cy="145116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451160"/>
              <a:gd name="textAreaBottom" fmla="*/ 1398240 h 1451160"/>
            </a:gdLst>
            <a:ahLst/>
            <a:rect l="textAreaLeft" t="textAreaTop" r="textAreaRight" b="textAreaBottom"/>
            <a:pathLst>
              <a:path w="21600" h="28819">
                <a:moveTo>
                  <a:pt x="3600" y="0"/>
                </a:moveTo>
                <a:arcTo wR="3600" hR="3600" stAng="16200000" swAng="-5400000"/>
                <a:lnTo>
                  <a:pt x="0" y="25219"/>
                </a:lnTo>
                <a:arcTo wR="3600" hR="3600" stAng="10800000" swAng="-5400000"/>
                <a:lnTo>
                  <a:pt x="18000" y="28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1487520" y="5972040"/>
            <a:ext cx="898560" cy="498600"/>
            <a:chOff x="1487520" y="5972040"/>
            <a:chExt cx="898560" cy="498600"/>
          </a:xfrm>
        </p:grpSpPr>
        <p:pic>
          <p:nvPicPr>
            <p:cNvPr id="69" name="图片 2" descr=""/>
            <p:cNvPicPr/>
            <p:nvPr/>
          </p:nvPicPr>
          <p:blipFill>
            <a:blip r:embed="rId2"/>
            <a:stretch/>
          </p:blipFill>
          <p:spPr>
            <a:xfrm>
              <a:off x="1487520" y="5972040"/>
              <a:ext cx="39348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31" descr=""/>
            <p:cNvPicPr/>
            <p:nvPr/>
          </p:nvPicPr>
          <p:blipFill>
            <a:blip r:embed="rId3"/>
            <a:stretch/>
          </p:blipFill>
          <p:spPr>
            <a:xfrm>
              <a:off x="1992600" y="5972040"/>
              <a:ext cx="393480" cy="49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3"/>
          <p:cNvGrpSpPr/>
          <p:nvPr/>
        </p:nvGrpSpPr>
        <p:grpSpPr>
          <a:xfrm>
            <a:off x="2716200" y="5468040"/>
            <a:ext cx="2388960" cy="1341720"/>
            <a:chOff x="2716200" y="5468040"/>
            <a:chExt cx="2388960" cy="1341720"/>
          </a:xfrm>
        </p:grpSpPr>
        <p:pic>
          <p:nvPicPr>
            <p:cNvPr id="72" name="图片 1" descr=""/>
            <p:cNvPicPr/>
            <p:nvPr/>
          </p:nvPicPr>
          <p:blipFill>
            <a:blip r:embed="rId4"/>
            <a:stretch/>
          </p:blipFill>
          <p:spPr>
            <a:xfrm rot="1215000">
              <a:off x="2916000" y="5516280"/>
              <a:ext cx="50256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32" descr=""/>
            <p:cNvPicPr/>
            <p:nvPr/>
          </p:nvPicPr>
          <p:blipFill>
            <a:blip r:embed="rId5"/>
            <a:stretch/>
          </p:blipFill>
          <p:spPr>
            <a:xfrm rot="1215000">
              <a:off x="3287520" y="5516280"/>
              <a:ext cx="50256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33" descr=""/>
            <p:cNvPicPr/>
            <p:nvPr/>
          </p:nvPicPr>
          <p:blipFill>
            <a:blip r:embed="rId6"/>
            <a:stretch/>
          </p:blipFill>
          <p:spPr>
            <a:xfrm rot="1215000">
              <a:off x="3659040" y="5516280"/>
              <a:ext cx="50256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34" descr=""/>
            <p:cNvPicPr/>
            <p:nvPr/>
          </p:nvPicPr>
          <p:blipFill>
            <a:blip r:embed="rId7"/>
            <a:stretch/>
          </p:blipFill>
          <p:spPr>
            <a:xfrm rot="1215000">
              <a:off x="4030560" y="5516280"/>
              <a:ext cx="50256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图片 35" descr=""/>
            <p:cNvPicPr/>
            <p:nvPr/>
          </p:nvPicPr>
          <p:blipFill>
            <a:blip r:embed="rId8"/>
            <a:stretch/>
          </p:blipFill>
          <p:spPr>
            <a:xfrm rot="1215000">
              <a:off x="4402440" y="5516280"/>
              <a:ext cx="502560" cy="12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Rectangle 25"/>
          <p:cNvSpPr/>
          <p:nvPr/>
        </p:nvSpPr>
        <p:spPr>
          <a:xfrm>
            <a:off x="277308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427640" y="3706920"/>
            <a:ext cx="46083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负责挖坑、种树的一共有多少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12720" y="1584360"/>
            <a:ext cx="82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提出问题，独立尝试解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427640" y="4589640"/>
            <a:ext cx="43336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据题意，你能列式解答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学生独立思考，解答问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两种不同的列式均板书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726080" y="5965920"/>
            <a:ext cx="41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×2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×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426960"/>
            <a:ext cx="8607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乘法交换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3" name="Picture 40" descr=""/>
          <p:cNvPicPr/>
          <p:nvPr/>
        </p:nvPicPr>
        <p:blipFill>
          <a:blip r:embed="rId1"/>
          <a:stretch/>
        </p:blipFill>
        <p:spPr>
          <a:xfrm>
            <a:off x="344520" y="2419200"/>
            <a:ext cx="394164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12720" y="158436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枚举中验证规律，比较中概括规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042920" y="3511440"/>
            <a:ext cx="72723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还能举出像这样的等式吗？（展示学生的举例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组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042920" y="2460600"/>
            <a:ext cx="7489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我们已经学习过一些运算定律，借助以往的学习经验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继续研究吗？你有什么发现？（学生先独立思考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然后小组内交流自己的想法和发现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822320" y="568800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用自己喜欢的方式表示乘法交换律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展示大家的表示方法，让学生自己进行比较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822320" y="44211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观察这些算式，有什么特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两个数相乘，交换两个因数的位置，积不变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082960" y="5187960"/>
            <a:ext cx="38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乘法交换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426960"/>
            <a:ext cx="8607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乘法交换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277308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12720" y="1584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一）独立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572000" y="2143080"/>
            <a:ext cx="4968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共要浇多少桶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572000" y="4062240"/>
            <a:ext cx="31622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道题可以怎样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572000" y="2946240"/>
            <a:ext cx="4321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解决这个问题，需要哪些条件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一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小组，每组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棵树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每棵树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桶水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572000" y="5726160"/>
            <a:ext cx="46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算式，你又有什么发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试着说明你的发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809960" y="4541760"/>
            <a:ext cx="21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835680" y="4541760"/>
            <a:ext cx="21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57200" y="426960"/>
            <a:ext cx="8607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乘法结合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0" name="Picture 40" descr=""/>
          <p:cNvPicPr/>
          <p:nvPr/>
        </p:nvPicPr>
        <p:blipFill>
          <a:blip r:embed="rId1"/>
          <a:stretch/>
        </p:blipFill>
        <p:spPr>
          <a:xfrm>
            <a:off x="344520" y="2419200"/>
            <a:ext cx="394164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2720" y="1584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（二）迁移学习经验概括规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190520" y="2852640"/>
            <a:ext cx="737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还能举出像这样的等式吗？（展示学生的举例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组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90520" y="2276640"/>
            <a:ext cx="52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问题：谁能把你的发现和大家交流一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967040" y="5392800"/>
            <a:ext cx="65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用自己喜欢的方式表示乘法结合律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展示大家的表示方法，让学生自己进行比较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967040" y="3705120"/>
            <a:ext cx="67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观察这些算式，有什么特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三个数相乘，先乘前两个数，或者先乘后两个数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积不变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209680" y="48610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乘法结合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7200" y="426960"/>
            <a:ext cx="8607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乘法结合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77308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1"/>
          <p:cNvGrpSpPr/>
          <p:nvPr/>
        </p:nvGrpSpPr>
        <p:grpSpPr>
          <a:xfrm>
            <a:off x="1636560" y="2757600"/>
            <a:ext cx="7345440" cy="2936160"/>
            <a:chOff x="1636560" y="2757600"/>
            <a:chExt cx="7345440" cy="2936160"/>
          </a:xfrm>
        </p:grpSpPr>
        <p:sp>
          <p:nvSpPr>
            <p:cNvPr id="110" name="Text Box 10"/>
            <p:cNvSpPr/>
            <p:nvPr/>
          </p:nvSpPr>
          <p:spPr>
            <a:xfrm>
              <a:off x="1636560" y="3376440"/>
              <a:ext cx="60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×7×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          ×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1636560" y="2757600"/>
              <a:ext cx="437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×1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3414240" y="2806560"/>
              <a:ext cx="576000" cy="360000"/>
            </a:xfrm>
            <a:prstGeom prst="rect">
              <a:avLst/>
            </a:prstGeom>
            <a:noFill/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636560" y="399564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×2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（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3377880" y="4048920"/>
              <a:ext cx="576000" cy="360000"/>
            </a:xfrm>
            <a:prstGeom prst="rect">
              <a:avLst/>
            </a:prstGeom>
            <a:noFill/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5106960" y="4048920"/>
              <a:ext cx="576000" cy="360000"/>
            </a:xfrm>
            <a:prstGeom prst="rect">
              <a:avLst/>
            </a:prstGeom>
            <a:noFill/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1636560" y="4614840"/>
              <a:ext cx="73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×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×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1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3133440" y="4665960"/>
              <a:ext cx="576000" cy="360000"/>
            </a:xfrm>
            <a:prstGeom prst="rect">
              <a:avLst/>
            </a:prstGeom>
            <a:noFill/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65720" y="4665960"/>
              <a:ext cx="576000" cy="360000"/>
            </a:xfrm>
            <a:prstGeom prst="rect">
              <a:avLst/>
            </a:prstGeom>
            <a:noFill/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1636560" y="523404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×4×8×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×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（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5000400" y="5280120"/>
              <a:ext cx="576000" cy="360000"/>
            </a:xfrm>
            <a:prstGeom prst="rect">
              <a:avLst/>
            </a:prstGeom>
            <a:noFill/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5967360" y="5280120"/>
              <a:ext cx="576000" cy="360000"/>
            </a:xfrm>
            <a:prstGeom prst="rect">
              <a:avLst/>
            </a:prstGeom>
            <a:noFill/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151800" y="3425040"/>
              <a:ext cx="576000" cy="360000"/>
            </a:xfrm>
            <a:prstGeom prst="rect">
              <a:avLst/>
            </a:prstGeom>
            <a:noFill/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74120" y="3425040"/>
              <a:ext cx="576000" cy="360000"/>
            </a:xfrm>
            <a:prstGeom prst="rect">
              <a:avLst/>
            </a:prstGeom>
            <a:noFill/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4" name="Rectangle 2"/>
          <p:cNvSpPr/>
          <p:nvPr/>
        </p:nvSpPr>
        <p:spPr>
          <a:xfrm>
            <a:off x="457200" y="403200"/>
            <a:ext cx="663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936720" y="1584360"/>
            <a:ext cx="7488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根据乘法运算定律，在          里填上适当的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81360" y="1855800"/>
            <a:ext cx="576360" cy="289080"/>
          </a:xfrm>
          <a:prstGeom prst="rect">
            <a:avLst/>
          </a:prstGeom>
          <a:noFill/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3284640" y="27496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3036960" y="335772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3952800" y="3367080"/>
            <a:ext cx="8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3271680" y="3989520"/>
            <a:ext cx="8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4979880" y="3989520"/>
            <a:ext cx="8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2994120" y="460692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4890960" y="5213520"/>
            <a:ext cx="8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5862600" y="5213520"/>
            <a:ext cx="8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5146560" y="4606920"/>
            <a:ext cx="8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30"/>
          <p:cNvSpPr/>
          <p:nvPr/>
        </p:nvSpPr>
        <p:spPr>
          <a:xfrm>
            <a:off x="277308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C:\Users\ViVi\AppData\Local\Temp\SNAGHTML17be2e6.PNG"/>
          <p:cNvPicPr/>
          <p:nvPr/>
        </p:nvPicPr>
        <p:blipFill>
          <a:blip r:embed="rId1"/>
          <a:stretch/>
        </p:blipFill>
        <p:spPr>
          <a:xfrm>
            <a:off x="1409760" y="1690560"/>
            <a:ext cx="6492960" cy="1657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1258920" y="3797280"/>
            <a:ext cx="788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根据题意，请你列式解答，并思考怎样计算比较简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689200" y="4800600"/>
            <a:ext cx="227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预设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350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043000" y="4290840"/>
            <a:ext cx="738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还可以怎样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013360" y="480060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预设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258920" y="33004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游泳池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他每次游多少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936720" y="1584360"/>
            <a:ext cx="934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57200" y="403200"/>
            <a:ext cx="663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277308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5:44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8:19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