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2C95-29E8-4C51-BED1-291B248F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B79-CF4A-4F63-8676-20F5B6CE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512-0A3D-43C9-A39A-A65BC254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AD7-AB35-4129-A3DD-C5F19E25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EA6-E778-458D-BDF4-3B9EDAD4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A84-4DE5-4EEC-AA60-C0EC30E2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3373-2C45-476C-B9C3-F5C17A22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1E7-8655-4489-9419-BEB8A09C8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2A3E-2F22-4411-926B-B1F4C8416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87B4-F66B-478C-8DDF-F038BFEC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9A2-EBCF-4F37-B442-7141D35A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04B-8F94-40F9-A1F8-9564F879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E1D4-961A-4F97-81AB-B2B4DE46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908-803E-477B-9B74-6336459F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1E4-0098-4328-B2CA-8E0115D5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33D4-E88A-4C56-8CD8-3630E35E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4716-3358-4BA2-859A-028EC69F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F03-6737-4EBA-8728-C83772E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6E5-896C-4EBD-A2E3-D39AA544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E48-59FB-487F-97A2-6972EB5C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F7-68D5-4F42-854B-571B349D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88C-CABD-4C81-87AF-0AB9758E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C2B-BEEB-471C-846F-77410D5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F9F-3765-4D79-BD54-A29AAA0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144-F0AA-4C8A-8139-468027D3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B8E-8BD1-45A7-8157-76CB6C0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3B6-1438-46FC-B63F-3C13A4E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A8E-8FBB-48CE-9C64-562396E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039-7E85-452B-BF34-614F5FD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862-9E6B-4112-B2CA-577C4906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5076720" y="44280"/>
            <a:ext cx="1366200" cy="1412640"/>
            <a:chOff x="5076720" y="44280"/>
            <a:chExt cx="1366200" cy="1412640"/>
          </a:xfrm>
        </p:grpSpPr>
        <p:sp>
          <p:nvSpPr>
            <p:cNvPr id="49" name="Rectangle 4"/>
            <p:cNvSpPr/>
            <p:nvPr/>
          </p:nvSpPr>
          <p:spPr>
            <a:xfrm>
              <a:off x="5076720" y="390960"/>
              <a:ext cx="1056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5175360" y="44280"/>
              <a:ext cx="1267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17_150829_(1)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13000" cy="513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387360" y="6576840"/>
            <a:ext cx="45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225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0" y="0"/>
            <a:ext cx="4140360" cy="2205000"/>
          </a:xfrm>
          <a:prstGeom prst="wedgeEllipseCallout">
            <a:avLst>
              <a:gd name="adj1" fmla="val 43481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飞到菜园里，看看冬瓜和茄子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076720" y="0"/>
            <a:ext cx="3888000" cy="2016000"/>
          </a:xfrm>
          <a:prstGeom prst="wedgeEllipseCallout">
            <a:avLst>
              <a:gd name="adj1" fmla="val -33666"/>
              <a:gd name="adj2" fmla="val 68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大的，茄子是小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0" y="189000"/>
            <a:ext cx="4572000" cy="2205000"/>
          </a:xfrm>
          <a:prstGeom prst="wedgeEllipseCallout">
            <a:avLst>
              <a:gd name="adj1" fmla="val 34652"/>
              <a:gd name="adj2" fmla="val 5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错。可是，你能不能再去看看，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5003640" y="260280"/>
            <a:ext cx="3888000" cy="1916280"/>
          </a:xfrm>
          <a:prstGeom prst="wedgeEllipseCallout">
            <a:avLst>
              <a:gd name="adj1" fmla="val -33666"/>
              <a:gd name="adj2" fmla="val 7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妈妈，妈妈，冬瓜是青的，茄子是紫的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0" y="0"/>
            <a:ext cx="4427640" cy="2205000"/>
          </a:xfrm>
          <a:prstGeom prst="wedgeEllipseCallout">
            <a:avLst>
              <a:gd name="adj1" fmla="val 37416"/>
              <a:gd name="adj2" fmla="val 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很好。可是，你能不能再去认真地看看，它们还有什么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643280" y="0"/>
            <a:ext cx="4500720" cy="2376360"/>
          </a:xfrm>
          <a:prstGeom prst="wedgeEllipseCallout">
            <a:avLst>
              <a:gd name="adj1" fmla="val -27884"/>
              <a:gd name="adj2" fmla="val 61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妈妈，妈妈，我发现冬瓜的皮上有细毛，茄子的柄上有小刺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07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7640" y="40464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5"/>
          <p:cNvGrpSpPr/>
          <p:nvPr/>
        </p:nvGrpSpPr>
        <p:grpSpPr>
          <a:xfrm>
            <a:off x="179280" y="1484280"/>
            <a:ext cx="8748720" cy="3975840"/>
            <a:chOff x="179280" y="1484280"/>
            <a:chExt cx="8748720" cy="3975840"/>
          </a:xfrm>
        </p:grpSpPr>
        <p:grpSp>
          <p:nvGrpSpPr>
            <p:cNvPr id="110" name="Group 6"/>
            <p:cNvGrpSpPr/>
            <p:nvPr/>
          </p:nvGrpSpPr>
          <p:grpSpPr>
            <a:xfrm>
              <a:off x="179280" y="1484280"/>
              <a:ext cx="8748720" cy="1091520"/>
              <a:chOff x="179280" y="1484280"/>
              <a:chExt cx="8748720" cy="1091520"/>
            </a:xfrm>
          </p:grpSpPr>
          <p:sp>
            <p:nvSpPr>
              <p:cNvPr id="111" name="Text Box 7"/>
              <p:cNvSpPr/>
              <p:nvPr/>
            </p:nvSpPr>
            <p:spPr>
              <a:xfrm>
                <a:off x="179280" y="148428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5076720" y="162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179280" y="2997360"/>
              <a:ext cx="8748720" cy="1091520"/>
              <a:chOff x="179280" y="2997360"/>
              <a:chExt cx="8748720" cy="1091520"/>
            </a:xfrm>
          </p:grpSpPr>
          <p:sp>
            <p:nvSpPr>
              <p:cNvPr id="114" name="Text Box 10"/>
              <p:cNvSpPr/>
              <p:nvPr/>
            </p:nvSpPr>
            <p:spPr>
              <a:xfrm>
                <a:off x="179280" y="299736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5076720" y="314172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179280" y="4508640"/>
              <a:ext cx="8748720" cy="951480"/>
              <a:chOff x="179280" y="4508640"/>
              <a:chExt cx="8748720" cy="951480"/>
            </a:xfrm>
          </p:grpSpPr>
          <p:sp>
            <p:nvSpPr>
              <p:cNvPr id="117" name="Text Box 13"/>
              <p:cNvSpPr/>
              <p:nvPr/>
            </p:nvSpPr>
            <p:spPr>
              <a:xfrm>
                <a:off x="179280" y="4512960"/>
                <a:ext cx="3888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5076720" y="450864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4000" y="12034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皮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是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，柄上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98764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940360" y="1125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987640" y="18129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细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987640" y="3141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869080" y="31100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987640" y="38606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小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77840" y="621648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611280" y="260280"/>
            <a:ext cx="7489800" cy="1378080"/>
            <a:chOff x="611280" y="260280"/>
            <a:chExt cx="7489800" cy="1378080"/>
          </a:xfrm>
        </p:grpSpPr>
        <p:pic>
          <p:nvPicPr>
            <p:cNvPr id="128" name="Picture 3" descr="donng"/>
            <p:cNvPicPr/>
            <p:nvPr/>
          </p:nvPicPr>
          <p:blipFill>
            <a:blip r:embed="rId1"/>
            <a:stretch/>
          </p:blipFill>
          <p:spPr>
            <a:xfrm>
              <a:off x="611280" y="260280"/>
              <a:ext cx="241128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" descr="donng"/>
            <p:cNvPicPr/>
            <p:nvPr/>
          </p:nvPicPr>
          <p:blipFill>
            <a:blip r:embed="rId2"/>
            <a:stretch/>
          </p:blipFill>
          <p:spPr>
            <a:xfrm>
              <a:off x="6227640" y="40464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5"/>
          <p:cNvGrpSpPr/>
          <p:nvPr/>
        </p:nvGrpSpPr>
        <p:grpSpPr>
          <a:xfrm>
            <a:off x="216000" y="1768320"/>
            <a:ext cx="8748720" cy="3975840"/>
            <a:chOff x="216000" y="1768320"/>
            <a:chExt cx="8748720" cy="3975840"/>
          </a:xfrm>
        </p:grpSpPr>
        <p:grpSp>
          <p:nvGrpSpPr>
            <p:cNvPr id="131" name="Group 6"/>
            <p:cNvGrpSpPr/>
            <p:nvPr/>
          </p:nvGrpSpPr>
          <p:grpSpPr>
            <a:xfrm>
              <a:off x="216000" y="1768320"/>
              <a:ext cx="8748720" cy="1091520"/>
              <a:chOff x="216000" y="1768320"/>
              <a:chExt cx="8748720" cy="1091520"/>
            </a:xfrm>
          </p:grpSpPr>
          <p:sp>
            <p:nvSpPr>
              <p:cNvPr id="132" name="Text Box 7"/>
              <p:cNvSpPr/>
              <p:nvPr/>
            </p:nvSpPr>
            <p:spPr>
              <a:xfrm>
                <a:off x="216000" y="176832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你能不能飞到菜园里，看看冬瓜和茄子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8"/>
              <p:cNvSpPr/>
              <p:nvPr/>
            </p:nvSpPr>
            <p:spPr>
              <a:xfrm>
                <a:off x="5113440" y="191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妈妈，妈妈，冬瓜是大的，茄子是小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9"/>
            <p:cNvGrpSpPr/>
            <p:nvPr/>
          </p:nvGrpSpPr>
          <p:grpSpPr>
            <a:xfrm>
              <a:off x="216000" y="3281400"/>
              <a:ext cx="8748720" cy="1091520"/>
              <a:chOff x="216000" y="3281400"/>
              <a:chExt cx="8748720" cy="1091520"/>
            </a:xfrm>
          </p:grpSpPr>
          <p:sp>
            <p:nvSpPr>
              <p:cNvPr id="135" name="Text Box 10"/>
              <p:cNvSpPr/>
              <p:nvPr/>
            </p:nvSpPr>
            <p:spPr>
              <a:xfrm>
                <a:off x="216000" y="3281400"/>
                <a:ext cx="388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错。可是，你能不能再去看看，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1"/>
              <p:cNvSpPr/>
              <p:nvPr/>
            </p:nvSpPr>
            <p:spPr>
              <a:xfrm>
                <a:off x="5113440" y="342576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冬瓜是青的，茄子是紫的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2"/>
            <p:cNvGrpSpPr/>
            <p:nvPr/>
          </p:nvGrpSpPr>
          <p:grpSpPr>
            <a:xfrm>
              <a:off x="216000" y="4792680"/>
              <a:ext cx="8748720" cy="951480"/>
              <a:chOff x="216000" y="4792680"/>
              <a:chExt cx="8748720" cy="951480"/>
            </a:xfrm>
          </p:grpSpPr>
          <p:sp>
            <p:nvSpPr>
              <p:cNvPr id="138" name="Text Box 13"/>
              <p:cNvSpPr/>
              <p:nvPr/>
            </p:nvSpPr>
            <p:spPr>
              <a:xfrm>
                <a:off x="216000" y="4797000"/>
                <a:ext cx="3888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很好。可是，你能不能再去认真地看看，它们还有什么不一样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4"/>
              <p:cNvSpPr/>
              <p:nvPr/>
            </p:nvSpPr>
            <p:spPr>
              <a:xfrm>
                <a:off x="5113440" y="4792680"/>
                <a:ext cx="385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       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妈妈，妈妈，我发现冬瓜的皮上有细毛，茄子的柄上有小刺呢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2411280" y="620640"/>
            <a:ext cx="4753080" cy="4176360"/>
            <a:chOff x="2411280" y="620640"/>
            <a:chExt cx="4753080" cy="4176360"/>
          </a:xfrm>
        </p:grpSpPr>
        <p:sp>
          <p:nvSpPr>
            <p:cNvPr id="141" name="Text Box 3"/>
            <p:cNvSpPr/>
            <p:nvPr/>
          </p:nvSpPr>
          <p:spPr>
            <a:xfrm>
              <a:off x="2914560" y="620640"/>
              <a:ext cx="42498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笑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"/>
            <p:cNvGrpSpPr/>
            <p:nvPr/>
          </p:nvGrpSpPr>
          <p:grpSpPr>
            <a:xfrm>
              <a:off x="2411280" y="765000"/>
              <a:ext cx="4032000" cy="4032000"/>
              <a:chOff x="2411280" y="765000"/>
              <a:chExt cx="4032000" cy="4032000"/>
            </a:xfrm>
          </p:grpSpPr>
          <p:sp>
            <p:nvSpPr>
              <p:cNvPr id="143" name="Line 5"/>
              <p:cNvSpPr/>
              <p:nvPr/>
            </p:nvSpPr>
            <p:spPr>
              <a:xfrm>
                <a:off x="2411280" y="2779920"/>
                <a:ext cx="40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"/>
              <p:cNvSpPr/>
              <p:nvPr/>
            </p:nvSpPr>
            <p:spPr>
              <a:xfrm flipV="1">
                <a:off x="4425840" y="765000"/>
                <a:ext cx="0" cy="40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"/>
              <p:cNvSpPr/>
              <p:nvPr/>
            </p:nvSpPr>
            <p:spPr>
              <a:xfrm>
                <a:off x="2411280" y="765000"/>
                <a:ext cx="4032000" cy="4032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8" descr="1"/>
          <p:cNvPicPr/>
          <p:nvPr/>
        </p:nvPicPr>
        <p:blipFill>
          <a:blip r:embed="rId1"/>
          <a:stretch/>
        </p:blipFill>
        <p:spPr>
          <a:xfrm>
            <a:off x="2987640" y="1916280"/>
            <a:ext cx="3097080" cy="2916000"/>
          </a:xfrm>
          <a:prstGeom prst="rect">
            <a:avLst/>
          </a:prstGeom>
          <a:ln w="0">
            <a:noFill/>
          </a:ln>
        </p:spPr>
      </p:pic>
      <p:sp>
        <p:nvSpPr>
          <p:cNvPr id="147" name="Line 9"/>
          <p:cNvSpPr/>
          <p:nvPr/>
        </p:nvSpPr>
        <p:spPr>
          <a:xfrm>
            <a:off x="2916360" y="4149720"/>
            <a:ext cx="324000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900000" y="5154480"/>
            <a:ext cx="7704360" cy="1228320"/>
            <a:chOff x="900000" y="5154480"/>
            <a:chExt cx="7704360" cy="1228320"/>
          </a:xfrm>
        </p:grpSpPr>
        <p:sp>
          <p:nvSpPr>
            <p:cNvPr id="149" name="Text Box 11"/>
            <p:cNvSpPr/>
            <p:nvPr/>
          </p:nvSpPr>
          <p:spPr>
            <a:xfrm>
              <a:off x="900000" y="5557680"/>
              <a:ext cx="770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撇捺在字底，撇高捺稍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1116000" y="51577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6445080" y="5226120"/>
              <a:ext cx="18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 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3564000" y="5154480"/>
              <a:ext cx="9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880-926F-4E8F-B4C1-894510A0F4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2"/>
          <p:cNvSpPr/>
          <p:nvPr/>
        </p:nvSpPr>
        <p:spPr>
          <a:xfrm>
            <a:off x="2556000" y="5332320"/>
            <a:ext cx="158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004_5_22_16_40_293"/>
          <p:cNvPicPr/>
          <p:nvPr/>
        </p:nvPicPr>
        <p:blipFill>
          <a:blip r:embed="rId15"/>
          <a:stretch/>
        </p:blipFill>
        <p:spPr>
          <a:xfrm>
            <a:off x="3564000" y="536400"/>
            <a:ext cx="3311640" cy="2892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142"/>
          <p:cNvPicPr/>
          <p:nvPr/>
        </p:nvPicPr>
        <p:blipFill>
          <a:blip r:embed="rId16"/>
          <a:stretch/>
        </p:blipFill>
        <p:spPr>
          <a:xfrm>
            <a:off x="5219640" y="4221000"/>
            <a:ext cx="37432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0"/>
          <p:cNvGrpSpPr/>
          <p:nvPr/>
        </p:nvGrpSpPr>
        <p:grpSpPr>
          <a:xfrm>
            <a:off x="688680" y="1052640"/>
            <a:ext cx="1122120" cy="1225080"/>
            <a:chOff x="688680" y="1052640"/>
            <a:chExt cx="1122120" cy="1225080"/>
          </a:xfrm>
        </p:grpSpPr>
        <p:sp>
          <p:nvSpPr>
            <p:cNvPr id="57" name="Text Box 2"/>
            <p:cNvSpPr/>
            <p:nvPr/>
          </p:nvSpPr>
          <p:spPr>
            <a:xfrm>
              <a:off x="688680" y="1452600"/>
              <a:ext cx="97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冬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1035720" y="10526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252360" y="4581360"/>
            <a:ext cx="1655640" cy="1257120"/>
            <a:chOff x="252360" y="4581360"/>
            <a:chExt cx="1655640" cy="1257120"/>
          </a:xfrm>
        </p:grpSpPr>
        <p:sp>
          <p:nvSpPr>
            <p:cNvPr id="60" name="Text Box 3"/>
            <p:cNvSpPr/>
            <p:nvPr/>
          </p:nvSpPr>
          <p:spPr>
            <a:xfrm>
              <a:off x="252360" y="5013360"/>
              <a:ext cx="165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茄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457560" y="458136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i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9" descr="1152525130_large"/>
          <p:cNvPicPr/>
          <p:nvPr/>
        </p:nvPicPr>
        <p:blipFill>
          <a:blip r:embed="rId17"/>
          <a:stretch/>
        </p:blipFill>
        <p:spPr>
          <a:xfrm>
            <a:off x="2268360" y="4221000"/>
            <a:ext cx="2737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长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长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526480" y="407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984760" y="36306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269760" y="3575160"/>
            <a:ext cx="8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1622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64310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6"/>
          <p:cNvGrpSpPr/>
          <p:nvPr/>
        </p:nvGrpSpPr>
        <p:grpSpPr>
          <a:xfrm>
            <a:off x="611280" y="2492280"/>
            <a:ext cx="8221680" cy="3140280"/>
            <a:chOff x="611280" y="2492280"/>
            <a:chExt cx="8221680" cy="3140280"/>
          </a:xfrm>
        </p:grpSpPr>
        <p:pic>
          <p:nvPicPr>
            <p:cNvPr id="70" name="Picture 3" descr="2004_5_22_16_40_293"/>
            <p:cNvPicPr/>
            <p:nvPr/>
          </p:nvPicPr>
          <p:blipFill>
            <a:blip r:embed="rId1"/>
            <a:stretch/>
          </p:blipFill>
          <p:spPr>
            <a:xfrm>
              <a:off x="611280" y="2492280"/>
              <a:ext cx="2933640" cy="31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" descr="1142"/>
            <p:cNvPicPr/>
            <p:nvPr/>
          </p:nvPicPr>
          <p:blipFill>
            <a:blip r:embed="rId2"/>
            <a:stretch/>
          </p:blipFill>
          <p:spPr>
            <a:xfrm>
              <a:off x="4813200" y="2637000"/>
              <a:ext cx="4019760" cy="282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Rectangle 15"/>
          <p:cNvSpPr/>
          <p:nvPr/>
        </p:nvSpPr>
        <p:spPr>
          <a:xfrm>
            <a:off x="2564640" y="83664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园里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瓜躺在地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挂在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932360" y="285264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814040" y="274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693800" y="2349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317920" y="233352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èn z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68360" y="3213000"/>
            <a:ext cx="82072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能不能　去　　地看看，它们还有什么不一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4386960" y="3321000"/>
            <a:ext cx="662760" cy="1160280"/>
            <a:chOff x="4386960" y="3321000"/>
            <a:chExt cx="662760" cy="1160280"/>
          </a:xfrm>
        </p:grpSpPr>
        <p:sp>
          <p:nvSpPr>
            <p:cNvPr id="79" name="Text Box 4"/>
            <p:cNvSpPr/>
            <p:nvPr/>
          </p:nvSpPr>
          <p:spPr>
            <a:xfrm>
              <a:off x="4425480" y="36561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386960" y="3321000"/>
              <a:ext cx="6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"/>
          <p:cNvGrpSpPr/>
          <p:nvPr/>
        </p:nvGrpSpPr>
        <p:grpSpPr>
          <a:xfrm>
            <a:off x="5508720" y="3321000"/>
            <a:ext cx="1800000" cy="1134360"/>
            <a:chOff x="5508720" y="3321000"/>
            <a:chExt cx="1800000" cy="1134360"/>
          </a:xfrm>
        </p:grpSpPr>
        <p:sp>
          <p:nvSpPr>
            <p:cNvPr id="82" name="Text Box 7"/>
            <p:cNvSpPr/>
            <p:nvPr/>
          </p:nvSpPr>
          <p:spPr>
            <a:xfrm>
              <a:off x="5508720" y="3630240"/>
              <a:ext cx="180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认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5520960" y="3321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0"/>
          <p:cNvSpPr/>
          <p:nvPr/>
        </p:nvSpPr>
        <p:spPr>
          <a:xfrm>
            <a:off x="2679840" y="100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74932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705280" y="1452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9640" y="549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ū   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573800" y="5493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567480" y="533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167480" y="2189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78908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633720" y="218916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9640" y="10936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屋 檐       不 错       紫 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900000" y="4146480"/>
            <a:ext cx="76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冬 瓜       茄 子        认 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-258120" y="263700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柄            小 刺       细 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9040" y="55166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再            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3"/>
          <p:cNvSpPr/>
          <p:nvPr/>
        </p:nvSpPr>
        <p:spPr>
          <a:xfrm>
            <a:off x="-1044720" y="1357200"/>
            <a:ext cx="954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发现冬瓜的皮上有细毛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的柄上有小刺呢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0:20:43Z</dcterms:created>
  <dc:creator>六十铺中小学教育网http://www.lspjy.com</dc:creator>
  <dc:description/>
  <cp:keywords/>
  <dc:language>en-US</dc:language>
  <cp:lastModifiedBy>xinxing</cp:lastModifiedBy>
  <dcterms:modified xsi:type="dcterms:W3CDTF">2017-04-16T15:33:33Z</dcterms:modified>
  <cp:revision>64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