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AFD-73CA-432F-909E-C51CEC45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5506-3C43-4315-A89F-10EA8174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4BE-A1F2-4DC8-822D-BBFB233E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047-E796-4335-8521-AC8CD5F3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7E6-8809-479E-9A69-4A3CB79C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268-678F-4245-9EDC-1FDA660B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086-0450-49FA-9E96-4E6ADE92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AE8-1CDC-49CB-8D5B-C83FCCDD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34E-131F-47BA-9B24-9BEB4922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A3C9-89BC-45A9-B069-AFD694F0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886-3D0D-4B38-97BD-F3FB96E4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D4C-68DE-4296-9B74-1A03C268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3CA8-6B45-4F0D-9E10-461AE86FE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0563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楷体_GB2312"/>
              </a:rPr>
              <a:t>多边形的面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1412640"/>
            <a:ext cx="12589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212400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3492360" y="1557360"/>
            <a:ext cx="1295640" cy="24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2700360" y="2060640"/>
            <a:ext cx="10080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2700360" y="2060640"/>
            <a:ext cx="0" cy="115236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2700360" y="3213000"/>
            <a:ext cx="1655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643280" y="184464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篱笆总长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。求梯形的面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1979640" y="2492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1908000" y="3765600"/>
            <a:ext cx="5688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3-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20÷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43×20÷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43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4"/>
          <p:cNvSpPr/>
          <p:nvPr/>
        </p:nvSpPr>
        <p:spPr>
          <a:xfrm>
            <a:off x="2572560" y="63118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7C4A-A987-4CA0-832D-3C53E8CC5C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1"/>
          <p:cNvSpPr/>
          <p:nvPr/>
        </p:nvSpPr>
        <p:spPr>
          <a:xfrm>
            <a:off x="2411280" y="4334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68360" y="549360"/>
            <a:ext cx="86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411280" y="333360"/>
            <a:ext cx="3961080" cy="1800360"/>
          </a:xfrm>
          <a:prstGeom prst="rect">
            <a:avLst/>
          </a:prstGeom>
          <a:solidFill>
            <a:srgbClr val="3333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 rot="16200000">
            <a:off x="3456000" y="-782640"/>
            <a:ext cx="1800360" cy="403236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635280" y="220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140360" y="981000"/>
            <a:ext cx="194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0m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755640" y="27813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求长方形的宽是多少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340000" y="3716280"/>
            <a:ext cx="5473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0×2÷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120÷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68360" y="476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2627280" y="333360"/>
            <a:ext cx="4824360" cy="2232000"/>
          </a:xfrm>
          <a:prstGeom prst="rtTriangle">
            <a:avLst/>
          </a:prstGeom>
          <a:solidFill>
            <a:srgbClr val="99cc00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042920" y="11970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708360" y="256536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V="1">
            <a:off x="2627280" y="620640"/>
            <a:ext cx="649440" cy="194472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3203640" y="765000"/>
            <a:ext cx="14436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V="1">
            <a:off x="3348000" y="691920"/>
            <a:ext cx="7164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924360" y="549360"/>
            <a:ext cx="194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 rot="1133400">
            <a:off x="3707640" y="476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2916360" y="112536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2050920" y="3357720"/>
            <a:ext cx="6337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×8÷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48÷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468360" y="549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763640" y="404640"/>
            <a:ext cx="4608720" cy="1656000"/>
          </a:xfrm>
          <a:prstGeom prst="parallelogram">
            <a:avLst>
              <a:gd name="adj" fmla="val 69576"/>
            </a:avLst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2916360" y="404640"/>
            <a:ext cx="2232000" cy="16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2916360" y="404640"/>
            <a:ext cx="431640" cy="16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916360" y="198900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中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1908000" y="1413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826920" y="2708280"/>
            <a:ext cx="83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求大平行四边形的面积是多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1835280" y="4149720"/>
            <a:ext cx="62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×2×2=4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 flipH="1">
            <a:off x="2555640" y="620640"/>
            <a:ext cx="431640" cy="2872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6"/>
          <p:cNvSpPr/>
          <p:nvPr/>
        </p:nvSpPr>
        <p:spPr>
          <a:xfrm flipH="1">
            <a:off x="2268360" y="907920"/>
            <a:ext cx="719280" cy="4334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7"/>
          <p:cNvSpPr/>
          <p:nvPr/>
        </p:nvSpPr>
        <p:spPr>
          <a:xfrm flipH="1">
            <a:off x="1979280" y="1197000"/>
            <a:ext cx="1079640" cy="576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8"/>
          <p:cNvSpPr/>
          <p:nvPr/>
        </p:nvSpPr>
        <p:spPr>
          <a:xfrm flipH="1">
            <a:off x="2124000" y="1484280"/>
            <a:ext cx="1008000" cy="576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9"/>
          <p:cNvSpPr/>
          <p:nvPr/>
        </p:nvSpPr>
        <p:spPr>
          <a:xfrm flipH="1">
            <a:off x="2842920" y="1700280"/>
            <a:ext cx="360360" cy="360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755640" y="62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987640" y="260280"/>
            <a:ext cx="2448000" cy="26654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 rot="16200000">
            <a:off x="3995640" y="1484280"/>
            <a:ext cx="1511280" cy="1368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708360" y="278136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95280" y="321300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张边长</a:t>
            </a:r>
            <a:r>
              <a:rPr b="1" lang="en-US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米的正方形，从相邻两边的中点连一条线段，沿着这条线剪去一个角，剩下的面积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116000" y="5300640"/>
            <a:ext cx="75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×4-2×2÷2=1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539640" y="549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132000" y="260280"/>
            <a:ext cx="3961080" cy="223200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132000" y="260280"/>
            <a:ext cx="3961080" cy="22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3131640" y="260280"/>
            <a:ext cx="1871640" cy="223200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5003640" y="260280"/>
            <a:ext cx="2089440" cy="223200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0"/>
          <p:cNvSpPr/>
          <p:nvPr/>
        </p:nvSpPr>
        <p:spPr>
          <a:xfrm flipH="1">
            <a:off x="3132000" y="404640"/>
            <a:ext cx="21600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2"/>
          <p:cNvSpPr/>
          <p:nvPr/>
        </p:nvSpPr>
        <p:spPr>
          <a:xfrm flipH="1">
            <a:off x="3131640" y="476280"/>
            <a:ext cx="36036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4"/>
          <p:cNvSpPr/>
          <p:nvPr/>
        </p:nvSpPr>
        <p:spPr>
          <a:xfrm flipH="1">
            <a:off x="3132000" y="476280"/>
            <a:ext cx="43200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6"/>
          <p:cNvSpPr/>
          <p:nvPr/>
        </p:nvSpPr>
        <p:spPr>
          <a:xfrm flipH="1">
            <a:off x="3131640" y="549360"/>
            <a:ext cx="576360" cy="71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8"/>
          <p:cNvSpPr/>
          <p:nvPr/>
        </p:nvSpPr>
        <p:spPr>
          <a:xfrm flipH="1">
            <a:off x="3203280" y="620640"/>
            <a:ext cx="71892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9"/>
          <p:cNvSpPr/>
          <p:nvPr/>
        </p:nvSpPr>
        <p:spPr>
          <a:xfrm flipH="1">
            <a:off x="3131640" y="836640"/>
            <a:ext cx="86364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0"/>
          <p:cNvSpPr/>
          <p:nvPr/>
        </p:nvSpPr>
        <p:spPr>
          <a:xfrm flipH="1">
            <a:off x="3131640" y="981000"/>
            <a:ext cx="100836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1"/>
          <p:cNvSpPr/>
          <p:nvPr/>
        </p:nvSpPr>
        <p:spPr>
          <a:xfrm flipH="1">
            <a:off x="4716360" y="404640"/>
            <a:ext cx="432000" cy="2160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2"/>
          <p:cNvSpPr/>
          <p:nvPr/>
        </p:nvSpPr>
        <p:spPr>
          <a:xfrm flipH="1">
            <a:off x="4571640" y="549360"/>
            <a:ext cx="647640" cy="2872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4"/>
          <p:cNvSpPr/>
          <p:nvPr/>
        </p:nvSpPr>
        <p:spPr>
          <a:xfrm flipH="1">
            <a:off x="4500720" y="692280"/>
            <a:ext cx="863280" cy="288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5"/>
          <p:cNvSpPr/>
          <p:nvPr/>
        </p:nvSpPr>
        <p:spPr>
          <a:xfrm flipH="1">
            <a:off x="4643280" y="836640"/>
            <a:ext cx="865440" cy="2887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6"/>
          <p:cNvSpPr/>
          <p:nvPr/>
        </p:nvSpPr>
        <p:spPr>
          <a:xfrm flipH="1">
            <a:off x="4787640" y="907920"/>
            <a:ext cx="863640" cy="2890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7"/>
          <p:cNvSpPr/>
          <p:nvPr/>
        </p:nvSpPr>
        <p:spPr>
          <a:xfrm flipH="1">
            <a:off x="5003280" y="1052640"/>
            <a:ext cx="792360" cy="2887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8"/>
          <p:cNvSpPr/>
          <p:nvPr/>
        </p:nvSpPr>
        <p:spPr>
          <a:xfrm flipH="1">
            <a:off x="5219280" y="1197000"/>
            <a:ext cx="647640" cy="2872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9"/>
          <p:cNvSpPr/>
          <p:nvPr/>
        </p:nvSpPr>
        <p:spPr>
          <a:xfrm flipH="1">
            <a:off x="5435280" y="1341360"/>
            <a:ext cx="576360" cy="2872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0"/>
          <p:cNvSpPr/>
          <p:nvPr/>
        </p:nvSpPr>
        <p:spPr>
          <a:xfrm flipH="1">
            <a:off x="5724360" y="1484280"/>
            <a:ext cx="432000" cy="2160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1"/>
          <p:cNvSpPr/>
          <p:nvPr/>
        </p:nvSpPr>
        <p:spPr>
          <a:xfrm flipH="1">
            <a:off x="5940360" y="1628640"/>
            <a:ext cx="287280" cy="2160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2"/>
          <p:cNvSpPr/>
          <p:nvPr/>
        </p:nvSpPr>
        <p:spPr>
          <a:xfrm flipH="1">
            <a:off x="6227640" y="1773360"/>
            <a:ext cx="216000" cy="2156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4"/>
          <p:cNvSpPr/>
          <p:nvPr/>
        </p:nvSpPr>
        <p:spPr>
          <a:xfrm flipH="1">
            <a:off x="6443280" y="1916280"/>
            <a:ext cx="144360" cy="144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3348000" y="1052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6"/>
          <p:cNvSpPr/>
          <p:nvPr/>
        </p:nvSpPr>
        <p:spPr>
          <a:xfrm>
            <a:off x="4932360" y="765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7"/>
          <p:cNvSpPr/>
          <p:nvPr/>
        </p:nvSpPr>
        <p:spPr>
          <a:xfrm>
            <a:off x="4643280" y="0"/>
            <a:ext cx="9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1692360" y="3141720"/>
            <a:ext cx="61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甲和乙谁的面积大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9"/>
          <p:cNvSpPr/>
          <p:nvPr/>
        </p:nvSpPr>
        <p:spPr>
          <a:xfrm>
            <a:off x="2556000" y="189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2771640" y="4437000"/>
            <a:ext cx="39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甲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=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-52560" y="6261120"/>
            <a:ext cx="649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468360" y="54936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195640" y="692280"/>
            <a:ext cx="4103640" cy="223200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2124000" y="692280"/>
            <a:ext cx="266400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V="1">
            <a:off x="4716360" y="691920"/>
            <a:ext cx="151308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 flipH="1">
            <a:off x="2195640" y="1773360"/>
            <a:ext cx="2520720" cy="1150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4788000" y="1773360"/>
            <a:ext cx="1512720" cy="107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419640" y="2924280"/>
            <a:ext cx="26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227640" y="148428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627280" y="692280"/>
            <a:ext cx="73080" cy="2156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2916360" y="692280"/>
            <a:ext cx="7128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3276720" y="692280"/>
            <a:ext cx="71280" cy="5047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3635280" y="765000"/>
            <a:ext cx="7308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8"/>
          <p:cNvSpPr/>
          <p:nvPr/>
        </p:nvSpPr>
        <p:spPr>
          <a:xfrm>
            <a:off x="3995640" y="692280"/>
            <a:ext cx="71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9"/>
          <p:cNvSpPr/>
          <p:nvPr/>
        </p:nvSpPr>
        <p:spPr>
          <a:xfrm>
            <a:off x="4356000" y="692280"/>
            <a:ext cx="7164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4788000" y="692280"/>
            <a:ext cx="7128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5076720" y="692280"/>
            <a:ext cx="7164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5508720" y="692280"/>
            <a:ext cx="71280" cy="43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2771640" y="263700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>
            <a:off x="3203640" y="242100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3635280" y="2276640"/>
            <a:ext cx="0" cy="6476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4067280" y="2060640"/>
            <a:ext cx="0" cy="863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4356000" y="1989000"/>
            <a:ext cx="71640" cy="9352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4788000" y="1844640"/>
            <a:ext cx="0" cy="1079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5219640" y="2060640"/>
            <a:ext cx="0" cy="863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5651640" y="2421000"/>
            <a:ext cx="0" cy="5032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1187280" y="371628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楷体_GB2312"/>
              </a:rPr>
              <a:t>求阴影部分的面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1403280" y="479736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×8÷2=4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79280" y="2602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268360" y="620640"/>
            <a:ext cx="3600720" cy="1944720"/>
          </a:xfrm>
          <a:prstGeom prst="parallelogram">
            <a:avLst>
              <a:gd name="adj" fmla="val 46288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 flipH="1" rot="21543600">
            <a:off x="2194920" y="620280"/>
            <a:ext cx="1006200" cy="1946520"/>
          </a:xfrm>
          <a:prstGeom prst="rtTriangl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3203640" y="2349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27672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050920" y="1700280"/>
            <a:ext cx="15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3995640" y="2421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3059280" y="1341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3564000" y="24922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468360" y="306864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平行四边形的面积是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160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平方厘米，求阴影部分的面积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908000" y="4568760"/>
            <a:ext cx="59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0÷8-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8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5×8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324000" y="333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987640" y="620640"/>
            <a:ext cx="1079640" cy="1152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067280" y="620640"/>
            <a:ext cx="2089080" cy="2376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987640" y="620640"/>
            <a:ext cx="3168720" cy="237672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 flipH="1">
            <a:off x="2987280" y="765000"/>
            <a:ext cx="14436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 flipH="1">
            <a:off x="3132000" y="981000"/>
            <a:ext cx="21600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 flipH="1">
            <a:off x="3564000" y="1197000"/>
            <a:ext cx="21600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H="1">
            <a:off x="4066920" y="1557360"/>
            <a:ext cx="144360" cy="719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 flipH="1">
            <a:off x="4211280" y="1844640"/>
            <a:ext cx="360360" cy="1079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"/>
          <p:cNvSpPr/>
          <p:nvPr/>
        </p:nvSpPr>
        <p:spPr>
          <a:xfrm flipH="1">
            <a:off x="4572000" y="2060640"/>
            <a:ext cx="28728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 flipH="1">
            <a:off x="5003640" y="2276640"/>
            <a:ext cx="21600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 flipH="1">
            <a:off x="5364000" y="2492280"/>
            <a:ext cx="144720" cy="5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7"/>
          <p:cNvSpPr/>
          <p:nvPr/>
        </p:nvSpPr>
        <p:spPr>
          <a:xfrm flipH="1">
            <a:off x="5651280" y="2708280"/>
            <a:ext cx="14436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4716360" y="299736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3059280" y="17002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1042920" y="3429000"/>
            <a:ext cx="79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求阴影部分的面积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2268360" y="4437000"/>
            <a:ext cx="575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×2+4×4-4×6÷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8+16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00:03:4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7:03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