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9A7-AEFE-427F-A8E4-5281CDE9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B60-9001-488C-957F-50BCB04E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8F2-07D8-4C59-8972-68FC1A73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8A0-68D6-4F91-B2B3-C85FC772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E3C-6BE9-4126-B478-28B5DC99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9773-ECFB-40F4-A2C1-B6E3310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8232-A330-495E-B03A-AB3067B6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155-3773-4C4D-9305-626E65DF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AB5-33A7-48CD-8A7A-31352DA6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D65-055C-43B2-A991-26AC29B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C95-6A73-4EFA-B722-9ED4050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E10-6E25-4B91-A83C-6FF08478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113A-DD88-4E57-80BE-6A2B1EA200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jpe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.com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0024545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页脚占位符 4"/>
          <p:cNvSpPr/>
          <p:nvPr/>
        </p:nvSpPr>
        <p:spPr>
          <a:xfrm>
            <a:off x="942840" y="6248520"/>
            <a:ext cx="50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4360" y="549000"/>
            <a:ext cx="3887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800" spc="-1" strike="noStrike">
                <a:solidFill>
                  <a:srgbClr val="ff9900"/>
                </a:solidFill>
                <a:latin typeface="华文行楷"/>
                <a:ea typeface="华文行楷"/>
              </a:rPr>
              <a:t>春   望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651280" y="1412640"/>
            <a:ext cx="165708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华文新魏"/>
              </a:rPr>
              <a:t>杜  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201200" y="2492280"/>
            <a:ext cx="5158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国破山河在，城春草木深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感时花溅泪，恨别鸟惊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烽火连三月，家书抵万金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白头搔更短，浑欲不胜簪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18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0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85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6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掌握下列字的正确读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63640" y="1557360"/>
            <a:ext cx="302436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溅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搔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更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烽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新魏"/>
              </a:rPr>
              <a:t>不胜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148360" y="1773360"/>
            <a:ext cx="216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ià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148360" y="306864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ā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148360" y="44672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ē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148360" y="57625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Zā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318456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8600" y="714240"/>
            <a:ext cx="552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华文行楷"/>
              </a:rPr>
              <a:t>掌握下列词语的词类活用现象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543480" y="2859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403280" y="21924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恨别鸟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方正舒体"/>
              </a:rPr>
              <a:t>惊</a:t>
            </a:r>
            <a:r>
              <a:rPr b="1" lang="zh-CN" sz="9600" spc="-1" strike="noStrike">
                <a:solidFill>
                  <a:srgbClr val="0000ff"/>
                </a:solidFill>
                <a:latin typeface="Arial"/>
                <a:ea typeface="方正舒体"/>
              </a:rPr>
              <a:t>心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77800" y="4508640"/>
            <a:ext cx="831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使动用法，使</a:t>
            </a:r>
            <a:r>
              <a:rPr b="1" lang="en-US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......</a:t>
            </a:r>
            <a:r>
              <a:rPr b="1" lang="zh-CN" sz="6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99"/>
          <p:cNvSpPr/>
          <p:nvPr/>
        </p:nvSpPr>
        <p:spPr>
          <a:xfrm>
            <a:off x="317520" y="5973840"/>
            <a:ext cx="654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板下载：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宋体"/>
                <a:hlinkClick r:id="rId2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3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71D9-8A8A-4F0C-9C8F-37C808E97F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heel spokes="8"/>
    <p:sndAc>
      <p:stSnd>
        <p:snd r:embed="rId2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22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7:29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