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CAMERA.WAV" ContentType="audio/x-wav"/>
  <Override PartName="/ppt/media/image2.png" ContentType="image/png"/>
  <Override PartName="/ppt/media/image3.jpeg" ContentType="image/jpe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1125-775B-4B75-A79D-A35B08463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14F4-53A1-43C0-B7FC-345930B0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EAB2A-D65C-4A79-970A-74DD17C3F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1ADE-B8AA-45CD-98A6-569783024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077A-2603-48DE-8975-FA2EF9370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39C9-8F75-40D9-93C1-37E8C9C0F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8BEFE-FFA6-4E16-8673-AE91C36B5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E999-190D-4DAB-B705-4C15658A9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D4E4-622F-447B-B31A-3ED9516B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6411-79FC-4991-88A5-62F24D2CE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68B7-6A74-4D3B-A84D-88E5A0998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8A86-A40F-4C25-90C2-72EDECEA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746C4-83BA-441F-8542-57D7E9C9BB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2.png"/><Relationship Id="rId1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.com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2"/>
          <p:cNvSpPr/>
          <p:nvPr/>
        </p:nvSpPr>
        <p:spPr>
          <a:xfrm>
            <a:off x="952560" y="5918040"/>
            <a:ext cx="439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幻灯片之家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117880" y="2687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5"/>
          <p:cNvSpPr/>
          <p:nvPr/>
        </p:nvSpPr>
        <p:spPr>
          <a:xfrm>
            <a:off x="3718080" y="4059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2856960" y="582480"/>
            <a:ext cx="3009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cc3300"/>
                </a:solidFill>
                <a:latin typeface="Times New Roman"/>
                <a:ea typeface="华文琥珀"/>
              </a:rPr>
              <a:t>石 壕 吏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9"/>
          <p:cNvSpPr/>
          <p:nvPr/>
        </p:nvSpPr>
        <p:spPr>
          <a:xfrm>
            <a:off x="5096880" y="27590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杜甫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1927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WordArt 2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22" name="AutoShape 3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533520" y="6019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298440" y="333864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老妇致词说了哪些家事？诗人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怎样知道的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1279440" y="4897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10"/>
          <p:cNvSpPr/>
          <p:nvPr/>
        </p:nvSpPr>
        <p:spPr>
          <a:xfrm>
            <a:off x="0" y="487188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6699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441360" y="6192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298440" y="266688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 flipH="1">
            <a:off x="678600" y="228600"/>
            <a:ext cx="8077320" cy="53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3300"/>
                </a:solidFill>
                <a:latin typeface="Times New Roman"/>
                <a:ea typeface="黑体"/>
              </a:rPr>
              <a:t>运用想象，还原情形，进行情景对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三男邺城戍，一男附书至，二男新战死，存    者且偷生，死者长已矣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室中更无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惟有乳下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有孙母未去，出入无完裙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3300"/>
                </a:solidFill>
                <a:latin typeface="Times New Roman"/>
              </a:rPr>
              <a:t>县吏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老妇：老妇力虽衰，请从吏夜归，急应河阳役，犹 得备晨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3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026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1027"/>
          <p:cNvSpPr/>
          <p:nvPr/>
        </p:nvSpPr>
        <p:spPr>
          <a:xfrm>
            <a:off x="1523880" y="307008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这个故事的结局如何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1028" descr="q6"/>
          <p:cNvPicPr/>
          <p:nvPr/>
        </p:nvPicPr>
        <p:blipFill>
          <a:blip r:embed="rId1"/>
          <a:stretch/>
        </p:blipFill>
        <p:spPr>
          <a:xfrm>
            <a:off x="7924680" y="685800"/>
            <a:ext cx="365400" cy="777960"/>
          </a:xfrm>
          <a:prstGeom prst="rect">
            <a:avLst/>
          </a:prstGeom>
          <a:ln w="0">
            <a:noFill/>
          </a:ln>
        </p:spPr>
      </p:pic>
      <p:sp>
        <p:nvSpPr>
          <p:cNvPr id="136" name="WordArt 1030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</p:spTree>
  </p:cSld>
  <p:transition spd="slow">
    <p:randomBa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2"/>
          <p:cNvSpPr/>
          <p:nvPr/>
        </p:nvSpPr>
        <p:spPr>
          <a:xfrm>
            <a:off x="974880" y="706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3"/>
          <p:cNvSpPr/>
          <p:nvPr/>
        </p:nvSpPr>
        <p:spPr>
          <a:xfrm>
            <a:off x="1355760" y="4363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04920" y="2666880"/>
            <a:ext cx="88390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根据你的理解，你能用自己的话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概括本诗的主题吗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888840" y="538200"/>
            <a:ext cx="100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讨论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2"/>
          <p:cNvSpPr/>
          <p:nvPr/>
        </p:nvSpPr>
        <p:spPr>
          <a:xfrm>
            <a:off x="1279080" y="90360"/>
            <a:ext cx="1297800" cy="1434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ff"/>
                </a:solidFill>
                <a:latin typeface="Times New Roman"/>
                <a:ea typeface="方正舒体"/>
              </a:rPr>
              <a:t>比一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3"/>
          <p:cNvSpPr/>
          <p:nvPr/>
        </p:nvSpPr>
        <p:spPr>
          <a:xfrm>
            <a:off x="1891080" y="2209680"/>
            <a:ext cx="5365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有感情地大声朗读全诗，根据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内容的理解，力争以最短的时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     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背出全诗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5" descr="clock"/>
          <p:cNvPicPr/>
          <p:nvPr/>
        </p:nvPicPr>
        <p:blipFill>
          <a:blip r:embed="rId1"/>
          <a:stretch/>
        </p:blipFill>
        <p:spPr>
          <a:xfrm>
            <a:off x="7616880" y="457200"/>
            <a:ext cx="765000" cy="7650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"/>
          <p:cNvSpPr/>
          <p:nvPr/>
        </p:nvSpPr>
        <p:spPr>
          <a:xfrm>
            <a:off x="525600" y="166680"/>
            <a:ext cx="3755880" cy="143460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作业</a:t>
            </a:r>
            <a:r>
              <a:rPr b="0" lang="en-US" sz="8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——</a:t>
            </a:r>
            <a:endParaRPr b="0" lang="en-US" sz="8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93960" y="2116080"/>
            <a:ext cx="1123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默写全诗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2707200" y="3071880"/>
            <a:ext cx="461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、练笔：把本诗改写成一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故事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9A6E8-59AA-4BB7-BC92-9A2719E3990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22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1026" descr=""/>
          <p:cNvPicPr/>
          <p:nvPr/>
        </p:nvPicPr>
        <p:blipFill>
          <a:blip r:embed="rId1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1027"/>
          <p:cNvSpPr/>
          <p:nvPr/>
        </p:nvSpPr>
        <p:spPr>
          <a:xfrm>
            <a:off x="289080" y="249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028"/>
          <p:cNvSpPr/>
          <p:nvPr/>
        </p:nvSpPr>
        <p:spPr>
          <a:xfrm>
            <a:off x="1614960" y="1143000"/>
            <a:ext cx="598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唐肃宗乾元元年（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759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）春天，郭子仪等九节度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029"/>
          <p:cNvSpPr/>
          <p:nvPr/>
        </p:nvSpPr>
        <p:spPr>
          <a:xfrm>
            <a:off x="212760" y="1925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1030"/>
          <p:cNvSpPr/>
          <p:nvPr/>
        </p:nvSpPr>
        <p:spPr>
          <a:xfrm>
            <a:off x="443988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六十万大军包围安庆绪于邺城，由于指挥不统一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031"/>
          <p:cNvSpPr/>
          <p:nvPr/>
        </p:nvSpPr>
        <p:spPr>
          <a:xfrm>
            <a:off x="136440" y="2535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032"/>
          <p:cNvSpPr/>
          <p:nvPr/>
        </p:nvSpPr>
        <p:spPr>
          <a:xfrm>
            <a:off x="1860840" y="23623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被史思明援军打败唐王朝为补充兵力，便在洛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033"/>
          <p:cNvSpPr/>
          <p:nvPr/>
        </p:nvSpPr>
        <p:spPr>
          <a:xfrm>
            <a:off x="-92160" y="306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1034"/>
          <p:cNvSpPr/>
          <p:nvPr/>
        </p:nvSpPr>
        <p:spPr>
          <a:xfrm>
            <a:off x="1919160" y="3048120"/>
            <a:ext cx="512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至潼关一带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强行抓人当兵</a:t>
            </a: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人民苦不堪言。这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35"/>
          <p:cNvSpPr/>
          <p:nvPr/>
        </p:nvSpPr>
        <p:spPr>
          <a:xfrm>
            <a:off x="212760" y="3906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036"/>
          <p:cNvSpPr/>
          <p:nvPr/>
        </p:nvSpPr>
        <p:spPr>
          <a:xfrm>
            <a:off x="1829160" y="37339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我国古代伟大的现实主义诗人杜甫经过此处，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37"/>
          <p:cNvSpPr/>
          <p:nvPr/>
        </p:nvSpPr>
        <p:spPr>
          <a:xfrm>
            <a:off x="-92160" y="4668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038"/>
          <p:cNvSpPr/>
          <p:nvPr/>
        </p:nvSpPr>
        <p:spPr>
          <a:xfrm>
            <a:off x="1829160" y="441972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其所见所闻进行了高度的艺术概括，写成了著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039"/>
          <p:cNvSpPr/>
          <p:nvPr/>
        </p:nvSpPr>
        <p:spPr>
          <a:xfrm>
            <a:off x="5936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040"/>
          <p:cNvSpPr/>
          <p:nvPr/>
        </p:nvSpPr>
        <p:spPr>
          <a:xfrm>
            <a:off x="2003040" y="5029200"/>
            <a:ext cx="49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的组诗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三别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，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《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石壕吏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》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是三吏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041"/>
          <p:cNvSpPr/>
          <p:nvPr/>
        </p:nvSpPr>
        <p:spPr>
          <a:xfrm>
            <a:off x="136440" y="5964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042"/>
          <p:cNvSpPr/>
          <p:nvPr/>
        </p:nvSpPr>
        <p:spPr>
          <a:xfrm>
            <a:off x="632880" y="5638680"/>
            <a:ext cx="37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佳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43"/>
          <p:cNvSpPr/>
          <p:nvPr/>
        </p:nvSpPr>
        <p:spPr>
          <a:xfrm>
            <a:off x="754560" y="61920"/>
            <a:ext cx="3868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9900"/>
                </a:solidFill>
                <a:latin typeface="Times New Roman"/>
              </a:rPr>
              <a:t>背景简介</a:t>
            </a:r>
            <a:r>
              <a:rPr b="1" lang="en-US" sz="6600" spc="-1" strike="noStrike">
                <a:solidFill>
                  <a:srgbClr val="ff9900"/>
                </a:solidFill>
                <a:latin typeface="Times New Roman"/>
              </a:rPr>
              <a:t>——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6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3"/>
          <p:cNvSpPr/>
          <p:nvPr/>
        </p:nvSpPr>
        <p:spPr>
          <a:xfrm>
            <a:off x="577800" y="-15840"/>
            <a:ext cx="1843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shihaoli.mp3" descr=""/>
          <p:cNvPicPr/>
          <p:nvPr/>
        </p:nvPicPr>
        <p:blipFill>
          <a:blip r:embed="rId2"/>
          <a:stretch/>
        </p:blipFill>
        <p:spPr>
          <a:xfrm>
            <a:off x="2286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508040" y="380880"/>
            <a:ext cx="3063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方正舒体"/>
                <a:ea typeface="方正舒体"/>
              </a:rPr>
              <a:t>听 录 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页脚占位符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09480" y="533520"/>
            <a:ext cx="190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Times New Roman"/>
              </a:rPr>
              <a:t>生字</a:t>
            </a: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533520" y="1828800"/>
            <a:ext cx="8001000" cy="549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吏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逾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邺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戍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咽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         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妪 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泣</a:t>
            </a: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:       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914400" y="342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2666880" y="167652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Times New Roman"/>
              </a:rPr>
              <a:t>l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7162920" y="1600200"/>
            <a:ext cx="144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ú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2438280" y="32004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9"/>
          <p:cNvSpPr/>
          <p:nvPr/>
        </p:nvSpPr>
        <p:spPr>
          <a:xfrm>
            <a:off x="2593080" y="283356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0"/>
          <p:cNvSpPr/>
          <p:nvPr/>
        </p:nvSpPr>
        <p:spPr>
          <a:xfrm>
            <a:off x="7241040" y="2833560"/>
            <a:ext cx="1450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sh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"/>
          <p:cNvSpPr/>
          <p:nvPr/>
        </p:nvSpPr>
        <p:spPr>
          <a:xfrm>
            <a:off x="2955960" y="4440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"/>
          <p:cNvSpPr/>
          <p:nvPr/>
        </p:nvSpPr>
        <p:spPr>
          <a:xfrm>
            <a:off x="2593080" y="4114800"/>
            <a:ext cx="104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è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3"/>
          <p:cNvSpPr/>
          <p:nvPr/>
        </p:nvSpPr>
        <p:spPr>
          <a:xfrm>
            <a:off x="7391520" y="4114800"/>
            <a:ext cx="11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yù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2668320" y="5334120"/>
            <a:ext cx="89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qì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2" descr="石毫厘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Text Box 3"/>
          <p:cNvSpPr/>
          <p:nvPr/>
        </p:nvSpPr>
        <p:spPr>
          <a:xfrm>
            <a:off x="1189080" y="-158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华文琥珀"/>
              </a:rPr>
              <a:t>课文朗读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2"/>
          <p:cNvSpPr/>
          <p:nvPr/>
        </p:nvSpPr>
        <p:spPr>
          <a:xfrm>
            <a:off x="0" y="0"/>
            <a:ext cx="60357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 </a:t>
            </a:r>
            <a:r>
              <a:rPr b="1" lang="en-US" sz="8000" spc="-1" strike="noStrike">
                <a:solidFill>
                  <a:srgbClr val="cc3300"/>
                </a:solidFill>
                <a:latin typeface="华文行楷"/>
                <a:ea typeface="华文行楷"/>
              </a:rPr>
              <a:t> </a:t>
            </a:r>
            <a:br>
              <a:rPr sz="8000"/>
            </a:b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24400" y="1770120"/>
            <a:ext cx="43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 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5"/>
          <p:cNvSpPr/>
          <p:nvPr/>
        </p:nvSpPr>
        <p:spPr>
          <a:xfrm>
            <a:off x="1371600" y="685800"/>
            <a:ext cx="71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隶书"/>
              </a:rPr>
              <a:t>结合注释，疏通文意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16"/>
          <p:cNvSpPr/>
          <p:nvPr/>
        </p:nvSpPr>
        <p:spPr>
          <a:xfrm>
            <a:off x="1219320" y="1981080"/>
            <a:ext cx="58928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文本框 99"/>
          <p:cNvSpPr/>
          <p:nvPr/>
        </p:nvSpPr>
        <p:spPr>
          <a:xfrm>
            <a:off x="2031840" y="3292560"/>
            <a:ext cx="61675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更多免费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模板下载：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宋体"/>
                <a:hlinkClick r:id="rId1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2"/>
          <p:cNvSpPr/>
          <p:nvPr/>
        </p:nvSpPr>
        <p:spPr>
          <a:xfrm>
            <a:off x="3162960" y="1279440"/>
            <a:ext cx="3228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复述故事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3"/>
          <p:cNvSpPr/>
          <p:nvPr/>
        </p:nvSpPr>
        <p:spPr>
          <a:xfrm>
            <a:off x="1339920" y="2774880"/>
            <a:ext cx="5886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不要求逐字逐句翻译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说出大意就可以了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4" descr="title1"/>
          <p:cNvPicPr/>
          <p:nvPr/>
        </p:nvPicPr>
        <p:blipFill>
          <a:blip r:embed="rId1"/>
          <a:stretch/>
        </p:blipFill>
        <p:spPr>
          <a:xfrm>
            <a:off x="1752480" y="4952880"/>
            <a:ext cx="5867640" cy="9144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590400" y="746280"/>
            <a:ext cx="271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走进石壕村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  <a:ea typeface="方正舒体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3505320" y="15840"/>
            <a:ext cx="183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1662120" y="1055520"/>
            <a:ext cx="18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WordArt 5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05" name="Text Box 6"/>
          <p:cNvSpPr/>
          <p:nvPr/>
        </p:nvSpPr>
        <p:spPr>
          <a:xfrm>
            <a:off x="974880" y="5202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304920" y="27432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1584360" y="5278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9"/>
          <p:cNvSpPr/>
          <p:nvPr/>
        </p:nvSpPr>
        <p:spPr>
          <a:xfrm>
            <a:off x="2209680" y="6029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11" descr="q2"/>
          <p:cNvPicPr/>
          <p:nvPr/>
        </p:nvPicPr>
        <p:blipFill>
          <a:blip r:embed="rId1"/>
          <a:stretch/>
        </p:blipFill>
        <p:spPr>
          <a:xfrm>
            <a:off x="7745400" y="762120"/>
            <a:ext cx="560520" cy="6174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12"/>
          <p:cNvSpPr/>
          <p:nvPr/>
        </p:nvSpPr>
        <p:spPr>
          <a:xfrm>
            <a:off x="4024080" y="1828800"/>
            <a:ext cx="740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行楷"/>
              </a:rPr>
              <a:t>（齐读第一节）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4451400" y="316692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、在这里老翁、老妇分别有怎样的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1447920" y="3835440"/>
            <a:ext cx="568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老翁逾墙走   老妇出门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15"/>
          <p:cNvSpPr/>
          <p:nvPr/>
        </p:nvSpPr>
        <p:spPr>
          <a:xfrm>
            <a:off x="1219320" y="4572000"/>
            <a:ext cx="426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为何有此举动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over dir="u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2"/>
          <p:cNvSpPr/>
          <p:nvPr/>
        </p:nvSpPr>
        <p:spPr>
          <a:xfrm>
            <a:off x="304920" y="228600"/>
            <a:ext cx="2209680" cy="1828800"/>
          </a:xfrm>
          <a:prstGeom prst="cloudCallout">
            <a:avLst>
              <a:gd name="adj1" fmla="val 78162"/>
              <a:gd name="adj2" fmla="val 82986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WordArt 3"/>
          <p:cNvSpPr txBox="1"/>
          <p:nvPr/>
        </p:nvSpPr>
        <p:spPr>
          <a:xfrm>
            <a:off x="533520" y="685800"/>
            <a:ext cx="1714320" cy="860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想一想</a:t>
            </a:r>
            <a:endParaRPr b="0" lang="en-US" sz="44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85800" y="2438280"/>
            <a:ext cx="88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哪几个字把人物形象淋漓尽致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展示出来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2133720" y="4114800"/>
            <a:ext cx="67053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呼　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怒　 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9"/>
          <p:cNvSpPr/>
          <p:nvPr/>
        </p:nvSpPr>
        <p:spPr>
          <a:xfrm>
            <a:off x="4024080" y="57150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horz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3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7T14:36:32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7:34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