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hammer.wav" ContentType="audio/x-wav"/>
  <Override PartName="/ppt/media/image7.png" ContentType="image/png"/>
  <Override PartName="/ppt/media/chimes.wav" ContentType="audio/x-wav"/>
  <Override PartName="/ppt/media/image6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33C-D027-4DBC-A163-DE08719F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BEA-C0C2-43D3-908C-03906B2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58B-AF9E-45C0-9716-8F3BB556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A0F-85C3-41EB-BC5A-64E07D6B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228-C0FD-4458-94E4-EE4392F5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FE3-FEDE-4F08-B5BA-66F555C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BB3-EC4D-484B-ADA4-0B9338A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AD7-7BF7-4832-A6F9-3FEC7FA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953-F89A-41A5-9D7A-8A5D35FC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658-BBF7-493F-BF0A-4D3F134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033-8C8B-466D-8B16-3986BABD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82B-D507-4C3C-B61C-E75543A2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39C1-606D-4387-9C51-F2D14D13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2268360" y="6245280"/>
            <a:ext cx="453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 rot="5400000">
            <a:off x="4142520" y="2527920"/>
            <a:ext cx="6337080" cy="1589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4117"/>
                      </a:srgbClr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9999"/>
                  </a:outerShdw>
                </a:effectLst>
                <a:latin typeface="华文新魏"/>
              </a:rPr>
              <a:t>记承天寺夜游</a:t>
            </a:r>
            <a:endParaRPr b="0" lang="en-US" sz="1800" spc="1" strike="noStrike">
              <a:ln w="1260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4117"/>
                    </a:srgbClr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9999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422680" y="4433040"/>
            <a:ext cx="91152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苏 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夕阳萧鼓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2872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1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917640" y="14112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4643280" y="1773360"/>
            <a:ext cx="4176720" cy="43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二泉映月.wav" descr=""/>
          <p:cNvPicPr/>
          <p:nvPr/>
        </p:nvPicPr>
        <p:blipFill>
          <a:blip r:embed="rId1"/>
          <a:stretch/>
        </p:blipFill>
        <p:spPr>
          <a:xfrm>
            <a:off x="1692360" y="544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望月2"/>
          <p:cNvPicPr/>
          <p:nvPr/>
        </p:nvPicPr>
        <p:blipFill>
          <a:blip r:embed="rId2">
            <a:lum contrast="24000"/>
          </a:blip>
          <a:srcRect l="23993" t="16625" r="35837" b="6937"/>
          <a:stretch/>
        </p:blipFill>
        <p:spPr>
          <a:xfrm>
            <a:off x="611280" y="1052640"/>
            <a:ext cx="3530520" cy="5035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0" name="WordArt 11"/>
          <p:cNvSpPr txBox="1"/>
          <p:nvPr/>
        </p:nvSpPr>
        <p:spPr>
          <a:xfrm>
            <a:off x="5651640" y="692280"/>
            <a:ext cx="237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solidFill>
                    <a:srgbClr val="ffffff"/>
                  </a:solidFill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华文行楷"/>
              </a:rPr>
              <a:t>有关资料</a:t>
            </a:r>
            <a:endParaRPr b="0" lang="en-US" sz="1800" spc="-1" strike="noStrike">
              <a:ln w="0">
                <a:solidFill>
                  <a:srgbClr val="ffffff"/>
                </a:solidFill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25120" y="1684440"/>
            <a:ext cx="2960640" cy="50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选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坡志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。苏轼 ：字子瞻 ， 又字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仲，号东坡居士  。北宋眉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文学家、书画家 。 他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辛弃疾并称“苏辛”，同是“ 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派”代表作家。 他与父苏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弟苏辙并称“三苏”，是“ 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八大家之一”。谥号“文忠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328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539640" y="476280"/>
            <a:ext cx="8064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28"/>
          <p:cNvSpPr/>
          <p:nvPr/>
        </p:nvSpPr>
        <p:spPr>
          <a:xfrm>
            <a:off x="539640" y="476280"/>
            <a:ext cx="8209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丰六年十月十二日夜，解衣欲睡 ，月色入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户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欣然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起行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念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无与为乐者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至承天寺寻张怀民 。怀民亦未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，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步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庭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。庭下如积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空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水中藻 、荇交横 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盖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竹柏影也 。 何夜无月？ 何处无竹柏？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但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闲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如吾两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耳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30"/>
          <p:cNvSpPr/>
          <p:nvPr/>
        </p:nvSpPr>
        <p:spPr>
          <a:xfrm rot="10800000">
            <a:off x="1763640" y="4365720"/>
            <a:ext cx="1440000" cy="720720"/>
          </a:xfrm>
          <a:prstGeom prst="wedgeRectCallout">
            <a:avLst>
              <a:gd name="adj1" fmla="val 111740"/>
              <a:gd name="adj2" fmla="val 427532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窗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31"/>
          <p:cNvSpPr/>
          <p:nvPr/>
        </p:nvSpPr>
        <p:spPr>
          <a:xfrm rot="10800000">
            <a:off x="1979280" y="4581360"/>
            <a:ext cx="2808360" cy="720720"/>
          </a:xfrm>
          <a:prstGeom prst="wedgeRectCallout">
            <a:avLst>
              <a:gd name="adj1" fmla="val 58759"/>
              <a:gd name="adj2" fmla="val 452861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高兴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32"/>
          <p:cNvSpPr/>
          <p:nvPr/>
        </p:nvSpPr>
        <p:spPr>
          <a:xfrm rot="10800000">
            <a:off x="1979280" y="4581360"/>
            <a:ext cx="2879640" cy="720720"/>
          </a:xfrm>
          <a:prstGeom prst="wedgeRectCallout">
            <a:avLst>
              <a:gd name="adj1" fmla="val 2972"/>
              <a:gd name="adj2" fmla="val 452861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考虑、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33"/>
          <p:cNvSpPr/>
          <p:nvPr/>
        </p:nvSpPr>
        <p:spPr>
          <a:xfrm rot="10800000">
            <a:off x="4356000" y="4869000"/>
            <a:ext cx="1440000" cy="720720"/>
          </a:xfrm>
          <a:prstGeom prst="wedgeRectCallout">
            <a:avLst>
              <a:gd name="adj1" fmla="val -48680"/>
              <a:gd name="adj2" fmla="val 500439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34"/>
          <p:cNvSpPr/>
          <p:nvPr/>
        </p:nvSpPr>
        <p:spPr>
          <a:xfrm rot="10800000">
            <a:off x="1979640" y="4581360"/>
            <a:ext cx="1440000" cy="720720"/>
          </a:xfrm>
          <a:prstGeom prst="wedgeRectCallout">
            <a:avLst>
              <a:gd name="adj1" fmla="val -29717"/>
              <a:gd name="adj2" fmla="val 376648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35"/>
          <p:cNvSpPr/>
          <p:nvPr/>
        </p:nvSpPr>
        <p:spPr>
          <a:xfrm rot="10800000">
            <a:off x="2195640" y="4797360"/>
            <a:ext cx="2952720" cy="720720"/>
          </a:xfrm>
          <a:prstGeom prst="wedgeRectCallout">
            <a:avLst>
              <a:gd name="adj1" fmla="val -24462"/>
              <a:gd name="adj2" fmla="val 411453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共同、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36"/>
          <p:cNvSpPr/>
          <p:nvPr/>
        </p:nvSpPr>
        <p:spPr>
          <a:xfrm rot="10800000">
            <a:off x="4572000" y="5157720"/>
            <a:ext cx="2952720" cy="720720"/>
          </a:xfrm>
          <a:prstGeom prst="wedgeRectCallout">
            <a:avLst>
              <a:gd name="adj1" fmla="val 6504"/>
              <a:gd name="adj2" fmla="val 471805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前庭、院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37"/>
          <p:cNvSpPr/>
          <p:nvPr/>
        </p:nvSpPr>
        <p:spPr>
          <a:xfrm rot="10800000">
            <a:off x="1690560" y="5013360"/>
            <a:ext cx="4896000" cy="720720"/>
          </a:xfrm>
          <a:prstGeom prst="wedgeRectCallout">
            <a:avLst>
              <a:gd name="adj1" fmla="val 62092"/>
              <a:gd name="adj2" fmla="val 367180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形容水的空无澄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38"/>
          <p:cNvSpPr/>
          <p:nvPr/>
        </p:nvSpPr>
        <p:spPr>
          <a:xfrm rot="10800000">
            <a:off x="3490560" y="5013360"/>
            <a:ext cx="1873080" cy="720720"/>
          </a:xfrm>
          <a:prstGeom prst="wedgeRectCallout">
            <a:avLst>
              <a:gd name="adj1" fmla="val -35342"/>
              <a:gd name="adj2" fmla="val 370041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原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39"/>
          <p:cNvSpPr/>
          <p:nvPr/>
        </p:nvSpPr>
        <p:spPr>
          <a:xfrm rot="10800000">
            <a:off x="3419280" y="5013360"/>
            <a:ext cx="1944360" cy="720720"/>
          </a:xfrm>
          <a:prstGeom prst="wedgeRectCallout">
            <a:avLst>
              <a:gd name="adj1" fmla="val 26324"/>
              <a:gd name="adj2" fmla="val 300439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只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40"/>
          <p:cNvSpPr/>
          <p:nvPr/>
        </p:nvSpPr>
        <p:spPr>
          <a:xfrm rot="10800000">
            <a:off x="2411280" y="5013360"/>
            <a:ext cx="2952720" cy="720720"/>
          </a:xfrm>
          <a:prstGeom prst="wedgeRectCallout">
            <a:avLst>
              <a:gd name="adj1" fmla="val -28337"/>
              <a:gd name="adj2" fmla="val 303523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清闲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41"/>
          <p:cNvSpPr/>
          <p:nvPr/>
        </p:nvSpPr>
        <p:spPr>
          <a:xfrm rot="10800000">
            <a:off x="3490560" y="5229360"/>
            <a:ext cx="2089080" cy="720720"/>
          </a:xfrm>
          <a:prstGeom prst="wedgeRectCallout">
            <a:avLst>
              <a:gd name="adj1" fmla="val -118921"/>
              <a:gd name="adj2" fmla="val 329074"/>
            </a:avLst>
          </a:prstGeom>
          <a:solidFill>
            <a:srgbClr val="ccffff">
              <a:alpha val="9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罢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42"/>
          <p:cNvSpPr/>
          <p:nvPr/>
        </p:nvSpPr>
        <p:spPr>
          <a:xfrm>
            <a:off x="2137320" y="3429000"/>
            <a:ext cx="51184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元丰六年十月十二日夜晚，我脱了衣服，打算睡觉，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时月光照进窗户（十分优美），我高兴地起来走出户外。想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没有人与我同乐，于是到承天寺去找张怀民。张怀民也还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睡觉，（于是）我们一起在庭院中散步。月光照在院中，如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般清明澄澈，竹子和松树的影子，就像水中交错的藻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哪一夜没有月光？哪里没有竹子和松树？只是缺少像我俩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的闲人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341360"/>
            <a:ext cx="8064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1341360"/>
            <a:ext cx="8209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元丰六年十月十二日夜，解衣欲睡 ，月色入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户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欣然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起行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念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无与为乐者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至承天寺寻张怀民 。怀民亦未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，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步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中庭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。庭下如积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空明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水中藻 、荇交横 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盖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竹柏影也 。 何夜无月？ 何处无竹柏？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但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闲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如吾两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耳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4188960" y="4311720"/>
            <a:ext cx="10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层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点明夜游的时间、原因、地点及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2442600" y="4954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层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夜游所见之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978280" y="560376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层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抒写作者旷达的心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6588000" y="2565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4"/>
          <p:cNvSpPr/>
          <p:nvPr/>
        </p:nvSpPr>
        <p:spPr>
          <a:xfrm>
            <a:off x="6661080" y="2565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7236000" y="3070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7308720" y="30700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7236000" y="35751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7308720" y="35751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9"/>
          <p:cNvSpPr txBox="1"/>
          <p:nvPr/>
        </p:nvSpPr>
        <p:spPr>
          <a:xfrm>
            <a:off x="1332000" y="40464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solidFill>
                    <a:srgbClr val="ffffff"/>
                  </a:solidFill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华文行楷"/>
              </a:rPr>
              <a:t>层次分析</a:t>
            </a:r>
            <a:endParaRPr b="0" lang="en-US" sz="1800" spc="-1" strike="noStrike">
              <a:ln w="0">
                <a:solidFill>
                  <a:srgbClr val="ffffff"/>
                </a:solidFill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195640" y="4724280"/>
            <a:ext cx="4941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2"/>
          <p:cNvSpPr txBox="1"/>
          <p:nvPr/>
        </p:nvSpPr>
        <p:spPr>
          <a:xfrm>
            <a:off x="3132000" y="549360"/>
            <a:ext cx="1513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solidFill>
                    <a:srgbClr val="ffffff"/>
                  </a:solidFill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华文行楷"/>
              </a:rPr>
              <a:t>思考</a:t>
            </a:r>
            <a:endParaRPr b="0" lang="en-US" sz="1800" spc="-1" strike="noStrike">
              <a:ln w="0">
                <a:solidFill>
                  <a:srgbClr val="ffffff"/>
                </a:solidFill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2613240" y="1916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作者写了什么样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3686400" y="27558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根据作者此时的处境，想想他寻找张怀民“为乐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原因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1915560" y="39085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最后一句体现了作者什么样的心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480760" y="477216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本文的主旨句是哪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3423600" y="24004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楷体_GB2312"/>
              </a:rPr>
              <a:t>答：深秋月夜承天寺院内的竹柏月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765600" y="35733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楷体_GB2312"/>
              </a:rPr>
              <a:t>答：因为他们一同被贬到黄州，有共同的语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510000" y="43657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楷体_GB2312"/>
              </a:rPr>
              <a:t>答：体现了作者被贬后清冷孤寂的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089440" y="52783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Arial"/>
                <a:ea typeface="楷体_GB2312"/>
              </a:rPr>
              <a:t>答：“但少闲人如吾两人耳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64000" y="6166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看图作文：写景抒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image56"/>
          <p:cNvPicPr/>
          <p:nvPr/>
        </p:nvPicPr>
        <p:blipFill>
          <a:blip r:embed="rId1"/>
          <a:stretch/>
        </p:blipFill>
        <p:spPr>
          <a:xfrm>
            <a:off x="1187280" y="1630440"/>
            <a:ext cx="6769440" cy="4535280"/>
          </a:xfrm>
          <a:prstGeom prst="rect">
            <a:avLst/>
          </a:prstGeom>
          <a:ln w="0">
            <a:noFill/>
          </a:ln>
        </p:spPr>
      </p:pic>
      <p:sp>
        <p:nvSpPr>
          <p:cNvPr id="95" name="WordArt 14"/>
          <p:cNvSpPr txBox="1"/>
          <p:nvPr/>
        </p:nvSpPr>
        <p:spPr>
          <a:xfrm>
            <a:off x="1547640" y="404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solidFill>
                    <a:srgbClr val="ffffff"/>
                  </a:solidFill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华文行楷"/>
              </a:rPr>
              <a:t>拓展迁移</a:t>
            </a:r>
            <a:endParaRPr b="0" lang="en-US" sz="1800" spc="-1" strike="noStrike">
              <a:ln w="0">
                <a:solidFill>
                  <a:srgbClr val="ffffff"/>
                </a:solidFill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750960" y="1197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5"/>
          <p:cNvPicPr/>
          <p:nvPr/>
        </p:nvPicPr>
        <p:blipFill>
          <a:blip r:embed="rId1">
            <a:lum contrast="-48000"/>
          </a:blip>
          <a:srcRect l="9306" t="3684" r="5810" b="105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"/>
          <p:cNvSpPr txBox="1"/>
          <p:nvPr/>
        </p:nvSpPr>
        <p:spPr>
          <a:xfrm>
            <a:off x="2556000" y="2492280"/>
            <a:ext cx="3744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1" name="夕阳萧鼓.mp3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3586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491A-46F3-4A35-99C1-3ABE27ADEA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3:37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47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