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1258920" y="1557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Unit 6  How man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5832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1332000" y="29242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talk/Find and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kite, 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ow many … 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ou see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 se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ow many … do you see? I see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使用它们询问物品数量并作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，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中找出小动物并用英语数出总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2" name="文本框 1"/>
          <p:cNvSpPr/>
          <p:nvPr/>
        </p:nvSpPr>
        <p:spPr>
          <a:xfrm>
            <a:off x="1225440" y="5979960"/>
            <a:ext cx="64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learn/Let’s c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eleven, twelve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irteen, fourteen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fift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ow many … 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ou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 se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eleven, twelve, thirteen, fourteen, fifteen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五个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提供的语境中运用这些来计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并跟读拍手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替换图片中的物品和数字完成新的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字母语音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p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hant and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语音：复习五个短元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在图片和录音的帮助下完成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理解歌谣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识记含有这些短元音的单词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and, leg, ten, dog, duck, big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talk/Let’s fin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ow many … 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you have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 hav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ow many … do you have? I have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简单询问他人拥有物品的数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learn/Let’s c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ixtee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eventeen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eightee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nineteen, twe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is i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ixteen, seventeen, eighteen, nineteen, twenty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运用这些单词做简单的加法和乘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并跟读歌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1680" y="1928880"/>
          <a:ext cx="8001000" cy="381780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综合技能活动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or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语境的帮助下认读句子，并且能够以文段中的句子为范本，根据自己的真实生活进行口头表达。（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检测部分要求学生能够熟练地听、说本单元对话部分的主要句型，能听、说、认读词汇部分的所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学会唱歌曲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One, two, three, four, five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理解故事内容，在教师的帮助下表演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CE3-C0E7-418D-BD4E-C85B33859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36Z</dcterms:modified>
  <cp:revision>1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