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click.wav" ContentType="audio/x-wav"/>
  <Override PartName="/ppt/media/whoosh.wav" ContentType="audio/x-wav"/>
  <Override PartName="/ppt/media/image5.wmf" ContentType="image/x-wmf"/>
  <Override PartName="/ppt/media/image6.jpeg" ContentType="image/jpeg"/>
  <Override PartName="/ppt/media/DING.WAV" ContentType="audio/x-wav"/>
  <Override PartName="/ppt/media/image17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20.jpeg" ContentType="image/jpeg"/>
  <Override PartName="/ppt/media/image19.wmf" ContentType="image/x-wmf"/>
  <Override PartName="/ppt/media/image14.jpeg" ContentType="image/jpeg"/>
  <Override PartName="/ppt/media/image18.png" ContentType="image/png"/>
  <Override PartName="/ppt/media/image16.png" ContentType="image/png"/>
  <Override PartName="/ppt/media/arrow.wav" ContentType="audio/x-wav"/>
  <Override PartName="/ppt/media/image13.jpeg" ContentType="image/jpeg"/>
  <Override PartName="/ppt/media/image11.jpeg" ContentType="image/jpeg"/>
  <Override PartName="/ppt/media/TYPE.WAV" ContentType="audio/x-wav"/>
  <Override PartName="/ppt/media/camera.wav" ContentType="audio/x-wav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AF2-D9EB-45AE-98E0-AE75E32F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DD9-19DD-4CC1-B7E4-1E16FF88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42B-AD4D-4972-9BF4-EAF2F4FA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E9C-1629-4E98-A976-6B211FB3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088-B17E-4558-8A02-90AC77FC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971-C0DA-4405-A299-D5092AF4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ECC-CE0A-4576-B6AB-C09A9EDF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2B2-4E3A-4317-BF36-FE9BE989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5F7-E9B8-48B5-8D5C-DADFD350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BEF-D56E-4251-8AA9-285BF0E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002-226B-45A9-A44B-118D5AB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C2D-C7BA-48E1-81AE-5A86079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9F36-435B-4E22-A8AA-0FA2A5F69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camera.wav"/><Relationship Id="rId9" Type="http://schemas.openxmlformats.org/officeDocument/2006/relationships/audio" Target="../media/DING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3480" y="47628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教新课标版三年级数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773360"/>
            <a:ext cx="7704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分数的初步认识</a:t>
            </a:r>
            <a:endParaRPr b="1" lang="en-US" sz="4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390760" y="59072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未命名1"/>
          <p:cNvPicPr/>
          <p:nvPr/>
        </p:nvPicPr>
        <p:blipFill>
          <a:blip r:embed="rId1"/>
          <a:stretch/>
        </p:blipFill>
        <p:spPr>
          <a:xfrm>
            <a:off x="-324000" y="2700360"/>
            <a:ext cx="3240360" cy="2430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539640" y="3573360"/>
            <a:ext cx="86364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未命名4"/>
          <p:cNvPicPr/>
          <p:nvPr/>
        </p:nvPicPr>
        <p:blipFill>
          <a:blip r:embed="rId2"/>
          <a:stretch/>
        </p:blipFill>
        <p:spPr>
          <a:xfrm>
            <a:off x="2411280" y="285264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708360" y="3429000"/>
            <a:ext cx="57636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未命名5"/>
          <p:cNvPicPr/>
          <p:nvPr/>
        </p:nvPicPr>
        <p:blipFill>
          <a:blip r:embed="rId3"/>
          <a:stretch/>
        </p:blipFill>
        <p:spPr>
          <a:xfrm>
            <a:off x="6608880" y="2637000"/>
            <a:ext cx="4084560" cy="3063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7308720" y="3294000"/>
            <a:ext cx="3603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95280" y="981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从这些图中发现规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39640" y="5516640"/>
            <a:ext cx="763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平均分的份数越多，得到的一份就越少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>
            <a:hlinkClick r:id="" action="ppaction://hlinkshowjump?jump=last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1551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1030" h="21600">
                <a:moveTo>
                  <a:pt x="1551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1030" h="21600">
                <a:moveTo>
                  <a:pt x="12939" y="8224"/>
                </a:moveTo>
                <a:lnTo>
                  <a:pt x="16803" y="8224"/>
                </a:lnTo>
                <a:lnTo>
                  <a:pt x="16803" y="15221"/>
                </a:lnTo>
                <a:lnTo>
                  <a:pt x="18091" y="15221"/>
                </a:lnTo>
                <a:lnTo>
                  <a:pt x="18091" y="16144"/>
                </a:lnTo>
                <a:lnTo>
                  <a:pt x="12939" y="16144"/>
                </a:lnTo>
                <a:lnTo>
                  <a:pt x="12939" y="15221"/>
                </a:lnTo>
                <a:lnTo>
                  <a:pt x="14227" y="15221"/>
                </a:lnTo>
                <a:lnTo>
                  <a:pt x="14227" y="9129"/>
                </a:lnTo>
                <a:lnTo>
                  <a:pt x="12939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新建 BMP 图像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62" name="Line 5"/>
          <p:cNvSpPr/>
          <p:nvPr/>
        </p:nvSpPr>
        <p:spPr>
          <a:xfrm>
            <a:off x="2556000" y="3357720"/>
            <a:ext cx="30240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067280" y="1844640"/>
            <a:ext cx="0" cy="2952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ject 8" descr=""/>
          <p:cNvPicPr/>
          <p:nvPr/>
        </p:nvPicPr>
        <p:blipFill>
          <a:blip r:embed="rId2"/>
          <a:stretch/>
        </p:blipFill>
        <p:spPr>
          <a:xfrm>
            <a:off x="3635280" y="5084640"/>
            <a:ext cx="91116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>
            <a:hlinkClick r:id="" action="ppaction://hlinkshowjump?jump=previous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5998" y="10800"/>
                </a:moveTo>
                <a:lnTo>
                  <a:pt x="5493" y="17806"/>
                </a:lnTo>
                <a:lnTo>
                  <a:pt x="5493" y="3794"/>
                </a:lnTo>
                <a:close/>
              </a:path>
              <a:path fill="darken" w="24998" h="21600">
                <a:moveTo>
                  <a:pt x="17843" y="3794"/>
                </a:moveTo>
                <a:lnTo>
                  <a:pt x="17843" y="17806"/>
                </a:lnTo>
                <a:lnTo>
                  <a:pt x="19506" y="17806"/>
                </a:lnTo>
                <a:lnTo>
                  <a:pt x="195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1650960" y="461880"/>
            <a:ext cx="83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042920" y="2349360"/>
            <a:ext cx="705636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Arial"/>
                <a:ea typeface="隶书"/>
              </a:rPr>
              <a:t>谢谢老师和同学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ff"/>
                </a:solidFill>
                <a:latin typeface="Arial"/>
                <a:ea typeface="隶书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BEB0-8904-40DF-8303-3D236DACB3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755640" y="476280"/>
            <a:ext cx="74883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天，兔哥哥和兔弟弟一起去找食物，它们找到了４个大　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兔哥哥说：“我要吃３个。”兔弟弟说：“不行，我们应该一样多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你说它们应该怎么分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u=1902943332,1536523136&amp;gp=2"/>
          <p:cNvPicPr/>
          <p:nvPr/>
        </p:nvPicPr>
        <p:blipFill>
          <a:blip r:embed="rId1"/>
          <a:stretch/>
        </p:blipFill>
        <p:spPr>
          <a:xfrm>
            <a:off x="1476360" y="1844640"/>
            <a:ext cx="703440" cy="709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763640" y="5157720"/>
            <a:ext cx="70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只兔子分到（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364000" y="515772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26920" y="1413000"/>
            <a:ext cx="73454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天，兔兄弟又一起去找食物，这次，它们找到了２个大　　，它们每只兔子可以分得（　）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u=1902943332,1536523136&amp;gp=2"/>
          <p:cNvPicPr/>
          <p:nvPr/>
        </p:nvPicPr>
        <p:blipFill>
          <a:blip r:embed="rId1"/>
          <a:stretch/>
        </p:blipFill>
        <p:spPr>
          <a:xfrm>
            <a:off x="1547640" y="3141720"/>
            <a:ext cx="714600" cy="718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400560" y="4875120"/>
            <a:ext cx="9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332000" y="38606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900000" y="981000"/>
            <a:ext cx="7417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第三天，兔兄弟又一起找食物，找的很辛苦，只找到了１个大　　。两只兔子傻眼了，应该怎么分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每只兔子分到（　）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u=1902943332,1536523136&amp;gp=2"/>
          <p:cNvPicPr/>
          <p:nvPr/>
        </p:nvPicPr>
        <p:blipFill>
          <a:blip r:embed="rId1"/>
          <a:stretch/>
        </p:blipFill>
        <p:spPr>
          <a:xfrm>
            <a:off x="1619280" y="2708280"/>
            <a:ext cx="787320" cy="79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538960" y="4149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7"/>
          <p:cNvSpPr/>
          <p:nvPr/>
        </p:nvSpPr>
        <p:spPr>
          <a:xfrm>
            <a:off x="1806480" y="7063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u=1869265849,1579790344&amp;gp=0"/>
          <p:cNvPicPr/>
          <p:nvPr/>
        </p:nvPicPr>
        <p:blipFill>
          <a:blip r:embed="rId1"/>
          <a:stretch/>
        </p:blipFill>
        <p:spPr>
          <a:xfrm>
            <a:off x="1692360" y="549360"/>
            <a:ext cx="1368360" cy="898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851280" y="404640"/>
            <a:ext cx="7920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386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把一个　　平均分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u=1902943332,1536523136&amp;gp=2"/>
          <p:cNvPicPr/>
          <p:nvPr/>
        </p:nvPicPr>
        <p:blipFill>
          <a:blip r:embed="rId2"/>
          <a:stretch/>
        </p:blipFill>
        <p:spPr>
          <a:xfrm>
            <a:off x="2987640" y="3789360"/>
            <a:ext cx="774720" cy="781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859280" y="620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作：二分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092680" y="148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半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u=1902943332,1536523136&amp;gp=2"/>
          <p:cNvPicPr/>
          <p:nvPr/>
        </p:nvPicPr>
        <p:blipFill>
          <a:blip r:embed="rId3"/>
          <a:stretch/>
        </p:blipFill>
        <p:spPr>
          <a:xfrm>
            <a:off x="324000" y="1557360"/>
            <a:ext cx="774720" cy="78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u=1869265849,1579790344&amp;gp=0"/>
          <p:cNvPicPr/>
          <p:nvPr/>
        </p:nvPicPr>
        <p:blipFill>
          <a:blip r:embed="rId4"/>
          <a:stretch/>
        </p:blipFill>
        <p:spPr>
          <a:xfrm>
            <a:off x="1692360" y="2565360"/>
            <a:ext cx="136836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Line 13"/>
          <p:cNvSpPr/>
          <p:nvPr/>
        </p:nvSpPr>
        <p:spPr>
          <a:xfrm>
            <a:off x="684360" y="1413000"/>
            <a:ext cx="0" cy="107928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V="1">
            <a:off x="133200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187280" y="234936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ject 16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576360" cy="1009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7"/>
          <p:cNvSpPr/>
          <p:nvPr/>
        </p:nvSpPr>
        <p:spPr>
          <a:xfrm>
            <a:off x="1403280" y="4654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中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份就是它的　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7"/>
          <p:cNvSpPr txBox="1"/>
          <p:nvPr/>
        </p:nvSpPr>
        <p:spPr>
          <a:xfrm>
            <a:off x="900000" y="2637000"/>
            <a:ext cx="763272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折一折，画一画，写一写。</a:t>
            </a:r>
            <a:endParaRPr b="1" lang="en-US" sz="1800" spc="1" strike="noStrike">
              <a:ln w="19080">
                <a:solidFill>
                  <a:srgbClr val="ff00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80880" y="60948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下面哪个图里的涂色部分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分数表示，请写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897560" y="2971440"/>
            <a:ext cx="1683720" cy="1697760"/>
            <a:chOff x="1897560" y="2971440"/>
            <a:chExt cx="1683720" cy="1697760"/>
          </a:xfrm>
        </p:grpSpPr>
        <p:sp>
          <p:nvSpPr>
            <p:cNvPr id="72" name="AutoShape 4"/>
            <p:cNvSpPr/>
            <p:nvPr/>
          </p:nvSpPr>
          <p:spPr>
            <a:xfrm>
              <a:off x="1905120" y="2977560"/>
              <a:ext cx="1676160" cy="142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H="1" flipV="1">
              <a:off x="2766600" y="3963240"/>
              <a:ext cx="813960" cy="471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6"/>
            <p:cNvSpPr/>
            <p:nvPr/>
          </p:nvSpPr>
          <p:spPr>
            <a:xfrm rot="7230600">
              <a:off x="1721160" y="3558960"/>
              <a:ext cx="1646280" cy="531720"/>
            </a:xfrm>
            <a:prstGeom prst="triangle">
              <a:avLst>
                <a:gd name="adj" fmla="val 500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 flipV="1">
              <a:off x="1905120" y="2971440"/>
              <a:ext cx="813960" cy="1416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3733560" y="3047760"/>
            <a:ext cx="1447920" cy="1447920"/>
            <a:chOff x="3733560" y="3047760"/>
            <a:chExt cx="1447920" cy="1447920"/>
          </a:xfrm>
        </p:grpSpPr>
        <p:sp>
          <p:nvSpPr>
            <p:cNvPr id="77" name="Line 9"/>
            <p:cNvSpPr/>
            <p:nvPr/>
          </p:nvSpPr>
          <p:spPr>
            <a:xfrm>
              <a:off x="3733920" y="44956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0"/>
            <p:cNvGrpSpPr/>
            <p:nvPr/>
          </p:nvGrpSpPr>
          <p:grpSpPr>
            <a:xfrm>
              <a:off x="3733560" y="3047760"/>
              <a:ext cx="1447920" cy="1447920"/>
              <a:chOff x="3733560" y="3047760"/>
              <a:chExt cx="1447920" cy="1447920"/>
            </a:xfrm>
          </p:grpSpPr>
          <p:sp>
            <p:nvSpPr>
              <p:cNvPr id="79" name="AutoShape 11"/>
              <p:cNvSpPr/>
              <p:nvPr/>
            </p:nvSpPr>
            <p:spPr>
              <a:xfrm rot="10800000">
                <a:off x="3733560" y="3047760"/>
                <a:ext cx="1447560" cy="14475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Group 12"/>
              <p:cNvGrpSpPr/>
              <p:nvPr/>
            </p:nvGrpSpPr>
            <p:grpSpPr>
              <a:xfrm>
                <a:off x="3733920" y="3048120"/>
                <a:ext cx="1447560" cy="1447560"/>
                <a:chOff x="3733920" y="3048120"/>
                <a:chExt cx="1447560" cy="1447560"/>
              </a:xfrm>
            </p:grpSpPr>
            <p:sp>
              <p:nvSpPr>
                <p:cNvPr id="81" name="AutoShape 13"/>
                <p:cNvSpPr/>
                <p:nvPr/>
              </p:nvSpPr>
              <p:spPr>
                <a:xfrm>
                  <a:off x="3733920" y="3048120"/>
                  <a:ext cx="1447560" cy="1447560"/>
                </a:xfrm>
                <a:prstGeom prst="rtTriangl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14"/>
                <p:cNvSpPr/>
                <p:nvPr/>
              </p:nvSpPr>
              <p:spPr>
                <a:xfrm>
                  <a:off x="3733920" y="3048120"/>
                  <a:ext cx="144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15"/>
                <p:cNvSpPr/>
                <p:nvPr/>
              </p:nvSpPr>
              <p:spPr>
                <a:xfrm>
                  <a:off x="3733920" y="304812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16"/>
                <p:cNvSpPr/>
                <p:nvPr/>
              </p:nvSpPr>
              <p:spPr>
                <a:xfrm>
                  <a:off x="5181480" y="304812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5" name="Group 17"/>
          <p:cNvGrpSpPr/>
          <p:nvPr/>
        </p:nvGrpSpPr>
        <p:grpSpPr>
          <a:xfrm>
            <a:off x="7467480" y="2895480"/>
            <a:ext cx="1152720" cy="1600200"/>
            <a:chOff x="7467480" y="2895480"/>
            <a:chExt cx="1152720" cy="1600200"/>
          </a:xfrm>
        </p:grpSpPr>
        <p:grpSp>
          <p:nvGrpSpPr>
            <p:cNvPr id="86" name="Group 18"/>
            <p:cNvGrpSpPr/>
            <p:nvPr/>
          </p:nvGrpSpPr>
          <p:grpSpPr>
            <a:xfrm>
              <a:off x="7467480" y="2895480"/>
              <a:ext cx="1152720" cy="1599840"/>
              <a:chOff x="7467480" y="2895480"/>
              <a:chExt cx="1152720" cy="1599840"/>
            </a:xfrm>
          </p:grpSpPr>
          <p:sp>
            <p:nvSpPr>
              <p:cNvPr id="87" name="Rectangle 19"/>
              <p:cNvSpPr/>
              <p:nvPr/>
            </p:nvSpPr>
            <p:spPr>
              <a:xfrm>
                <a:off x="7467480" y="2895480"/>
                <a:ext cx="576360" cy="32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20"/>
              <p:cNvSpPr/>
              <p:nvPr/>
            </p:nvSpPr>
            <p:spPr>
              <a:xfrm>
                <a:off x="8043840" y="2895480"/>
                <a:ext cx="576360" cy="32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21"/>
              <p:cNvSpPr/>
              <p:nvPr/>
            </p:nvSpPr>
            <p:spPr>
              <a:xfrm>
                <a:off x="7467480" y="3215520"/>
                <a:ext cx="576360" cy="31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2"/>
              <p:cNvSpPr/>
              <p:nvPr/>
            </p:nvSpPr>
            <p:spPr>
              <a:xfrm>
                <a:off x="8043840" y="3215520"/>
                <a:ext cx="576360" cy="31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3"/>
              <p:cNvSpPr/>
              <p:nvPr/>
            </p:nvSpPr>
            <p:spPr>
              <a:xfrm>
                <a:off x="7467480" y="3535560"/>
                <a:ext cx="576360" cy="31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4"/>
              <p:cNvSpPr/>
              <p:nvPr/>
            </p:nvSpPr>
            <p:spPr>
              <a:xfrm>
                <a:off x="8043840" y="3535560"/>
                <a:ext cx="576360" cy="31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5"/>
              <p:cNvSpPr/>
              <p:nvPr/>
            </p:nvSpPr>
            <p:spPr>
              <a:xfrm>
                <a:off x="7467480" y="3855240"/>
                <a:ext cx="576360" cy="32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6"/>
              <p:cNvSpPr/>
              <p:nvPr/>
            </p:nvSpPr>
            <p:spPr>
              <a:xfrm>
                <a:off x="8043840" y="3855240"/>
                <a:ext cx="576360" cy="32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7"/>
              <p:cNvSpPr/>
              <p:nvPr/>
            </p:nvSpPr>
            <p:spPr>
              <a:xfrm>
                <a:off x="7467480" y="4175640"/>
                <a:ext cx="576360" cy="319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8"/>
              <p:cNvSpPr/>
              <p:nvPr/>
            </p:nvSpPr>
            <p:spPr>
              <a:xfrm>
                <a:off x="8043840" y="4175640"/>
                <a:ext cx="576360" cy="31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Line 29"/>
            <p:cNvSpPr/>
            <p:nvPr/>
          </p:nvSpPr>
          <p:spPr>
            <a:xfrm>
              <a:off x="7467480" y="28954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0"/>
            <p:cNvSpPr/>
            <p:nvPr/>
          </p:nvSpPr>
          <p:spPr>
            <a:xfrm>
              <a:off x="8620200" y="28954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1"/>
            <p:cNvSpPr/>
            <p:nvPr/>
          </p:nvSpPr>
          <p:spPr>
            <a:xfrm>
              <a:off x="7467480" y="28954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2"/>
            <p:cNvSpPr/>
            <p:nvPr/>
          </p:nvSpPr>
          <p:spPr>
            <a:xfrm>
              <a:off x="7467480" y="44956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3"/>
          <p:cNvSpPr/>
          <p:nvPr/>
        </p:nvSpPr>
        <p:spPr>
          <a:xfrm>
            <a:off x="228600" y="4724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1752480" y="4724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3581280" y="4724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5562720" y="4724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7315200" y="4724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914400" y="4648320"/>
            <a:ext cx="609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39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368280" cy="99036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40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368280" cy="99036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41" descr=""/>
          <p:cNvPicPr/>
          <p:nvPr/>
        </p:nvPicPr>
        <p:blipFill>
          <a:blip r:embed="rId3"/>
          <a:stretch/>
        </p:blipFill>
        <p:spPr>
          <a:xfrm>
            <a:off x="4267080" y="4648320"/>
            <a:ext cx="368280" cy="99036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42" descr=""/>
          <p:cNvPicPr/>
          <p:nvPr/>
        </p:nvPicPr>
        <p:blipFill>
          <a:blip r:embed="rId4"/>
          <a:stretch/>
        </p:blipFill>
        <p:spPr>
          <a:xfrm>
            <a:off x="7923240" y="4648320"/>
            <a:ext cx="523800" cy="99036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43"/>
          <p:cNvGrpSpPr/>
          <p:nvPr/>
        </p:nvGrpSpPr>
        <p:grpSpPr>
          <a:xfrm>
            <a:off x="6248520" y="4952880"/>
            <a:ext cx="380880" cy="380880"/>
            <a:chOff x="6248520" y="4952880"/>
            <a:chExt cx="380880" cy="380880"/>
          </a:xfrm>
        </p:grpSpPr>
        <p:sp>
          <p:nvSpPr>
            <p:cNvPr id="112" name="Line 44"/>
            <p:cNvSpPr/>
            <p:nvPr/>
          </p:nvSpPr>
          <p:spPr>
            <a:xfrm flipH="1">
              <a:off x="6248520" y="4952880"/>
              <a:ext cx="380880" cy="38088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6248520" y="4952880"/>
              <a:ext cx="380880" cy="38088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6"/>
          <p:cNvGrpSpPr/>
          <p:nvPr/>
        </p:nvGrpSpPr>
        <p:grpSpPr>
          <a:xfrm>
            <a:off x="152280" y="2968200"/>
            <a:ext cx="1606320" cy="1603440"/>
            <a:chOff x="152280" y="2968200"/>
            <a:chExt cx="1606320" cy="1603440"/>
          </a:xfrm>
        </p:grpSpPr>
        <p:grpSp>
          <p:nvGrpSpPr>
            <p:cNvPr id="115" name="Group 47"/>
            <p:cNvGrpSpPr/>
            <p:nvPr/>
          </p:nvGrpSpPr>
          <p:grpSpPr>
            <a:xfrm>
              <a:off x="152280" y="3760920"/>
              <a:ext cx="795240" cy="689040"/>
              <a:chOff x="152280" y="3760920"/>
              <a:chExt cx="795240" cy="689040"/>
            </a:xfrm>
          </p:grpSpPr>
          <p:sp>
            <p:nvSpPr>
              <p:cNvPr id="116" name="Freeform 48"/>
              <p:cNvSpPr/>
              <p:nvPr/>
            </p:nvSpPr>
            <p:spPr>
              <a:xfrm>
                <a:off x="152280" y="3771000"/>
                <a:ext cx="495000" cy="678960"/>
              </a:xfrm>
              <a:custGeom>
                <a:avLst/>
                <a:gdLst/>
                <a:ahLst/>
                <a:rect l="l" t="t" r="r" b="b"/>
                <a:pathLst>
                  <a:path w="420" h="576">
                    <a:moveTo>
                      <a:pt x="0" y="0"/>
                    </a:moveTo>
                    <a:cubicBezTo>
                      <a:pt x="2" y="23"/>
                      <a:pt x="3" y="47"/>
                      <a:pt x="9" y="69"/>
                    </a:cubicBezTo>
                    <a:cubicBezTo>
                      <a:pt x="12" y="80"/>
                      <a:pt x="18" y="102"/>
                      <a:pt x="18" y="102"/>
                    </a:cubicBezTo>
                    <a:cubicBezTo>
                      <a:pt x="26" y="170"/>
                      <a:pt x="45" y="230"/>
                      <a:pt x="66" y="294"/>
                    </a:cubicBezTo>
                    <a:cubicBezTo>
                      <a:pt x="70" y="307"/>
                      <a:pt x="85" y="321"/>
                      <a:pt x="93" y="333"/>
                    </a:cubicBezTo>
                    <a:cubicBezTo>
                      <a:pt x="106" y="353"/>
                      <a:pt x="111" y="379"/>
                      <a:pt x="132" y="393"/>
                    </a:cubicBezTo>
                    <a:cubicBezTo>
                      <a:pt x="140" y="417"/>
                      <a:pt x="128" y="389"/>
                      <a:pt x="144" y="405"/>
                    </a:cubicBezTo>
                    <a:cubicBezTo>
                      <a:pt x="146" y="407"/>
                      <a:pt x="145" y="411"/>
                      <a:pt x="147" y="414"/>
                    </a:cubicBezTo>
                    <a:cubicBezTo>
                      <a:pt x="155" y="429"/>
                      <a:pt x="164" y="448"/>
                      <a:pt x="180" y="453"/>
                    </a:cubicBezTo>
                    <a:cubicBezTo>
                      <a:pt x="192" y="488"/>
                      <a:pt x="219" y="486"/>
                      <a:pt x="246" y="504"/>
                    </a:cubicBezTo>
                    <a:cubicBezTo>
                      <a:pt x="260" y="525"/>
                      <a:pt x="252" y="518"/>
                      <a:pt x="267" y="528"/>
                    </a:cubicBezTo>
                    <a:cubicBezTo>
                      <a:pt x="274" y="539"/>
                      <a:pt x="279" y="545"/>
                      <a:pt x="291" y="549"/>
                    </a:cubicBezTo>
                    <a:cubicBezTo>
                      <a:pt x="298" y="560"/>
                      <a:pt x="300" y="565"/>
                      <a:pt x="315" y="570"/>
                    </a:cubicBezTo>
                    <a:cubicBezTo>
                      <a:pt x="321" y="572"/>
                      <a:pt x="333" y="576"/>
                      <a:pt x="333" y="576"/>
                    </a:cubicBezTo>
                    <a:cubicBezTo>
                      <a:pt x="342" y="562"/>
                      <a:pt x="342" y="550"/>
                      <a:pt x="357" y="540"/>
                    </a:cubicBezTo>
                    <a:cubicBezTo>
                      <a:pt x="370" y="502"/>
                      <a:pt x="391" y="458"/>
                      <a:pt x="420" y="429"/>
                    </a:cubicBezTo>
                  </a:path>
                </a:pathLst>
              </a:custGeom>
              <a:solidFill>
                <a:srgbClr val="6dff6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49"/>
              <p:cNvSpPr/>
              <p:nvPr/>
            </p:nvSpPr>
            <p:spPr>
              <a:xfrm>
                <a:off x="155880" y="3760920"/>
                <a:ext cx="791640" cy="678960"/>
              </a:xfrm>
              <a:custGeom>
                <a:avLst/>
                <a:gdLst/>
                <a:ahLst/>
                <a:rect l="l" t="t" r="r" b="b"/>
                <a:pathLst>
                  <a:path w="672" h="576">
                    <a:moveTo>
                      <a:pt x="336" y="576"/>
                    </a:move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dff6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Oval 50"/>
            <p:cNvSpPr/>
            <p:nvPr/>
          </p:nvSpPr>
          <p:spPr>
            <a:xfrm>
              <a:off x="155880" y="2968200"/>
              <a:ext cx="1602720" cy="16034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155880" y="3760920"/>
              <a:ext cx="1602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537840" y="3066480"/>
              <a:ext cx="801720" cy="1388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 flipH="1">
              <a:off x="537840" y="3066480"/>
              <a:ext cx="801360" cy="1388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4"/>
          <p:cNvGrpSpPr/>
          <p:nvPr/>
        </p:nvGrpSpPr>
        <p:grpSpPr>
          <a:xfrm>
            <a:off x="5562720" y="3044880"/>
            <a:ext cx="1606320" cy="1603440"/>
            <a:chOff x="5562720" y="3044880"/>
            <a:chExt cx="1606320" cy="1603440"/>
          </a:xfrm>
        </p:grpSpPr>
        <p:grpSp>
          <p:nvGrpSpPr>
            <p:cNvPr id="123" name="Group 55"/>
            <p:cNvGrpSpPr/>
            <p:nvPr/>
          </p:nvGrpSpPr>
          <p:grpSpPr>
            <a:xfrm>
              <a:off x="5562720" y="3836880"/>
              <a:ext cx="794880" cy="690840"/>
              <a:chOff x="5562720" y="3836880"/>
              <a:chExt cx="794880" cy="690840"/>
            </a:xfrm>
          </p:grpSpPr>
          <p:sp>
            <p:nvSpPr>
              <p:cNvPr id="124" name="Freeform 56"/>
              <p:cNvSpPr/>
              <p:nvPr/>
            </p:nvSpPr>
            <p:spPr>
              <a:xfrm>
                <a:off x="5562720" y="3847320"/>
                <a:ext cx="495000" cy="680400"/>
              </a:xfrm>
              <a:custGeom>
                <a:avLst/>
                <a:gdLst/>
                <a:ahLst/>
                <a:rect l="l" t="t" r="r" b="b"/>
                <a:pathLst>
                  <a:path w="420" h="576">
                    <a:moveTo>
                      <a:pt x="0" y="0"/>
                    </a:moveTo>
                    <a:cubicBezTo>
                      <a:pt x="2" y="23"/>
                      <a:pt x="3" y="47"/>
                      <a:pt x="9" y="69"/>
                    </a:cubicBezTo>
                    <a:cubicBezTo>
                      <a:pt x="12" y="80"/>
                      <a:pt x="18" y="102"/>
                      <a:pt x="18" y="102"/>
                    </a:cubicBezTo>
                    <a:cubicBezTo>
                      <a:pt x="26" y="170"/>
                      <a:pt x="45" y="230"/>
                      <a:pt x="66" y="294"/>
                    </a:cubicBezTo>
                    <a:cubicBezTo>
                      <a:pt x="70" y="307"/>
                      <a:pt x="85" y="321"/>
                      <a:pt x="93" y="333"/>
                    </a:cubicBezTo>
                    <a:cubicBezTo>
                      <a:pt x="106" y="353"/>
                      <a:pt x="111" y="379"/>
                      <a:pt x="132" y="393"/>
                    </a:cubicBezTo>
                    <a:cubicBezTo>
                      <a:pt x="140" y="417"/>
                      <a:pt x="128" y="389"/>
                      <a:pt x="144" y="405"/>
                    </a:cubicBezTo>
                    <a:cubicBezTo>
                      <a:pt x="146" y="407"/>
                      <a:pt x="145" y="411"/>
                      <a:pt x="147" y="414"/>
                    </a:cubicBezTo>
                    <a:cubicBezTo>
                      <a:pt x="155" y="429"/>
                      <a:pt x="164" y="448"/>
                      <a:pt x="180" y="453"/>
                    </a:cubicBezTo>
                    <a:cubicBezTo>
                      <a:pt x="192" y="488"/>
                      <a:pt x="219" y="486"/>
                      <a:pt x="246" y="504"/>
                    </a:cubicBezTo>
                    <a:cubicBezTo>
                      <a:pt x="260" y="525"/>
                      <a:pt x="252" y="518"/>
                      <a:pt x="267" y="528"/>
                    </a:cubicBezTo>
                    <a:cubicBezTo>
                      <a:pt x="274" y="539"/>
                      <a:pt x="279" y="545"/>
                      <a:pt x="291" y="549"/>
                    </a:cubicBezTo>
                    <a:cubicBezTo>
                      <a:pt x="298" y="560"/>
                      <a:pt x="300" y="565"/>
                      <a:pt x="315" y="570"/>
                    </a:cubicBezTo>
                    <a:cubicBezTo>
                      <a:pt x="321" y="572"/>
                      <a:pt x="333" y="576"/>
                      <a:pt x="333" y="576"/>
                    </a:cubicBezTo>
                    <a:cubicBezTo>
                      <a:pt x="342" y="562"/>
                      <a:pt x="342" y="550"/>
                      <a:pt x="357" y="540"/>
                    </a:cubicBezTo>
                    <a:cubicBezTo>
                      <a:pt x="370" y="502"/>
                      <a:pt x="391" y="458"/>
                      <a:pt x="420" y="429"/>
                    </a:cubicBezTo>
                  </a:path>
                </a:pathLst>
              </a:custGeom>
              <a:solidFill>
                <a:srgbClr val="6dff6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7"/>
              <p:cNvSpPr/>
              <p:nvPr/>
            </p:nvSpPr>
            <p:spPr>
              <a:xfrm>
                <a:off x="5566320" y="3836880"/>
                <a:ext cx="791280" cy="680400"/>
              </a:xfrm>
              <a:custGeom>
                <a:avLst/>
                <a:gdLst/>
                <a:ahLst/>
                <a:rect l="l" t="t" r="r" b="b"/>
                <a:pathLst>
                  <a:path w="672" h="576">
                    <a:moveTo>
                      <a:pt x="336" y="576"/>
                    </a:move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dff6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58"/>
            <p:cNvSpPr/>
            <p:nvPr/>
          </p:nvSpPr>
          <p:spPr>
            <a:xfrm>
              <a:off x="5565600" y="3044880"/>
              <a:ext cx="1603440" cy="16034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9"/>
            <p:cNvSpPr/>
            <p:nvPr/>
          </p:nvSpPr>
          <p:spPr>
            <a:xfrm flipH="1">
              <a:off x="5562720" y="38354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60"/>
            <p:cNvSpPr/>
            <p:nvPr/>
          </p:nvSpPr>
          <p:spPr>
            <a:xfrm flipH="1">
              <a:off x="5962680" y="381636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1"/>
            <p:cNvSpPr/>
            <p:nvPr/>
          </p:nvSpPr>
          <p:spPr>
            <a:xfrm>
              <a:off x="6343560" y="3825720"/>
              <a:ext cx="45720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2"/>
            <p:cNvSpPr/>
            <p:nvPr/>
          </p:nvSpPr>
          <p:spPr>
            <a:xfrm>
              <a:off x="6029280" y="31212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3"/>
            <p:cNvSpPr/>
            <p:nvPr/>
          </p:nvSpPr>
          <p:spPr>
            <a:xfrm flipV="1">
              <a:off x="6334200" y="321588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42920" y="476280"/>
            <a:ext cx="889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猴子和小猪在一次吃西瓜的时候，也想用我们今天学习的分数，它们都想吃的多．小猴子想：“我要吃这个西瓜的　。”小猪想：“我肚皮大，吃的多，要吃这个西瓜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们俩谁吃的多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6" descr=""/>
          <p:cNvPicPr/>
          <p:nvPr/>
        </p:nvPicPr>
        <p:blipFill>
          <a:blip r:embed="rId1"/>
          <a:stretch/>
        </p:blipFill>
        <p:spPr>
          <a:xfrm>
            <a:off x="1187280" y="2666880"/>
            <a:ext cx="45900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1111111111111"/>
          <p:cNvPicPr/>
          <p:nvPr/>
        </p:nvPicPr>
        <p:blipFill>
          <a:blip r:embed="rId2"/>
          <a:stretch/>
        </p:blipFill>
        <p:spPr>
          <a:xfrm>
            <a:off x="539640" y="4292640"/>
            <a:ext cx="960480" cy="119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222222222"/>
          <p:cNvPicPr/>
          <p:nvPr/>
        </p:nvPicPr>
        <p:blipFill>
          <a:blip r:embed="rId3"/>
          <a:stretch/>
        </p:blipFill>
        <p:spPr>
          <a:xfrm>
            <a:off x="4788000" y="4292640"/>
            <a:ext cx="1282680" cy="12826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0"/>
          <p:cNvSpPr/>
          <p:nvPr/>
        </p:nvSpPr>
        <p:spPr>
          <a:xfrm>
            <a:off x="6012000" y="2924280"/>
            <a:ext cx="2449440" cy="1474560"/>
          </a:xfrm>
          <a:prstGeom prst="wedgeRoundRectCallout">
            <a:avLst>
              <a:gd name="adj1" fmla="val -45592"/>
              <a:gd name="adj2" fmla="val 805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1763640" y="3429000"/>
            <a:ext cx="2303640" cy="1368360"/>
          </a:xfrm>
          <a:prstGeom prst="wedgeEllipseCallout">
            <a:avLst>
              <a:gd name="adj1" fmla="val -60958"/>
              <a:gd name="adj2" fmla="val 52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33333"/>
          <p:cNvPicPr/>
          <p:nvPr/>
        </p:nvPicPr>
        <p:blipFill>
          <a:blip r:embed="rId4"/>
          <a:stretch/>
        </p:blipFill>
        <p:spPr>
          <a:xfrm>
            <a:off x="6588000" y="3141720"/>
            <a:ext cx="104796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33333"/>
          <p:cNvPicPr/>
          <p:nvPr/>
        </p:nvPicPr>
        <p:blipFill>
          <a:blip r:embed="rId5"/>
          <a:stretch/>
        </p:blipFill>
        <p:spPr>
          <a:xfrm>
            <a:off x="2411280" y="3500280"/>
            <a:ext cx="104796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Line 16"/>
          <p:cNvSpPr/>
          <p:nvPr/>
        </p:nvSpPr>
        <p:spPr>
          <a:xfrm>
            <a:off x="2916360" y="3500280"/>
            <a:ext cx="0" cy="107964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7093080" y="3141720"/>
            <a:ext cx="0" cy="11509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6588000" y="3716280"/>
            <a:ext cx="107964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7378560" y="1762200"/>
            <a:ext cx="649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7" descr="未命名1"/>
          <p:cNvPicPr/>
          <p:nvPr/>
        </p:nvPicPr>
        <p:blipFill>
          <a:blip r:embed="rId1"/>
          <a:stretch/>
        </p:blipFill>
        <p:spPr>
          <a:xfrm>
            <a:off x="-324000" y="2700360"/>
            <a:ext cx="324036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8"/>
          <p:cNvSpPr/>
          <p:nvPr/>
        </p:nvSpPr>
        <p:spPr>
          <a:xfrm>
            <a:off x="395280" y="3357720"/>
            <a:ext cx="86364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9" descr="未命名4"/>
          <p:cNvPicPr/>
          <p:nvPr/>
        </p:nvPicPr>
        <p:blipFill>
          <a:blip r:embed="rId2"/>
          <a:stretch/>
        </p:blipFill>
        <p:spPr>
          <a:xfrm>
            <a:off x="2411280" y="285264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0"/>
          <p:cNvSpPr/>
          <p:nvPr/>
        </p:nvSpPr>
        <p:spPr>
          <a:xfrm>
            <a:off x="3708360" y="3429000"/>
            <a:ext cx="57636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未命名5"/>
          <p:cNvPicPr/>
          <p:nvPr/>
        </p:nvPicPr>
        <p:blipFill>
          <a:blip r:embed="rId3"/>
          <a:stretch/>
        </p:blipFill>
        <p:spPr>
          <a:xfrm>
            <a:off x="6608880" y="2637000"/>
            <a:ext cx="4084560" cy="3063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2"/>
          <p:cNvSpPr/>
          <p:nvPr/>
        </p:nvSpPr>
        <p:spPr>
          <a:xfrm>
            <a:off x="7308720" y="3284640"/>
            <a:ext cx="3603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3"/>
          <p:cNvSpPr/>
          <p:nvPr/>
        </p:nvSpPr>
        <p:spPr>
          <a:xfrm>
            <a:off x="395280" y="981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从这些图中发现什么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2484360" y="5373720"/>
            <a:ext cx="54025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　　　１　　　１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　＞　－　＞　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　　　４　　　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2:17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21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