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C6AA-8DE9-4FDB-A2C4-E2A7EF6BA746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9B93-2392-4BF8-985A-C0E0B351261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7511-2A64-453E-880C-1045D2FEC615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人教logo"/>
          <p:cNvPicPr/>
          <p:nvPr/>
        </p:nvPicPr>
        <p:blipFill>
          <a:blip r:embed="rId2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1832040" y="765000"/>
            <a:ext cx="31003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楷体_GB2312"/>
                <a:ea typeface="宋体"/>
              </a:rPr>
              <a:t>负数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1692360" y="1916280"/>
            <a:ext cx="485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温度中的负数 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存折上的负数 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6" name="Picture 5" descr="\\192.168.1.3\临时中转站1_以本人姓名建目录\开发中心-多媒体部\02美术部\晨会文件\04宁煌\人教数学教参\01.png"/>
          <p:cNvPicPr/>
          <p:nvPr/>
        </p:nvPicPr>
        <p:blipFill>
          <a:blip r:embed="rId3"/>
          <a:stretch/>
        </p:blipFill>
        <p:spPr>
          <a:xfrm>
            <a:off x="828720" y="91908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矩形 8"/>
          <p:cNvSpPr/>
          <p:nvPr/>
        </p:nvSpPr>
        <p:spPr>
          <a:xfrm>
            <a:off x="3863880" y="6062760"/>
            <a:ext cx="6261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7"/>
          <p:cNvSpPr/>
          <p:nvPr/>
        </p:nvSpPr>
        <p:spPr>
          <a:xfrm>
            <a:off x="325440" y="2060640"/>
            <a:ext cx="66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那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是正数，还是负数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强调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作为正数和负数的分界点，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它既不是正数也不是负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7601040" y="2276640"/>
            <a:ext cx="1189080" cy="2952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8"/>
          <p:cNvSpPr/>
          <p:nvPr/>
        </p:nvSpPr>
        <p:spPr>
          <a:xfrm>
            <a:off x="7618320" y="3440160"/>
            <a:ext cx="43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7618320" y="3219480"/>
            <a:ext cx="43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7618320" y="2998800"/>
            <a:ext cx="43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7618320" y="2776680"/>
            <a:ext cx="43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7618320" y="2556000"/>
            <a:ext cx="43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7380360" y="3797280"/>
            <a:ext cx="6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－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7345440" y="40165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－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7265880" y="4227480"/>
            <a:ext cx="8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－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7378560" y="4457880"/>
            <a:ext cx="6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－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7618320" y="3662280"/>
            <a:ext cx="43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黑体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TextBox 22"/>
          <p:cNvSpPr/>
          <p:nvPr/>
        </p:nvSpPr>
        <p:spPr>
          <a:xfrm>
            <a:off x="88920" y="318132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如果说我们以前所认识的数只分为正数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那么现在你能把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数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重新进行分类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72" name="图示 23" descr=""/>
          <p:cNvPicPr/>
          <p:nvPr/>
        </p:nvPicPr>
        <p:blipFill>
          <a:blip r:embed="rId2"/>
          <a:stretch/>
        </p:blipFill>
        <p:spPr>
          <a:xfrm>
            <a:off x="2411280" y="3932280"/>
            <a:ext cx="3384720" cy="22557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324000" y="417600"/>
            <a:ext cx="8362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二、联系实际，认识负数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0960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认识温度中的负数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7"/>
          <p:cNvSpPr/>
          <p:nvPr/>
        </p:nvSpPr>
        <p:spPr>
          <a:xfrm>
            <a:off x="900000" y="57294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上面这些数各表示什么？你是怎样知道的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417600"/>
            <a:ext cx="8362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二、联系实际，认识负数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0960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认识存折中的负数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8" name="Group 15"/>
          <p:cNvGrpSpPr/>
          <p:nvPr/>
        </p:nvGrpSpPr>
        <p:grpSpPr>
          <a:xfrm>
            <a:off x="1000080" y="2400480"/>
            <a:ext cx="6645240" cy="3333600"/>
            <a:chOff x="1000080" y="2400480"/>
            <a:chExt cx="6645240" cy="3333600"/>
          </a:xfrm>
        </p:grpSpPr>
        <p:pic>
          <p:nvPicPr>
            <p:cNvPr id="179" name="Picture 12" descr="6B03"/>
            <p:cNvPicPr/>
            <p:nvPr/>
          </p:nvPicPr>
          <p:blipFill>
            <a:blip r:embed="rId1"/>
            <a:stretch/>
          </p:blipFill>
          <p:spPr>
            <a:xfrm>
              <a:off x="1000080" y="2400480"/>
              <a:ext cx="6551640" cy="333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5" descr="男天使"/>
            <p:cNvPicPr/>
            <p:nvPr/>
          </p:nvPicPr>
          <p:blipFill>
            <a:blip r:embed="rId2"/>
            <a:stretch/>
          </p:blipFill>
          <p:spPr>
            <a:xfrm>
              <a:off x="6564240" y="4086360"/>
              <a:ext cx="108108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TextBox 4"/>
          <p:cNvSpPr/>
          <p:nvPr/>
        </p:nvSpPr>
        <p:spPr>
          <a:xfrm>
            <a:off x="950760" y="2060640"/>
            <a:ext cx="65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除了在温度计中有正、负数，存折中也有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20070325153159985"/>
          <p:cNvPicPr/>
          <p:nvPr/>
        </p:nvPicPr>
        <p:blipFill>
          <a:blip r:embed="rId1"/>
          <a:stretch/>
        </p:blipFill>
        <p:spPr>
          <a:xfrm>
            <a:off x="1619280" y="2565360"/>
            <a:ext cx="6013440" cy="3589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905040" y="2965320"/>
            <a:ext cx="72673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84" name="Picture 4" descr="20070325153159985"/>
          <p:cNvPicPr/>
          <p:nvPr/>
        </p:nvPicPr>
        <p:blipFill>
          <a:blip r:embed="rId2"/>
          <a:stretch/>
        </p:blipFill>
        <p:spPr>
          <a:xfrm>
            <a:off x="1585800" y="2570040"/>
            <a:ext cx="6013440" cy="35895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885960" y="148428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填空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珠穆朗玛峰大约比海平面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84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米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吐鲁番盆地大约比海平面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米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Line 6"/>
          <p:cNvSpPr/>
          <p:nvPr/>
        </p:nvSpPr>
        <p:spPr>
          <a:xfrm flipH="1" flipV="1">
            <a:off x="1542600" y="4808520"/>
            <a:ext cx="5977080" cy="46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5938920" y="4952880"/>
            <a:ext cx="10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海平面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2798640" y="53420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       ）米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1514520" y="2216160"/>
            <a:ext cx="39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      ）米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1908000" y="22161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884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166920" y="5357880"/>
            <a:ext cx="9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宋体"/>
                <a:ea typeface="Arial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5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324000" y="417600"/>
            <a:ext cx="8362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三、练习巩固，强化认识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826920" y="507204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里海是世界上最大的咸水湖，水面的海拔高度是</a:t>
            </a:r>
            <a:r>
              <a:rPr b="1" lang="zh-CN" sz="2000" spc="-1" strike="noStrike">
                <a:solidFill>
                  <a:srgbClr val="ff3300"/>
                </a:solidFill>
                <a:latin typeface="宋体"/>
                <a:ea typeface="Arial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28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米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5076720" y="554040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太平洋的马里亚纳海沟是世界上最深的海沟，最深处海拔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Arial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1034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米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893880" y="1553040"/>
            <a:ext cx="749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说一说下面的两个海拔高度是高于海平面还是低于海平面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96" name="Picture 2" descr="c:\DOCUME~1\ADMINI~1\APPLIC~1\360se6\USERDA~1\Temp\WZRKX1~1.GIF"/>
          <p:cNvPicPr/>
          <p:nvPr/>
        </p:nvPicPr>
        <p:blipFill>
          <a:blip r:embed="rId1"/>
          <a:stretch/>
        </p:blipFill>
        <p:spPr>
          <a:xfrm>
            <a:off x="1004760" y="2387520"/>
            <a:ext cx="3311640" cy="244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DOCUME~1\ADMINI~1\APPLIC~1\360se6\USERDA~1\Temp\201101~1.JPG"/>
          <p:cNvPicPr/>
          <p:nvPr/>
        </p:nvPicPr>
        <p:blipFill>
          <a:blip r:embed="rId2"/>
          <a:srcRect l="0" t="0" r="0" b="18354"/>
          <a:stretch/>
        </p:blipFill>
        <p:spPr>
          <a:xfrm>
            <a:off x="5148360" y="2205000"/>
            <a:ext cx="2844720" cy="30956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2"/>
          <p:cNvSpPr/>
          <p:nvPr/>
        </p:nvSpPr>
        <p:spPr>
          <a:xfrm>
            <a:off x="324000" y="417600"/>
            <a:ext cx="8362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三、练习巩固，强化认识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0" name="矩形 6"/>
          <p:cNvSpPr/>
          <p:nvPr/>
        </p:nvSpPr>
        <p:spPr>
          <a:xfrm>
            <a:off x="1395360" y="270828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做一做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417600"/>
            <a:ext cx="8362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D4E5-5B1E-474A-B394-D8EA701D392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2"/>
          <p:cNvSpPr/>
          <p:nvPr/>
        </p:nvSpPr>
        <p:spPr>
          <a:xfrm>
            <a:off x="1979640" y="434988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417240"/>
            <a:ext cx="8362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创设情境，产生需求，认识负数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281160" y="1508040"/>
            <a:ext cx="51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创设情境，产生需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1403280" y="4149720"/>
            <a:ext cx="4321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" name="TextBox 22"/>
          <p:cNvSpPr/>
          <p:nvPr/>
        </p:nvSpPr>
        <p:spPr>
          <a:xfrm>
            <a:off x="1349280" y="535320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问：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图书管理员老师遇到了什么问题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你能帮助她记录一下吗？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3" name="TextBox 23"/>
          <p:cNvSpPr/>
          <p:nvPr/>
        </p:nvSpPr>
        <p:spPr>
          <a:xfrm>
            <a:off x="2122560" y="6135840"/>
            <a:ext cx="621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明同学是这样记录的，你觉得他把情况表示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清楚了吗？你是怎样想的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157800" y="2708280"/>
          <a:ext cx="2590920" cy="1262160"/>
        </p:xfrm>
        <a:graphic>
          <a:graphicData uri="http://schemas.openxmlformats.org/drawingml/2006/table">
            <a:tbl>
              <a:tblPr/>
              <a:tblGrid>
                <a:gridCol w="1216080"/>
                <a:gridCol w="1374840"/>
              </a:tblGrid>
              <a:tr h="396720"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图书借出、还回记录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借出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1c1c1c"/>
                          </a:solidFill>
                          <a:latin typeface="楷体_GB2312"/>
                        </a:rPr>
                        <a:t>本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还回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1c1c1c"/>
                          </a:solidFill>
                          <a:latin typeface="楷体_GB2312"/>
                        </a:rPr>
                        <a:t>本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Picture 55" descr="u1jx01_2"/>
          <p:cNvPicPr/>
          <p:nvPr/>
        </p:nvPicPr>
        <p:blipFill>
          <a:blip r:embed="rId1"/>
          <a:stretch/>
        </p:blipFill>
        <p:spPr>
          <a:xfrm>
            <a:off x="1547640" y="2235240"/>
            <a:ext cx="4364280" cy="317196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27"/>
          <p:cNvSpPr/>
          <p:nvPr/>
        </p:nvSpPr>
        <p:spPr>
          <a:xfrm>
            <a:off x="3203640" y="2041560"/>
            <a:ext cx="2665440" cy="1079640"/>
          </a:xfrm>
          <a:prstGeom prst="wedgeRoundRectCallout">
            <a:avLst>
              <a:gd name="adj1" fmla="val -61199"/>
              <a:gd name="adj2" fmla="val -338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楷体_GB2312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Rectangle 58"/>
          <p:cNvSpPr/>
          <p:nvPr/>
        </p:nvSpPr>
        <p:spPr>
          <a:xfrm>
            <a:off x="3276720" y="207648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今天还回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本、借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本。怎么把这些记录下来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22"/>
          <p:cNvSpPr/>
          <p:nvPr/>
        </p:nvSpPr>
        <p:spPr>
          <a:xfrm>
            <a:off x="900000" y="53769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问：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怎样记录就能把情况表示清楚了呢？请你想想办法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TextBox 25"/>
          <p:cNvSpPr/>
          <p:nvPr/>
        </p:nvSpPr>
        <p:spPr>
          <a:xfrm>
            <a:off x="1673280" y="5661000"/>
            <a:ext cx="729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有的同学用文字，有的同学用符号，这些不同的表示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方法之间，有没有相同的地方呢？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监控：都是成对儿的，意思相反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324000" y="417600"/>
            <a:ext cx="8362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创设情境，产生需求，认识负数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81160" y="1508040"/>
            <a:ext cx="544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解决问题，经历符号化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02" name="Picture 79" descr="u1jx01_2"/>
          <p:cNvPicPr/>
          <p:nvPr/>
        </p:nvPicPr>
        <p:blipFill>
          <a:blip r:embed="rId1"/>
          <a:stretch/>
        </p:blipFill>
        <p:spPr>
          <a:xfrm>
            <a:off x="1547640" y="2206800"/>
            <a:ext cx="4364280" cy="31716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80"/>
          <p:cNvGrpSpPr/>
          <p:nvPr/>
        </p:nvGrpSpPr>
        <p:grpSpPr>
          <a:xfrm>
            <a:off x="3203640" y="2013120"/>
            <a:ext cx="2736720" cy="1079280"/>
            <a:chOff x="3203640" y="2013120"/>
            <a:chExt cx="2736720" cy="1079280"/>
          </a:xfrm>
        </p:grpSpPr>
        <p:sp>
          <p:nvSpPr>
            <p:cNvPr id="104" name="AutoShape 27"/>
            <p:cNvSpPr/>
            <p:nvPr/>
          </p:nvSpPr>
          <p:spPr>
            <a:xfrm>
              <a:off x="3203640" y="2013120"/>
              <a:ext cx="2665440" cy="1079280"/>
            </a:xfrm>
            <a:prstGeom prst="wedgeRoundRectCallout">
              <a:avLst>
                <a:gd name="adj1" fmla="val -61199"/>
                <a:gd name="adj2" fmla="val -338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99ff"/>
                  </a:solidFill>
                  <a:latin typeface="楷体_GB2312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5" name="Rectangle 82"/>
            <p:cNvSpPr/>
            <p:nvPr/>
          </p:nvSpPr>
          <p:spPr>
            <a:xfrm>
              <a:off x="3276720" y="2068560"/>
              <a:ext cx="26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今天还回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本、借出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本。怎么把这些记录下来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aphicFrame>
        <p:nvGraphicFramePr>
          <p:cNvPr id="106" name=""/>
          <p:cNvGraphicFramePr/>
          <p:nvPr/>
        </p:nvGraphicFramePr>
        <p:xfrm>
          <a:off x="6084720" y="2708280"/>
          <a:ext cx="2590920" cy="1262160"/>
        </p:xfrm>
        <a:graphic>
          <a:graphicData uri="http://schemas.openxmlformats.org/drawingml/2006/table">
            <a:tbl>
              <a:tblPr/>
              <a:tblGrid>
                <a:gridCol w="1216080"/>
                <a:gridCol w="1374840"/>
              </a:tblGrid>
              <a:tr h="396720"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图书借出、还回记录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借出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1c1c1c"/>
                          </a:solidFill>
                          <a:latin typeface="楷体_GB2312"/>
                        </a:rPr>
                        <a:t>本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还回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1c1c1c"/>
                          </a:solidFill>
                          <a:latin typeface="楷体_GB2312"/>
                        </a:rPr>
                        <a:t>本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5"/>
          <p:cNvSpPr/>
          <p:nvPr/>
        </p:nvSpPr>
        <p:spPr>
          <a:xfrm>
            <a:off x="865080" y="2133720"/>
            <a:ext cx="737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像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这样的数叫负数；这个数读作：负十五。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－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这里有了新的意义和作用，叫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负号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是正号。像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是一个正数，读作：正十五。我们可以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前面加上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也可以省略不写。其实，过去我们认识的很多数都是正数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324000" y="417600"/>
            <a:ext cx="8362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创设情境，产生需求，认识负数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81160" y="1508040"/>
            <a:ext cx="544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认识负数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0" name="文本框 1"/>
          <p:cNvSpPr/>
          <p:nvPr/>
        </p:nvSpPr>
        <p:spPr>
          <a:xfrm>
            <a:off x="281160" y="5727600"/>
            <a:ext cx="740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281160" y="1508040"/>
            <a:ext cx="544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四）介绍历史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1116000" y="2057400"/>
            <a:ext cx="65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看来以往学过的数已经不能清楚地表示出相反意义的量。那该怎样表示呢？数学家们也经历了一个漫长的过程。我们一起来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324000" y="417600"/>
            <a:ext cx="8362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创设情境，产生需求，认识负数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4" name="Picture 6" descr="4"/>
          <p:cNvPicPr/>
          <p:nvPr/>
        </p:nvPicPr>
        <p:blipFill>
          <a:blip r:embed="rId1"/>
          <a:stretch/>
        </p:blipFill>
        <p:spPr>
          <a:xfrm>
            <a:off x="2120760" y="3284640"/>
            <a:ext cx="39610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6" descr=""/>
          <p:cNvPicPr/>
          <p:nvPr/>
        </p:nvPicPr>
        <p:blipFill>
          <a:blip r:embed="rId1"/>
          <a:stretch/>
        </p:blipFill>
        <p:spPr>
          <a:xfrm>
            <a:off x="200160" y="185760"/>
            <a:ext cx="874368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309600" y="1488960"/>
            <a:ext cx="51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五）联系生活，巩固读写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324000" y="417600"/>
            <a:ext cx="8362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创设情境，产生需求，认识负数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900000" y="4029120"/>
            <a:ext cx="7848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你能举出生活中一组相反意义的量，并用正、负数来表示吗？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1547640" y="443880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监控：这样的正、负数能写完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结：像过去我们熟悉的这些整数、小数、分数等都是正数，          也叫正整数、正小数、正分数；在它们的前面添上负号，就成  了负整数、负小数、负分数，统称负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892080" y="21448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请你用正数和负数表示出每组信息中相反意义的量</a:t>
            </a: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①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李叔叔做生意，二月份盈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宋体"/>
              </a:rPr>
              <a:t>250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元，三月份亏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宋体"/>
              </a:rPr>
              <a:t>20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②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军比标准体重重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宋体"/>
              </a:rPr>
              <a:t>2.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千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美轻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宋体"/>
              </a:rPr>
              <a:t>1.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千克</a:t>
            </a: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③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个蓄水池夏季水位上升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米，冬季水位下降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米</a:t>
            </a: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1" name="Group 10"/>
          <p:cNvGrpSpPr/>
          <p:nvPr/>
        </p:nvGrpSpPr>
        <p:grpSpPr>
          <a:xfrm>
            <a:off x="4695840" y="3090960"/>
            <a:ext cx="504720" cy="815400"/>
            <a:chOff x="4695840" y="3090960"/>
            <a:chExt cx="504720" cy="815400"/>
          </a:xfrm>
        </p:grpSpPr>
        <p:sp>
          <p:nvSpPr>
            <p:cNvPr id="122" name="Text Box 11"/>
            <p:cNvSpPr/>
            <p:nvPr/>
          </p:nvSpPr>
          <p:spPr>
            <a:xfrm>
              <a:off x="4695840" y="3446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>
              <a:off x="4784760" y="30909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4" name="Line 13"/>
            <p:cNvSpPr/>
            <p:nvPr/>
          </p:nvSpPr>
          <p:spPr>
            <a:xfrm>
              <a:off x="4762440" y="35100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25" name="Group 14"/>
          <p:cNvGrpSpPr/>
          <p:nvPr/>
        </p:nvGrpSpPr>
        <p:grpSpPr>
          <a:xfrm>
            <a:off x="7140600" y="3078000"/>
            <a:ext cx="847800" cy="815400"/>
            <a:chOff x="7140600" y="3078000"/>
            <a:chExt cx="847800" cy="815400"/>
          </a:xfrm>
        </p:grpSpPr>
        <p:sp>
          <p:nvSpPr>
            <p:cNvPr id="126" name="Text Box 15"/>
            <p:cNvSpPr/>
            <p:nvPr/>
          </p:nvSpPr>
          <p:spPr>
            <a:xfrm>
              <a:off x="7140600" y="3433680"/>
              <a:ext cx="7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7231320" y="307800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8" name="Line 17"/>
            <p:cNvSpPr/>
            <p:nvPr/>
          </p:nvSpPr>
          <p:spPr>
            <a:xfrm>
              <a:off x="7275600" y="34970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7"/>
          <p:cNvSpPr/>
          <p:nvPr/>
        </p:nvSpPr>
        <p:spPr>
          <a:xfrm>
            <a:off x="1177920" y="48592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问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请你根据上图中的信息填写下面的表格，然后说一说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你填写的各数表示什么意思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609560" y="5675400"/>
          <a:ext cx="6408720" cy="1104840"/>
        </p:xfrm>
        <a:graphic>
          <a:graphicData uri="http://schemas.openxmlformats.org/drawingml/2006/table">
            <a:tbl>
              <a:tblPr/>
              <a:tblGrid>
                <a:gridCol w="1224000"/>
                <a:gridCol w="957240"/>
                <a:gridCol w="844560"/>
                <a:gridCol w="846000"/>
                <a:gridCol w="846360"/>
                <a:gridCol w="844560"/>
                <a:gridCol w="846000"/>
              </a:tblGrid>
              <a:tr h="363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城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北京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哈尔滨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上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武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长沙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海口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最高气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最低气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Rectangle 2"/>
          <p:cNvSpPr/>
          <p:nvPr/>
        </p:nvSpPr>
        <p:spPr>
          <a:xfrm>
            <a:off x="324000" y="417600"/>
            <a:ext cx="73436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二、联系实际，认识负数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309600" y="139392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认识温度中的负数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33" name="Picture 46" descr="U1ppt题号1"/>
          <p:cNvPicPr/>
          <p:nvPr/>
        </p:nvPicPr>
        <p:blipFill>
          <a:blip r:embed="rId1"/>
          <a:stretch/>
        </p:blipFill>
        <p:spPr>
          <a:xfrm>
            <a:off x="831960" y="1922400"/>
            <a:ext cx="863640" cy="6588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1557360" y="1898640"/>
            <a:ext cx="7345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下面是中央气象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日下午发布的六个城市的气温预报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时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35" name="Picture 49" descr="6B02"/>
          <p:cNvPicPr/>
          <p:nvPr/>
        </p:nvPicPr>
        <p:blipFill>
          <a:blip r:embed="rId2"/>
          <a:stretch/>
        </p:blipFill>
        <p:spPr>
          <a:xfrm>
            <a:off x="2452680" y="2617920"/>
            <a:ext cx="42069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"/>
                            </p:stCondLst>
                            <p:childTnLst>
                              <p:par>
                                <p:cTn id="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7"/>
          <p:cNvSpPr/>
          <p:nvPr/>
        </p:nvSpPr>
        <p:spPr>
          <a:xfrm>
            <a:off x="754200" y="356076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从表中我们看到北京的最高气温是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上海的最高气温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你能在温度计上找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这两个温度所在位置吗？你是怎样想的。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55640" y="2060640"/>
          <a:ext cx="5688000" cy="1163520"/>
        </p:xfrm>
        <a:graphic>
          <a:graphicData uri="http://schemas.openxmlformats.org/drawingml/2006/table">
            <a:tbl>
              <a:tblPr/>
              <a:tblGrid>
                <a:gridCol w="1295280"/>
                <a:gridCol w="733680"/>
                <a:gridCol w="731880"/>
                <a:gridCol w="731520"/>
                <a:gridCol w="731880"/>
                <a:gridCol w="731880"/>
                <a:gridCol w="731880"/>
              </a:tblGrid>
              <a:tr h="370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城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北京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哈尔滨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上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武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长沙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海口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最高气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－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－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最低气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－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－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－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椭圆 9"/>
          <p:cNvSpPr/>
          <p:nvPr/>
        </p:nvSpPr>
        <p:spPr>
          <a:xfrm>
            <a:off x="2205000" y="2502000"/>
            <a:ext cx="504720" cy="288720"/>
          </a:xfrm>
          <a:prstGeom prst="ellips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椭圆 10"/>
          <p:cNvSpPr/>
          <p:nvPr/>
        </p:nvSpPr>
        <p:spPr>
          <a:xfrm>
            <a:off x="3625920" y="2502000"/>
            <a:ext cx="504720" cy="288720"/>
          </a:xfrm>
          <a:prstGeom prst="ellips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0" name="Group 71"/>
          <p:cNvGrpSpPr/>
          <p:nvPr/>
        </p:nvGrpSpPr>
        <p:grpSpPr>
          <a:xfrm>
            <a:off x="6837480" y="1819440"/>
            <a:ext cx="1563480" cy="2952720"/>
            <a:chOff x="6837480" y="1819440"/>
            <a:chExt cx="1563480" cy="2952720"/>
          </a:xfrm>
        </p:grpSpPr>
        <p:grpSp>
          <p:nvGrpSpPr>
            <p:cNvPr id="141" name="Group 70"/>
            <p:cNvGrpSpPr/>
            <p:nvPr/>
          </p:nvGrpSpPr>
          <p:grpSpPr>
            <a:xfrm>
              <a:off x="6837480" y="1819440"/>
              <a:ext cx="1563480" cy="2952720"/>
              <a:chOff x="6837480" y="1819440"/>
              <a:chExt cx="1563480" cy="2952720"/>
            </a:xfrm>
          </p:grpSpPr>
          <p:grpSp>
            <p:nvGrpSpPr>
              <p:cNvPr id="142" name="Group 69"/>
              <p:cNvGrpSpPr/>
              <p:nvPr/>
            </p:nvGrpSpPr>
            <p:grpSpPr>
              <a:xfrm>
                <a:off x="6837480" y="1819440"/>
                <a:ext cx="1563480" cy="2952720"/>
                <a:chOff x="6837480" y="1819440"/>
                <a:chExt cx="1563480" cy="2952720"/>
              </a:xfrm>
            </p:grpSpPr>
            <p:pic>
              <p:nvPicPr>
                <p:cNvPr id="143" name="Picture 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115040" y="1819440"/>
                  <a:ext cx="1285920" cy="295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" name="Text Box 13"/>
                <p:cNvSpPr/>
                <p:nvPr/>
              </p:nvSpPr>
              <p:spPr>
                <a:xfrm>
                  <a:off x="6848640" y="3343320"/>
                  <a:ext cx="78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宋体"/>
                      <a:ea typeface="Arial"/>
                    </a:rPr>
                    <a:t>－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1</a:t>
                  </a:r>
                  <a:endParaRPr b="1" lang="en-US" sz="14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5" name="Text Box 15"/>
                <p:cNvSpPr/>
                <p:nvPr/>
              </p:nvSpPr>
              <p:spPr>
                <a:xfrm>
                  <a:off x="6851520" y="3780000"/>
                  <a:ext cx="78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宋体"/>
                      <a:ea typeface="Arial"/>
                    </a:rPr>
                    <a:t>－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3</a:t>
                  </a:r>
                  <a:endParaRPr b="1" lang="en-US" sz="14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6" name="Text Box 16"/>
                <p:cNvSpPr/>
                <p:nvPr/>
              </p:nvSpPr>
              <p:spPr>
                <a:xfrm>
                  <a:off x="6837480" y="4013280"/>
                  <a:ext cx="790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宋体"/>
                      <a:ea typeface="Arial"/>
                    </a:rPr>
                    <a:t>－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4</a:t>
                  </a:r>
                  <a:endParaRPr b="1" lang="en-US" sz="14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147" name="Text Box 8"/>
              <p:cNvSpPr/>
              <p:nvPr/>
            </p:nvSpPr>
            <p:spPr>
              <a:xfrm>
                <a:off x="7156440" y="3008160"/>
                <a:ext cx="430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8" name="Text Box 9"/>
              <p:cNvSpPr/>
              <p:nvPr/>
            </p:nvSpPr>
            <p:spPr>
              <a:xfrm>
                <a:off x="7156440" y="2787480"/>
                <a:ext cx="430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2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9" name="Text Box 11"/>
              <p:cNvSpPr/>
              <p:nvPr/>
            </p:nvSpPr>
            <p:spPr>
              <a:xfrm>
                <a:off x="7156440" y="2344680"/>
                <a:ext cx="430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4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0" name="Text Box 12"/>
              <p:cNvSpPr/>
              <p:nvPr/>
            </p:nvSpPr>
            <p:spPr>
              <a:xfrm>
                <a:off x="7156440" y="2124000"/>
                <a:ext cx="430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5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1" name="Text Box 14"/>
              <p:cNvSpPr/>
              <p:nvPr/>
            </p:nvSpPr>
            <p:spPr>
              <a:xfrm>
                <a:off x="6851520" y="3554280"/>
                <a:ext cx="78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Arial"/>
                  </a:rPr>
                  <a:t>－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2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2" name="Text Box 8"/>
              <p:cNvSpPr/>
              <p:nvPr/>
            </p:nvSpPr>
            <p:spPr>
              <a:xfrm>
                <a:off x="7156440" y="3230640"/>
                <a:ext cx="430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  <a:ea typeface="黑体"/>
                  </a:rPr>
                  <a:t>0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53" name="Text Box 10"/>
            <p:cNvSpPr/>
            <p:nvPr/>
          </p:nvSpPr>
          <p:spPr>
            <a:xfrm>
              <a:off x="7159680" y="2565360"/>
              <a:ext cx="43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54" name="TextBox 26"/>
          <p:cNvSpPr/>
          <p:nvPr/>
        </p:nvSpPr>
        <p:spPr>
          <a:xfrm>
            <a:off x="746280" y="4941720"/>
            <a:ext cx="68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现在你能标出这两个温度所在位置吗？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你是怎样快速找到它们的位置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强调：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为分界点，零上温度都用正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来表示，零下温度都用负数来表示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椭圆 27"/>
          <p:cNvSpPr/>
          <p:nvPr/>
        </p:nvSpPr>
        <p:spPr>
          <a:xfrm>
            <a:off x="7130880" y="2349360"/>
            <a:ext cx="503280" cy="287640"/>
          </a:xfrm>
          <a:prstGeom prst="ellips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椭圆 28"/>
          <p:cNvSpPr/>
          <p:nvPr/>
        </p:nvSpPr>
        <p:spPr>
          <a:xfrm>
            <a:off x="7083360" y="4076640"/>
            <a:ext cx="503280" cy="287280"/>
          </a:xfrm>
          <a:prstGeom prst="ellips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24000" y="404640"/>
            <a:ext cx="8362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二、联系实际，认识负数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0960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认识温度中的负数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07:07:0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0:29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