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7EB-C749-45AA-BEDB-CCB53FF5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9DB-98CF-4D54-BCC9-A00E6FE8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18E-0A24-4F31-BEBB-89FA48FE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EE2A-A5B1-4274-AABC-CF754FDE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F877-364F-412F-B723-C88E85DE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C832-3FD3-428D-8625-4EB5058A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A3D9-8A52-4330-A87A-9D599829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201-8BB4-4DA9-B0D4-83370D83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03AF-BDBB-4E11-A157-B45D301F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25C-0E07-4AB3-8F2C-0D5E254B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EEBB-6EF0-494D-94BD-9D012479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9B95-5AE9-4F4F-82F8-E46592C0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E6C9-B781-4AE7-B579-0DC2B9011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2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一线潮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3"/>
          <p:cNvSpPr txBox="1"/>
          <p:nvPr/>
        </p:nvSpPr>
        <p:spPr>
          <a:xfrm>
            <a:off x="3048120" y="1905120"/>
            <a:ext cx="2514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观潮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800280" y="9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10"/>
          <p:cNvGrpSpPr/>
          <p:nvPr/>
        </p:nvGrpSpPr>
        <p:grpSpPr>
          <a:xfrm>
            <a:off x="2978280" y="98280"/>
            <a:ext cx="4786200" cy="4010040"/>
            <a:chOff x="2978280" y="98280"/>
            <a:chExt cx="4786200" cy="4010040"/>
          </a:xfrm>
        </p:grpSpPr>
        <p:sp>
          <p:nvSpPr>
            <p:cNvPr id="46" name="Rectangle 6"/>
            <p:cNvSpPr/>
            <p:nvPr/>
          </p:nvSpPr>
          <p:spPr>
            <a:xfrm>
              <a:off x="2978280" y="98280"/>
              <a:ext cx="4786200" cy="40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7"/>
            <p:cNvSpPr/>
            <p:nvPr/>
          </p:nvSpPr>
          <p:spPr>
            <a:xfrm>
              <a:off x="2978280" y="9828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Text Box 11"/>
          <p:cNvSpPr/>
          <p:nvPr/>
        </p:nvSpPr>
        <p:spPr>
          <a:xfrm>
            <a:off x="609480" y="57913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14"/>
          <p:cNvSpPr/>
          <p:nvPr/>
        </p:nvSpPr>
        <p:spPr>
          <a:xfrm>
            <a:off x="2470680" y="60199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http://www.dzdaily.com.cn/luqing/luqingtupian/200208280477_196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2156760" y="914400"/>
            <a:ext cx="4569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浪潮越来越近，犹如千万匹白色战马齐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进，浩浩荡荡地飞奔而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声音如同山崩地裂，好像大地都被震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颤动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http://www.dzdaily.com.cn/luqing/luqingtupian/200208280477_196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2316960" y="1523880"/>
            <a:ext cx="45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浪潮越来越近，犹如千万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白色战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齐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进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浩浩荡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飞奔而来。那声音如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崩地裂，好像大地都被震得颤动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20348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384640" y="1119240"/>
            <a:ext cx="423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从远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传来隆隆的响声，好象闷雷滚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了一会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响声越来越大，只见东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天相接的地方出现了一条白线，那条白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很快向我们移来，逐渐拉长，变粗，横贯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面。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再近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只见白浪翻滚，形成一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六七米高的白色城墙。浪潮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越来越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犹如千万匹白色战马齐头并进，浩浩荡荡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飞奔而来。那声音如同山崩地裂，好像大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都被震得颤动起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20348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384640" y="1119240"/>
            <a:ext cx="423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从远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传来隆隆的响声，好象闷雷滚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过了一会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响声越来越大，只见东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天相接的地方出现了一条白线，那条白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很快向我们移来，逐渐拉长，变粗，横贯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面。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再近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只见白浪翻滚，形成一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六七米高的白色城墙。浪潮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越来越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犹如千万匹白色战马齐头并进，浩浩荡荡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飞奔而来。那声音如同山崩地裂，好像大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都被震得颤动起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A9ED-4E24-42AB-818D-6B1E50625F9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2438280" y="2819520"/>
            <a:ext cx="2530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038480" y="29718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qaz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1"/>
          <p:cNvSpPr/>
          <p:nvPr/>
        </p:nvSpPr>
        <p:spPr>
          <a:xfrm>
            <a:off x="604800" y="5937120"/>
            <a:ext cx="61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419200" y="91440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午后一点左右，从远处传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隆隆的响声，好像闷雷滚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4724280" y="83808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了一会儿，响声越来越大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见东边水天相接的地方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现了一条白线，人群又沸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起来。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800600" y="4952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再近些，只见白浪翻滚，形成一道六七米高的白色城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724280" y="251460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浪潮越来越近，犹如千万匹白色战马齐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进，浩浩荡荡地飞奔而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762120" y="2057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声音如同山崩地裂，好像大地都被震得颤动起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:\Documents and Settings\yhd\My Documents\课文\My Pictures\tp0404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4308120" y="1219320"/>
            <a:ext cx="58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午后一点左右，从远处传来隆隆的响声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好像闷雷滚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yhd\My Documents\课文\My Pictures\tp0404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3681000" y="1219320"/>
            <a:ext cx="184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午后一点左右，从远处传来隆隆的响声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好像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闷雷滚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5" descr="C:\Documents and Settings\yhd\My Documents\课文\My Pictures\tp0404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"/>
          <p:cNvSpPr/>
          <p:nvPr/>
        </p:nvSpPr>
        <p:spPr>
          <a:xfrm>
            <a:off x="838080" y="1219320"/>
            <a:ext cx="7527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了一会儿，响声越来越大，只见东边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相接的地方出现了一条白线，人群又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腾起来。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4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2"/>
          <p:cNvGrpSpPr/>
          <p:nvPr/>
        </p:nvGrpSpPr>
        <p:grpSpPr>
          <a:xfrm>
            <a:off x="0" y="482760"/>
            <a:ext cx="9144000" cy="5894280"/>
            <a:chOff x="0" y="482760"/>
            <a:chExt cx="9144000" cy="5894280"/>
          </a:xfrm>
        </p:grpSpPr>
        <p:sp>
          <p:nvSpPr>
            <p:cNvPr id="67" name="Rectangle 4"/>
            <p:cNvSpPr/>
            <p:nvPr/>
          </p:nvSpPr>
          <p:spPr>
            <a:xfrm>
              <a:off x="0" y="482760"/>
              <a:ext cx="6786720" cy="58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Group 11"/>
            <p:cNvGrpSpPr/>
            <p:nvPr/>
          </p:nvGrpSpPr>
          <p:grpSpPr>
            <a:xfrm>
              <a:off x="0" y="482760"/>
              <a:ext cx="9144000" cy="3109680"/>
              <a:chOff x="0" y="482760"/>
              <a:chExt cx="9144000" cy="3109680"/>
            </a:xfrm>
          </p:grpSpPr>
          <p:sp>
            <p:nvSpPr>
              <p:cNvPr id="69" name="Rectangle 5"/>
              <p:cNvSpPr/>
              <p:nvPr/>
            </p:nvSpPr>
            <p:spPr>
              <a:xfrm>
                <a:off x="0" y="482760"/>
                <a:ext cx="9144000" cy="89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Rectangle 6"/>
              <p:cNvSpPr/>
              <p:nvPr/>
            </p:nvSpPr>
            <p:spPr>
              <a:xfrm>
                <a:off x="0" y="48276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Group 10"/>
              <p:cNvGrpSpPr/>
              <p:nvPr/>
            </p:nvGrpSpPr>
            <p:grpSpPr>
              <a:xfrm>
                <a:off x="0" y="482760"/>
                <a:ext cx="9144000" cy="3109680"/>
                <a:chOff x="0" y="482760"/>
                <a:chExt cx="9144000" cy="3109680"/>
              </a:xfrm>
            </p:grpSpPr>
            <p:sp>
              <p:nvSpPr>
                <p:cNvPr id="72" name="Rectangle 7"/>
                <p:cNvSpPr/>
                <p:nvPr/>
              </p:nvSpPr>
              <p:spPr>
                <a:xfrm>
                  <a:off x="0" y="4827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Rectangle 8"/>
                <p:cNvSpPr/>
                <p:nvPr/>
              </p:nvSpPr>
              <p:spPr>
                <a:xfrm>
                  <a:off x="0" y="482760"/>
                  <a:ext cx="9144000" cy="310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Times New Roman"/>
                    </a:rPr>
                    <a:t>  </a:t>
                  </a:r>
                  <a:r>
                    <a:rPr b="0" lang="en-US" sz="18800" spc="-1" strike="noStrike">
                      <a:solidFill>
                        <a:srgbClr val="008000"/>
                      </a:solidFill>
                      <a:latin typeface="Times New Roman"/>
                    </a:rPr>
                    <a:t> </a:t>
                  </a:r>
                  <a:r>
                    <a:rPr b="0" lang="en-US" sz="1000" spc="-1" strike="noStrike">
                      <a:solidFill>
                        <a:srgbClr val="008000"/>
                      </a:solidFill>
                      <a:latin typeface="Times New Roman"/>
                    </a:rPr>
                    <a:t>                                                                                                                            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4" name="Rectangle 13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5" descr="C:\Documents and Settings\yhd\My Documents\课文\My Pictures\tp0404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838080" y="1219320"/>
            <a:ext cx="7527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了一会儿，响声越来越大，只见东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天相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地方出现了一条白线，人群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来。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4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5"/>
          <p:cNvGrpSpPr/>
          <p:nvPr/>
        </p:nvGrpSpPr>
        <p:grpSpPr>
          <a:xfrm>
            <a:off x="0" y="482760"/>
            <a:ext cx="9144000" cy="5894280"/>
            <a:chOff x="0" y="482760"/>
            <a:chExt cx="9144000" cy="5894280"/>
          </a:xfrm>
        </p:grpSpPr>
        <p:sp>
          <p:nvSpPr>
            <p:cNvPr id="79" name="Rectangle 6"/>
            <p:cNvSpPr/>
            <p:nvPr/>
          </p:nvSpPr>
          <p:spPr>
            <a:xfrm>
              <a:off x="0" y="482760"/>
              <a:ext cx="6786720" cy="58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Group 7"/>
            <p:cNvGrpSpPr/>
            <p:nvPr/>
          </p:nvGrpSpPr>
          <p:grpSpPr>
            <a:xfrm>
              <a:off x="0" y="482760"/>
              <a:ext cx="9144000" cy="3109680"/>
              <a:chOff x="0" y="482760"/>
              <a:chExt cx="9144000" cy="3109680"/>
            </a:xfrm>
          </p:grpSpPr>
          <p:sp>
            <p:nvSpPr>
              <p:cNvPr id="81" name="Rectangle 8"/>
              <p:cNvSpPr/>
              <p:nvPr/>
            </p:nvSpPr>
            <p:spPr>
              <a:xfrm>
                <a:off x="0" y="482760"/>
                <a:ext cx="9144000" cy="89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Rectangle 9"/>
              <p:cNvSpPr/>
              <p:nvPr/>
            </p:nvSpPr>
            <p:spPr>
              <a:xfrm>
                <a:off x="0" y="48276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Group 10"/>
              <p:cNvGrpSpPr/>
              <p:nvPr/>
            </p:nvGrpSpPr>
            <p:grpSpPr>
              <a:xfrm>
                <a:off x="0" y="482760"/>
                <a:ext cx="9144000" cy="3109680"/>
                <a:chOff x="0" y="482760"/>
                <a:chExt cx="9144000" cy="3109680"/>
              </a:xfrm>
            </p:grpSpPr>
            <p:sp>
              <p:nvSpPr>
                <p:cNvPr id="84" name="Rectangle 11"/>
                <p:cNvSpPr/>
                <p:nvPr/>
              </p:nvSpPr>
              <p:spPr>
                <a:xfrm>
                  <a:off x="0" y="4827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Rectangle 12"/>
                <p:cNvSpPr/>
                <p:nvPr/>
              </p:nvSpPr>
              <p:spPr>
                <a:xfrm>
                  <a:off x="0" y="482760"/>
                  <a:ext cx="9144000" cy="310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Times New Roman"/>
                    </a:rPr>
                    <a:t>  </a:t>
                  </a:r>
                  <a:r>
                    <a:rPr b="0" lang="en-US" sz="18800" spc="-1" strike="noStrike">
                      <a:solidFill>
                        <a:srgbClr val="008000"/>
                      </a:solidFill>
                      <a:latin typeface="Times New Roman"/>
                    </a:rPr>
                    <a:t> </a:t>
                  </a:r>
                  <a:r>
                    <a:rPr b="0" lang="en-US" sz="1000" spc="-1" strike="noStrike">
                      <a:solidFill>
                        <a:srgbClr val="008000"/>
                      </a:solidFill>
                      <a:latin typeface="Times New Roman"/>
                    </a:rPr>
                    <a:t>                                                                                                                            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4536720" y="1371600"/>
            <a:ext cx="58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近些，只见白浪翻滚，形成一道六七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高的白色城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84080" y="3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2962440" y="320760"/>
            <a:ext cx="4786200" cy="4010040"/>
            <a:chOff x="2962440" y="320760"/>
            <a:chExt cx="4786200" cy="4010040"/>
          </a:xfrm>
        </p:grpSpPr>
        <p:sp>
          <p:nvSpPr>
            <p:cNvPr id="89" name="Rectangle 4"/>
            <p:cNvSpPr/>
            <p:nvPr/>
          </p:nvSpPr>
          <p:spPr>
            <a:xfrm>
              <a:off x="2962440" y="320760"/>
              <a:ext cx="4786200" cy="40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2962440" y="32076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985920" y="1395360"/>
            <a:ext cx="184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近些，只见白浪翻滚，形成一道六七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高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白色城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22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0" y="22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1:24:09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6:08:37Z</dcterms:modified>
  <cp:revision>7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