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D74-C837-4ADF-9FF3-00DFAE06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7C6F-49E0-450F-B1FC-E0A1DF37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F07-B34D-4448-9AC0-79888EC6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944B-B76C-4FEE-9AA4-3C6A42FB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EF6-D89E-4DFE-AF28-B7941391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5CD-EEE4-4CC8-9F07-09764369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F7C-AF55-4E2B-933E-B5571BD9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2EF-A78B-48BD-B7E2-DA364038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580B-673F-470B-9C36-3F4F1629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722-2BAA-45F5-B21F-3EE33A96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6EB-CB8F-460B-8420-A77EA75F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57C-5F57-4E7B-AF16-8A339AFE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8A4A-488B-436B-BE55-2D9824728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228600" y="1143000"/>
            <a:ext cx="6400800" cy="0"/>
          </a:xfrm>
          <a:prstGeom prst="line">
            <a:avLst/>
          </a:prstGeom>
          <a:ln w="572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609480"/>
            <a:ext cx="6095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义务教育课程标准实验教科书小学语文二年级上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124080" y="3505320"/>
            <a:ext cx="360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（第一课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AG00370_"/>
          <p:cNvPicPr/>
          <p:nvPr/>
        </p:nvPicPr>
        <p:blipFill>
          <a:blip r:embed="rId1"/>
          <a:stretch/>
        </p:blipFill>
        <p:spPr>
          <a:xfrm>
            <a:off x="762120" y="5257800"/>
            <a:ext cx="1485720" cy="1165320"/>
          </a:xfrm>
          <a:prstGeom prst="rect">
            <a:avLst/>
          </a:prstGeom>
          <a:ln w="0">
            <a:noFill/>
          </a:ln>
        </p:spPr>
      </p:pic>
      <p:sp>
        <p:nvSpPr>
          <p:cNvPr id="45" name="WordArt 8"/>
          <p:cNvSpPr txBox="1"/>
          <p:nvPr/>
        </p:nvSpPr>
        <p:spPr>
          <a:xfrm>
            <a:off x="3124080" y="1752480"/>
            <a:ext cx="3276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回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2380320" y="58453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971640" y="765000"/>
            <a:ext cx="66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皮的聪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聪聪很聪明，但有时候也很调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有一天，聪聪来到张爷爷的鱼塘边，发现张爷爷回家吃饭了，他就捡起石头往鱼塘里扔，嘴里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呱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学青蛙叫。鱼塘太大了，水的波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纹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成一个个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圆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由小变大，可还没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岸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，就消失了，看不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来的样子。他想：可能是石头太小，于是，他又找到一块大石头，准备往里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时候，张爷爷回来了。聪聪很害怕，就对张爷爷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在向青蛙妈妈学习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爷爷明白是怎么回事以后，笑着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调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鱼塘，一不准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游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泳，二不准向里边扔石头，快回家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次再让我看见，可不会放过你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聪聪伸了伸舌头，跑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4"/>
          <p:cNvSpPr/>
          <p:nvPr/>
        </p:nvSpPr>
        <p:spPr>
          <a:xfrm>
            <a:off x="1332000" y="256536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826920" y="2349360"/>
            <a:ext cx="69850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河上有座石桥。半圆的桥洞和水里的倒影连起来，好像一个大月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  <p:sndAc>
      <p:stSnd>
        <p:snd r:embed="rId17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5219640" y="3573360"/>
            <a:ext cx="2362320" cy="2727360"/>
            <a:chOff x="5219640" y="3573360"/>
            <a:chExt cx="2362320" cy="2727360"/>
          </a:xfrm>
        </p:grpSpPr>
        <p:pic>
          <p:nvPicPr>
            <p:cNvPr id="51" name="Picture 5" descr="tzg"/>
            <p:cNvPicPr/>
            <p:nvPr/>
          </p:nvPicPr>
          <p:blipFill>
            <a:blip r:embed="rId2"/>
            <a:stretch/>
          </p:blipFill>
          <p:spPr>
            <a:xfrm>
              <a:off x="5219640" y="357336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5712840" y="363384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纹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7"/>
          <p:cNvGrpSpPr/>
          <p:nvPr/>
        </p:nvGrpSpPr>
        <p:grpSpPr>
          <a:xfrm>
            <a:off x="3203640" y="692280"/>
            <a:ext cx="2361960" cy="2727360"/>
            <a:chOff x="3203640" y="692280"/>
            <a:chExt cx="2361960" cy="2727360"/>
          </a:xfrm>
        </p:grpSpPr>
        <p:pic>
          <p:nvPicPr>
            <p:cNvPr id="54" name="Picture 8" descr="tzg"/>
            <p:cNvPicPr/>
            <p:nvPr/>
          </p:nvPicPr>
          <p:blipFill>
            <a:blip r:embed="rId3"/>
            <a:stretch/>
          </p:blipFill>
          <p:spPr>
            <a:xfrm>
              <a:off x="3203640" y="692280"/>
              <a:ext cx="236196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9"/>
            <p:cNvSpPr/>
            <p:nvPr/>
          </p:nvSpPr>
          <p:spPr>
            <a:xfrm>
              <a:off x="3696120" y="7527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影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0"/>
          <p:cNvGrpSpPr/>
          <p:nvPr/>
        </p:nvGrpSpPr>
        <p:grpSpPr>
          <a:xfrm>
            <a:off x="1187280" y="3645000"/>
            <a:ext cx="2362320" cy="2727360"/>
            <a:chOff x="1187280" y="3645000"/>
            <a:chExt cx="2362320" cy="2727360"/>
          </a:xfrm>
        </p:grpSpPr>
        <p:pic>
          <p:nvPicPr>
            <p:cNvPr id="57" name="Picture 11" descr="tzg"/>
            <p:cNvPicPr/>
            <p:nvPr/>
          </p:nvPicPr>
          <p:blipFill>
            <a:blip r:embed="rId4"/>
            <a:stretch/>
          </p:blipFill>
          <p:spPr>
            <a:xfrm>
              <a:off x="1187280" y="364500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2"/>
            <p:cNvSpPr/>
            <p:nvPr/>
          </p:nvSpPr>
          <p:spPr>
            <a:xfrm>
              <a:off x="1680480" y="370548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洞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a.MP3" descr=""/>
          <p:cNvPicPr/>
          <p:nvPr/>
        </p:nvPicPr>
        <p:blipFill>
          <a:blip r:embed="rId5"/>
          <a:stretch/>
        </p:blipFill>
        <p:spPr>
          <a:xfrm>
            <a:off x="774072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1"/>
          <p:cNvSpPr/>
          <p:nvPr/>
        </p:nvSpPr>
        <p:spPr>
          <a:xfrm>
            <a:off x="217440" y="6372360"/>
            <a:ext cx="56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  <p:sndAc>
      <p:stSnd>
        <p:snd r:embed="rId6" name="chimes.wav"/>
      </p:stSnd>
    </p:sndAc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8549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4572000" y="1916280"/>
            <a:ext cx="2362320" cy="2727000"/>
            <a:chOff x="4572000" y="1916280"/>
            <a:chExt cx="2362320" cy="2727000"/>
          </a:xfrm>
        </p:grpSpPr>
        <p:pic>
          <p:nvPicPr>
            <p:cNvPr id="62" name="Picture 3" descr="tzg"/>
            <p:cNvPicPr/>
            <p:nvPr/>
          </p:nvPicPr>
          <p:blipFill>
            <a:blip r:embed="rId2"/>
            <a:stretch/>
          </p:blipFill>
          <p:spPr>
            <a:xfrm>
              <a:off x="4572000" y="1916280"/>
              <a:ext cx="2362320" cy="27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4"/>
            <p:cNvSpPr/>
            <p:nvPr/>
          </p:nvSpPr>
          <p:spPr>
            <a:xfrm>
              <a:off x="5065200" y="197640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游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8"/>
          <p:cNvGrpSpPr/>
          <p:nvPr/>
        </p:nvGrpSpPr>
        <p:grpSpPr>
          <a:xfrm>
            <a:off x="1403280" y="1916280"/>
            <a:ext cx="2362320" cy="2727000"/>
            <a:chOff x="1403280" y="1916280"/>
            <a:chExt cx="2362320" cy="2727000"/>
          </a:xfrm>
        </p:grpSpPr>
        <p:pic>
          <p:nvPicPr>
            <p:cNvPr id="65" name="Picture 9" descr="tzg"/>
            <p:cNvPicPr/>
            <p:nvPr/>
          </p:nvPicPr>
          <p:blipFill>
            <a:blip r:embed="rId3"/>
            <a:stretch/>
          </p:blipFill>
          <p:spPr>
            <a:xfrm>
              <a:off x="1403280" y="1916280"/>
              <a:ext cx="2362320" cy="27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0"/>
            <p:cNvSpPr/>
            <p:nvPr/>
          </p:nvSpPr>
          <p:spPr>
            <a:xfrm>
              <a:off x="1896480" y="197640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倒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a.MP3" descr=""/>
          <p:cNvPicPr/>
          <p:nvPr/>
        </p:nvPicPr>
        <p:blipFill>
          <a:blip r:embed="rId4"/>
          <a:stretch/>
        </p:blipFill>
        <p:spPr>
          <a:xfrm>
            <a:off x="774072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  <p:sndAc>
      <p:stSnd>
        <p:snd r:embed="rId5" name="chimes.wav"/>
      </p:stSnd>
    </p:sndAc>
  </p:transition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85499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8603-B2AF-4692-B219-236980129D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  <p:sndAc>
      <p:stSnd>
        <p:snd r:embed="rId20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6:00:08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44:40Z</dcterms:modified>
  <cp:revision>11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