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039-9D5E-43DA-B5FB-5159877E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E20-9BCB-4043-9558-EA974044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462-C2ED-47C2-A945-9A50B827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8EC-17D8-4DCF-BA6C-DF358E4B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849-2F19-411B-A3A7-DB5C2402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53D-678F-4379-9E95-829AF0F2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13E-DE1E-4642-B7FD-447597C9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020-DC62-4ED9-817A-67D6AE32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034-BA5E-4ED4-90A7-CF691E08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2BA-C66C-4F94-86C9-810850A7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71B-A5CD-4E3C-B73F-E1D3AC3E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6DB-4612-49E1-9FC3-60C2838B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603A-FCBD-4983-8188-7FA7F3F7315B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hyperlink" Target="file:///sts(1)_shu.exe" TargetMode="External"/><Relationship Id="rId4" Type="http://schemas.openxmlformats.org/officeDocument/2006/relationships/hyperlink" Target="file:///sts(1)_guai.exe" TargetMode="External"/><Relationship Id="rId5" Type="http://schemas.openxmlformats.org/officeDocument/2006/relationships/hyperlink" Target="file:///sts(1)_ce.exe" TargetMode="External"/><Relationship Id="rId6" Type="http://schemas.openxmlformats.org/officeDocument/2006/relationships/hyperlink" Target="file:///sts(1)_yin.exe" TargetMode="External"/><Relationship Id="rId7" Type="http://schemas.openxmlformats.org/officeDocument/2006/relationships/hyperlink" Target="file:///sts(1)_ji.exe" TargetMode="External"/><Relationship Id="rId8" Type="http://schemas.openxmlformats.org/officeDocument/2006/relationships/hyperlink" Target="file:///sts(1)_kuang.exe" TargetMode="External"/><Relationship Id="rId9" Type="http://schemas.openxmlformats.org/officeDocument/2006/relationships/hyperlink" Target="file:///sts(1)_ke.exe" TargetMode="External"/><Relationship Id="rId10" Type="http://schemas.openxmlformats.org/officeDocument/2006/relationships/hyperlink" Target="file:///sts(1)_pao.exe" TargetMode="External"/><Relationship Id="rId11" Type="http://schemas.openxmlformats.org/officeDocument/2006/relationships/hyperlink" Target="file:///sts(1)_mei.exe" TargetMode="External"/><Relationship Id="rId12" Type="http://schemas.openxmlformats.org/officeDocument/2006/relationships/hyperlink" Target="file:///sts(1)_tan.exe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4192560" y="3257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2" name="Picture 2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1" descr="黄山奇石1"/>
          <p:cNvPicPr/>
          <p:nvPr/>
        </p:nvPicPr>
        <p:blipFill>
          <a:blip r:embed="rId2"/>
          <a:stretch/>
        </p:blipFill>
        <p:spPr>
          <a:xfrm>
            <a:off x="3132000" y="1700280"/>
            <a:ext cx="3200400" cy="4824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2"/>
          <p:cNvSpPr/>
          <p:nvPr/>
        </p:nvSpPr>
        <p:spPr>
          <a:xfrm>
            <a:off x="6557400" y="1174320"/>
            <a:ext cx="103392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800080"/>
                </a:solidFill>
                <a:latin typeface="楷体_GB2312"/>
              </a:rPr>
              <a:t>黄山奇石 </a:t>
            </a:r>
            <a:endParaRPr b="1" lang="en-US" sz="5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357480" y="6313320"/>
            <a:ext cx="40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4"/>
          <p:cNvSpPr/>
          <p:nvPr/>
        </p:nvSpPr>
        <p:spPr>
          <a:xfrm>
            <a:off x="1042920" y="2658960"/>
            <a:ext cx="741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根据下面的意思，对照课文想一想，分别是哪几个自然段说了这些意思。</a:t>
            </a:r>
            <a:br>
              <a:rPr sz="2600"/>
            </a:b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⑴川川和磊磊发现一位勘探队员趴在石头上看着什么，感到好奇。</a:t>
            </a:r>
            <a:br>
              <a:rPr sz="2600"/>
            </a:b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⑵勘探队员叔叔的介绍使川川和磊磊理解了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石头书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的含义，了解了有关化石的知识。</a:t>
            </a:r>
            <a:br>
              <a:rPr sz="2600"/>
            </a:b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⑶川川和磊磊很高兴，也想读这本书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27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41"/>
          <p:cNvSpPr/>
          <p:nvPr/>
        </p:nvSpPr>
        <p:spPr>
          <a:xfrm>
            <a:off x="1713240" y="1772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分组朗读讨论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6" name="Rectangle 1042"/>
          <p:cNvSpPr/>
          <p:nvPr/>
        </p:nvSpPr>
        <p:spPr>
          <a:xfrm>
            <a:off x="1403280" y="2936160"/>
            <a:ext cx="65534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楷体_GB2312"/>
              </a:rPr>
              <a:t>  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找出课文的六组对话，分角色朗读对话。然后说一说每组对话都说了些什么？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87" name="Picture 1043" descr="animal05"/>
          <p:cNvPicPr/>
          <p:nvPr/>
        </p:nvPicPr>
        <p:blipFill>
          <a:blip r:embed="rId2"/>
          <a:stretch/>
        </p:blipFill>
        <p:spPr>
          <a:xfrm>
            <a:off x="6423120" y="4100400"/>
            <a:ext cx="1893960" cy="25686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"/>
          <p:cNvSpPr/>
          <p:nvPr/>
        </p:nvSpPr>
        <p:spPr>
          <a:xfrm>
            <a:off x="96840" y="6089760"/>
            <a:ext cx="89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更多免费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PPT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板下载：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http://www.eeppt.com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小学语文(记叙文）06"/>
          <p:cNvPicPr/>
          <p:nvPr/>
        </p:nvPicPr>
        <p:blipFill>
          <a:blip r:embed="rId1"/>
          <a:stretch/>
        </p:blipFill>
        <p:spPr>
          <a:xfrm>
            <a:off x="755640" y="14130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r05"/>
          <p:cNvPicPr/>
          <p:nvPr/>
        </p:nvPicPr>
        <p:blipFill>
          <a:blip r:embed="rId2"/>
          <a:stretch/>
        </p:blipFill>
        <p:spPr>
          <a:xfrm>
            <a:off x="1798560" y="3213000"/>
            <a:ext cx="1836720" cy="30672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6"/>
          <p:cNvGrpSpPr/>
          <p:nvPr/>
        </p:nvGrpSpPr>
        <p:grpSpPr>
          <a:xfrm>
            <a:off x="4028400" y="1901880"/>
            <a:ext cx="3511080" cy="2136600"/>
            <a:chOff x="4028400" y="1901880"/>
            <a:chExt cx="3511080" cy="2136600"/>
          </a:xfrm>
        </p:grpSpPr>
        <p:sp>
          <p:nvSpPr>
            <p:cNvPr id="92" name="AutoShape 24"/>
            <p:cNvSpPr/>
            <p:nvPr/>
          </p:nvSpPr>
          <p:spPr>
            <a:xfrm rot="378600">
              <a:off x="4116240" y="2079720"/>
              <a:ext cx="3335400" cy="1780920"/>
            </a:xfrm>
            <a:prstGeom prst="cloudCallout">
              <a:avLst>
                <a:gd name="adj1" fmla="val -54810"/>
                <a:gd name="adj2" fmla="val 5018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93" name="Rectangle 22"/>
            <p:cNvSpPr/>
            <p:nvPr/>
          </p:nvSpPr>
          <p:spPr>
            <a:xfrm>
              <a:off x="4330440" y="2602440"/>
              <a:ext cx="297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0080"/>
                  </a:solidFill>
                  <a:latin typeface="楷体_GB2312"/>
                </a:rPr>
                <a:t>    </a:t>
              </a: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查找关于化石的相关知识，放到自己的资料袋里。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56A4-33A1-4553-913A-BDBA170F0D0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黄山奇石2"/>
          <p:cNvPicPr/>
          <p:nvPr/>
        </p:nvPicPr>
        <p:blipFill>
          <a:blip r:embed="rId2"/>
          <a:stretch/>
        </p:blipFill>
        <p:spPr>
          <a:xfrm>
            <a:off x="1476360" y="1773360"/>
            <a:ext cx="6192720" cy="4124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>
            <a:off x="4033080" y="603540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黄山奇石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岩画1"/>
          <p:cNvPicPr/>
          <p:nvPr/>
        </p:nvPicPr>
        <p:blipFill>
          <a:blip r:embed="rId2"/>
          <a:stretch/>
        </p:blipFill>
        <p:spPr>
          <a:xfrm>
            <a:off x="1800360" y="1700280"/>
            <a:ext cx="5796000" cy="4349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215600" y="60656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岩 画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6372360" y="3429000"/>
            <a:ext cx="57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岩 画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4" name="Picture 4" descr="岩画2"/>
          <p:cNvPicPr/>
          <p:nvPr/>
        </p:nvPicPr>
        <p:blipFill>
          <a:blip r:embed="rId2"/>
          <a:stretch/>
        </p:blipFill>
        <p:spPr>
          <a:xfrm>
            <a:off x="2484360" y="1557360"/>
            <a:ext cx="3262320" cy="48960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9"/>
          <p:cNvGrpSpPr/>
          <p:nvPr/>
        </p:nvGrpSpPr>
        <p:grpSpPr>
          <a:xfrm>
            <a:off x="4861080" y="1554120"/>
            <a:ext cx="2879280" cy="1739520"/>
            <a:chOff x="4861080" y="1554120"/>
            <a:chExt cx="2879280" cy="1739520"/>
          </a:xfrm>
        </p:grpSpPr>
        <p:sp>
          <p:nvSpPr>
            <p:cNvPr id="56" name="AutoShape 7"/>
            <p:cNvSpPr/>
            <p:nvPr/>
          </p:nvSpPr>
          <p:spPr>
            <a:xfrm rot="378600">
              <a:off x="4932360" y="1699920"/>
              <a:ext cx="2736720" cy="1447560"/>
            </a:xfrm>
            <a:prstGeom prst="cloudCallout">
              <a:avLst>
                <a:gd name="adj1" fmla="val -22814"/>
                <a:gd name="adj2" fmla="val 7296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5319720" y="1700280"/>
              <a:ext cx="23479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0080"/>
                  </a:solidFill>
                  <a:latin typeface="楷体_GB2312"/>
                </a:rPr>
                <a:t>  </a:t>
              </a: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有人说它们是石头书，为什么？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9"/>
          <p:cNvSpPr/>
          <p:nvPr/>
        </p:nvSpPr>
        <p:spPr>
          <a:xfrm>
            <a:off x="4577040" y="1557000"/>
            <a:ext cx="69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听课文朗读，画出不认识的、不了解的词语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0" name="Picture 30" descr="snap"/>
          <p:cNvPicPr/>
          <p:nvPr/>
        </p:nvPicPr>
        <p:blipFill>
          <a:blip r:embed="rId2"/>
          <a:stretch/>
        </p:blipFill>
        <p:spPr>
          <a:xfrm>
            <a:off x="2124000" y="2451240"/>
            <a:ext cx="5048280" cy="37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flash"/>
          <p:cNvPicPr/>
          <p:nvPr/>
        </p:nvPicPr>
        <p:blipFill>
          <a:blip r:embed="rId3"/>
          <a:stretch/>
        </p:blipFill>
        <p:spPr>
          <a:xfrm>
            <a:off x="7596360" y="2198520"/>
            <a:ext cx="582480" cy="5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1035"/>
          <p:cNvGrpSpPr/>
          <p:nvPr/>
        </p:nvGrpSpPr>
        <p:grpSpPr>
          <a:xfrm>
            <a:off x="611280" y="3573360"/>
            <a:ext cx="1417680" cy="1773360"/>
            <a:chOff x="611280" y="3573360"/>
            <a:chExt cx="1417680" cy="1773360"/>
          </a:xfrm>
        </p:grpSpPr>
        <p:pic>
          <p:nvPicPr>
            <p:cNvPr id="64" name="Picture 1033" descr="09"/>
            <p:cNvPicPr/>
            <p:nvPr/>
          </p:nvPicPr>
          <p:blipFill>
            <a:blip r:embed="rId2"/>
            <a:stretch/>
          </p:blipFill>
          <p:spPr>
            <a:xfrm>
              <a:off x="611280" y="3573360"/>
              <a:ext cx="14176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1034"/>
            <p:cNvSpPr/>
            <p:nvPr/>
          </p:nvSpPr>
          <p:spPr>
            <a:xfrm>
              <a:off x="1002600" y="4365360"/>
              <a:ext cx="709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读一读 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66" name="Rectangle 1036"/>
          <p:cNvSpPr/>
          <p:nvPr/>
        </p:nvSpPr>
        <p:spPr>
          <a:xfrm>
            <a:off x="2541600" y="1756800"/>
            <a:ext cx="54151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勘察     趴着     读书     叔叔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奇怪     脚印     足迹     贝壳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矿物     刨开     煤炭     画册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光秃秃        光明磊落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3"/>
          <p:cNvGrpSpPr/>
          <p:nvPr/>
        </p:nvGrpSpPr>
        <p:grpSpPr>
          <a:xfrm>
            <a:off x="611280" y="3573360"/>
            <a:ext cx="1417680" cy="1773360"/>
            <a:chOff x="611280" y="3573360"/>
            <a:chExt cx="1417680" cy="1773360"/>
          </a:xfrm>
        </p:grpSpPr>
        <p:pic>
          <p:nvPicPr>
            <p:cNvPr id="69" name="Picture 4" descr="09"/>
            <p:cNvPicPr/>
            <p:nvPr/>
          </p:nvPicPr>
          <p:blipFill>
            <a:blip r:embed="rId2"/>
            <a:stretch/>
          </p:blipFill>
          <p:spPr>
            <a:xfrm>
              <a:off x="611280" y="3573360"/>
              <a:ext cx="14176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5"/>
            <p:cNvSpPr/>
            <p:nvPr/>
          </p:nvSpPr>
          <p:spPr>
            <a:xfrm>
              <a:off x="1018080" y="436536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写一写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71" name="Rectangle 7"/>
          <p:cNvSpPr/>
          <p:nvPr/>
        </p:nvSpPr>
        <p:spPr>
          <a:xfrm>
            <a:off x="2650320" y="2380680"/>
            <a:ext cx="453816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3"/>
              </a:rPr>
              <a:t>叔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4"/>
              </a:rPr>
              <a:t>怪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5"/>
              </a:rPr>
              <a:t>册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6"/>
              </a:rPr>
              <a:t>印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7"/>
              </a:rPr>
              <a:t>迹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8"/>
              </a:rPr>
              <a:t>矿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9"/>
              </a:rPr>
              <a:t>壳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10"/>
              </a:rPr>
              <a:t>刨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11"/>
              </a:rPr>
              <a:t>煤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12"/>
              </a:rPr>
              <a:t>炭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3"/>
          <p:cNvGrpSpPr/>
          <p:nvPr/>
        </p:nvGrpSpPr>
        <p:grpSpPr>
          <a:xfrm>
            <a:off x="611280" y="3573360"/>
            <a:ext cx="1417680" cy="1773360"/>
            <a:chOff x="611280" y="3573360"/>
            <a:chExt cx="1417680" cy="1773360"/>
          </a:xfrm>
        </p:grpSpPr>
        <p:pic>
          <p:nvPicPr>
            <p:cNvPr id="74" name="Picture 4" descr="09"/>
            <p:cNvPicPr/>
            <p:nvPr/>
          </p:nvPicPr>
          <p:blipFill>
            <a:blip r:embed="rId2"/>
            <a:stretch/>
          </p:blipFill>
          <p:spPr>
            <a:xfrm>
              <a:off x="611280" y="3573360"/>
              <a:ext cx="14176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5"/>
            <p:cNvSpPr/>
            <p:nvPr/>
          </p:nvSpPr>
          <p:spPr>
            <a:xfrm>
              <a:off x="1018080" y="436536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记一记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76" name="Rectangle 7"/>
          <p:cNvSpPr/>
          <p:nvPr/>
        </p:nvSpPr>
        <p:spPr>
          <a:xfrm>
            <a:off x="3381840" y="2128320"/>
            <a:ext cx="35488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聚精会神：形容精力很集中。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刨根问底：指问个明白，探个究竟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"/>
          <p:cNvGrpSpPr/>
          <p:nvPr/>
        </p:nvGrpSpPr>
        <p:grpSpPr>
          <a:xfrm>
            <a:off x="611280" y="3573360"/>
            <a:ext cx="1417680" cy="1773360"/>
            <a:chOff x="611280" y="3573360"/>
            <a:chExt cx="1417680" cy="1773360"/>
          </a:xfrm>
        </p:grpSpPr>
        <p:pic>
          <p:nvPicPr>
            <p:cNvPr id="79" name="Picture 4" descr="09"/>
            <p:cNvPicPr/>
            <p:nvPr/>
          </p:nvPicPr>
          <p:blipFill>
            <a:blip r:embed="rId2"/>
            <a:stretch/>
          </p:blipFill>
          <p:spPr>
            <a:xfrm>
              <a:off x="611280" y="3573360"/>
              <a:ext cx="14176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5"/>
            <p:cNvSpPr/>
            <p:nvPr/>
          </p:nvSpPr>
          <p:spPr>
            <a:xfrm>
              <a:off x="886320" y="436536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说一说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81" name="Rectangle 7"/>
          <p:cNvSpPr/>
          <p:nvPr/>
        </p:nvSpPr>
        <p:spPr>
          <a:xfrm>
            <a:off x="2347920" y="2069640"/>
            <a:ext cx="531972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说出下面划横线的字的另外一个读音，并组词。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楷体_GB2312"/>
              </a:rPr>
              <a:t>好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奇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地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楷体_GB2312"/>
              </a:rPr>
              <a:t>壳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楷体_GB2312"/>
              </a:rPr>
              <a:t>藏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着矿石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03:56:23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12:51Z</dcterms:modified>
  <cp:revision>18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