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288A-3B2A-46AA-9FC3-1B7F62BEF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82D2-7325-4AB4-9C6F-C603BA09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E891-3A1F-4F74-BBE0-AB68A5086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13BD-03FD-45D9-913B-9D95548A3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63DC-C76F-4206-9E4F-9F96B1F6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D77B-CFC5-432C-9E07-AE16BCF6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8B97-57F9-46F6-9A88-66A4CC64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95B0-CE5E-44C2-B457-1CB8E020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DA50-9492-4A2F-94B6-221D4475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8BF4-E8E5-4E87-BB87-400E8EB9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1B00-FC36-489A-91AC-3FEB907D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2C3D-D8F4-4253-B258-63BF9A2D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E484-19FB-494C-A865-5AEF2B1D8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hyperlink" Target="file:///../../&#21407;&#22987;--&#31119;&#24030;&#23398;&#38498;&#35838;&#20363;/&#23567;&#23398;&#25968;&#23398;/&#23567;&#23398;&#25968;&#23398;&#31532;&#19977;&#23567;&#32452;/w" TargetMode="External"/><Relationship Id="rId5" Type="http://schemas.openxmlformats.org/officeDocument/2006/relationships/hyperlink" Target="file:///../../&#21407;&#22987;--&#31119;&#24030;&#23398;&#38498;&#35838;&#20363;/&#23567;&#23398;&#25968;&#23398;/&#23567;&#23398;&#25968;&#23398;&#31532;&#19977;&#23567;&#32452;/w" TargetMode="External"/><Relationship Id="rId6" Type="http://schemas.openxmlformats.org/officeDocument/2006/relationships/hyperlink" Target="file:///../../&#21407;&#22987;--&#31119;&#24030;&#23398;&#38498;&#35838;&#20363;/&#23567;&#23398;&#25968;&#23398;/&#23567;&#23398;&#25968;&#23398;&#31532;&#19977;&#23567;&#32452;/q" TargetMode="External"/><Relationship Id="rId7" Type="http://schemas.openxmlformats.org/officeDocument/2006/relationships/hyperlink" Target="file:///../../&#21407;&#22987;--&#31119;&#24030;&#23398;&#38498;&#35838;&#20363;/&#23567;&#23398;&#25968;&#23398;/&#23567;&#23398;&#25968;&#23398;&#31532;&#19977;&#23567;&#32452;/q" TargetMode="External"/><Relationship Id="rId8" Type="http://schemas.openxmlformats.org/officeDocument/2006/relationships/hyperlink" Target="file:///../../&#21407;&#22987;--&#31119;&#24030;&#23398;&#38498;&#35838;&#20363;/&#23567;&#23398;&#25968;&#23398;/&#23567;&#23398;&#25968;&#23398;&#31532;&#19977;&#23567;&#32452;/s" TargetMode="External"/><Relationship Id="rId9" Type="http://schemas.openxmlformats.org/officeDocument/2006/relationships/hyperlink" Target="file:///../../&#21407;&#22987;--&#31119;&#24030;&#23398;&#38498;&#35838;&#20363;/&#23567;&#23398;&#25968;&#23398;/&#23567;&#23398;&#25968;&#23398;&#31532;&#19977;&#23567;&#32452;/s" TargetMode="External"/><Relationship Id="rId10" Type="http://schemas.openxmlformats.org/officeDocument/2006/relationships/hyperlink" Target="file:///../../&#21407;&#22987;--&#31119;&#24030;&#23398;&#38498;&#35838;&#20363;/&#23567;&#23398;&#25968;&#23398;/&#23567;&#23398;&#25968;&#23398;&#31532;&#19977;&#23567;&#32452;/b" TargetMode="External"/><Relationship Id="rId11" Type="http://schemas.openxmlformats.org/officeDocument/2006/relationships/hyperlink" Target="file:///../../&#21407;&#22987;--&#31119;&#24030;&#23398;&#38498;&#35838;&#20363;/&#23567;&#23398;&#25968;&#23398;/&#23567;&#23398;&#25968;&#23398;&#31532;&#19977;&#23567;&#32452;/b" TargetMode="External"/><Relationship Id="rId12" Type="http://schemas.openxmlformats.org/officeDocument/2006/relationships/hyperlink" Target="file:///../../&#21407;&#22987;--&#31119;&#24030;&#23398;&#38498;&#35838;&#20363;/&#23567;&#23398;&#25968;&#23398;/&#23567;&#23398;&#25968;&#23398;&#31532;&#19977;&#23567;&#32452;/%20d" TargetMode="External"/><Relationship Id="rId13" Type="http://schemas.openxmlformats.org/officeDocument/2006/relationships/hyperlink" Target="file:///../../&#21407;&#22987;--&#31119;&#24030;&#23398;&#38498;&#35838;&#20363;/&#23567;&#23398;&#25968;&#23398;/&#23567;&#23398;&#25968;&#23398;&#31532;&#19977;&#23567;&#32452;/%20d" TargetMode="External"/><Relationship Id="rId14" Type="http://schemas.openxmlformats.org/officeDocument/2006/relationships/slide" Target="slide4.xml"/><Relationship Id="rId15" Type="http://schemas.openxmlformats.org/officeDocument/2006/relationships/slide" Target="slide6.xml"/><Relationship Id="rId16" Type="http://schemas.openxmlformats.org/officeDocument/2006/relationships/slide" Target="slide7.xml"/><Relationship Id="rId17" Type="http://schemas.openxmlformats.org/officeDocument/2006/relationships/slide" Target="slide8.xml"/><Relationship Id="rId1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2.xm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2.xm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hyperlink" Target="file:///../../&#21407;&#22987;--&#31119;&#24030;&#23398;&#38498;&#35838;&#20363;/&#23567;&#23398;&#25968;&#23398;/&#23567;&#23398;&#25968;&#23398;&#31532;&#19977;&#23567;&#32452;/1" TargetMode="External"/><Relationship Id="rId5" Type="http://schemas.openxmlformats.org/officeDocument/2006/relationships/hyperlink" Target="file:///../../&#21407;&#22987;--&#31119;&#24030;&#23398;&#38498;&#35838;&#20363;/&#23567;&#23398;&#25968;&#23398;/&#23567;&#23398;&#25968;&#23398;&#31532;&#19977;&#23567;&#32452;/1" TargetMode="External"/><Relationship Id="rId6" Type="http://schemas.openxmlformats.org/officeDocument/2006/relationships/hyperlink" Target="file:///../../&#21407;&#22987;--&#31119;&#24030;&#23398;&#38498;&#35838;&#20363;/&#23567;&#23398;&#25968;&#23398;/&#23567;&#23398;&#25968;&#23398;&#31532;&#19977;&#23567;&#32452;/1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2.xm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2.xm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2.xm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ject 5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13440"/>
          </a:xfrm>
          <a:prstGeom prst="rect">
            <a:avLst/>
          </a:prstGeom>
          <a:ln w="0">
            <a:noFill/>
          </a:ln>
        </p:spPr>
      </p:pic>
      <p:sp>
        <p:nvSpPr>
          <p:cNvPr id="42" name="WordArt 9"/>
          <p:cNvSpPr txBox="1"/>
          <p:nvPr/>
        </p:nvSpPr>
        <p:spPr>
          <a:xfrm>
            <a:off x="914400" y="549360"/>
            <a:ext cx="71247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角  的  分  类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2296080" y="6021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3">
            <a:hlinkClick r:id="" action="ppaction://hlinkshowjump?jump=previousslide"/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Object 6" descr=""/>
          <p:cNvPicPr/>
          <p:nvPr/>
        </p:nvPicPr>
        <p:blipFill>
          <a:blip r:embed="rId4"/>
          <a:stretch/>
        </p:blipFill>
        <p:spPr>
          <a:xfrm>
            <a:off x="990720" y="1752480"/>
            <a:ext cx="6138720" cy="43214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7"/>
          <p:cNvSpPr/>
          <p:nvPr/>
        </p:nvSpPr>
        <p:spPr>
          <a:xfrm>
            <a:off x="838080" y="76212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  <a:ea typeface="华文楷体"/>
              </a:rPr>
              <a:t>（从上一张图抽象出以下的六个角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3">
            <a:hlinkClick r:id="" action="ppaction://hlinkshowjump?jump=previousslide"/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143000" y="1295280"/>
            <a:ext cx="6858000" cy="40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二、引导分类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、每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4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人为一小组合作探究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—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学具袋中所提供的角进行分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（学生可以进行个性化分类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、小组汇报，说说为什么这样分    （只要合理都予以肯定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3">
            <a:hlinkClick r:id="" action="ppaction://hlinkshowjump?jump=previousslide"/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990720" y="838080"/>
            <a:ext cx="655308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在众多分类方法中，让学生自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选择一种分法，但要说明为什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选择这种分法？教师则向学生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荐一种较常用的分法（比直角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，比直角小的，和直角一样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的），也向学生解释这种分法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优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523880" y="1143000"/>
            <a:ext cx="609624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3">
            <a:hlinkClick r:id="" action="ppaction://hlinkshowjump?jump=previousslide"/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447920" y="1143000"/>
            <a:ext cx="5943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引导学生自学课本中的相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知识，认识角的名称并在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组中互相说一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447920" y="3733920"/>
            <a:ext cx="5943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回到演示动画课件，让学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把课件中的角进行分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3">
            <a:hlinkClick r:id="" action="ppaction://hlinkshowjump?jump=previousslide"/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914400" y="1143000"/>
            <a:ext cx="685800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三、练习提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折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让学生用纸折出一个直角并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说是怎么折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任意折出一个角，先估计是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么角，再用三角板量一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3">
            <a:hlinkClick r:id="" action="ppaction://hlinkshowjump?jump=previousslide"/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600200" y="137160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、摸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把卡纸剪成带角的形状后放入布袋里，每个小组一份，以小组为单位，摸一摸，并猜一猜摸到的是什么角，帮助学生建立表象，激发学生的学习兴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3">
            <a:hlinkClick r:id="" action="ppaction://hlinkshowjump?jump=previousslide"/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990720" y="53352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四、交互式练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914400" y="475776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1219320" y="12952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利用因特网网络资源，学生在计算机上自行进行角的判断练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600200" y="60199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Object 12" descr=""/>
          <p:cNvPicPr/>
          <p:nvPr/>
        </p:nvPicPr>
        <p:blipFill>
          <a:blip r:embed="rId4"/>
          <a:stretch/>
        </p:blipFill>
        <p:spPr>
          <a:xfrm>
            <a:off x="2133720" y="2514600"/>
            <a:ext cx="426708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3">
            <a:hlinkClick r:id="" action="ppaction://hlinkshowjump?jump=previousslide"/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1143000" y="990720"/>
            <a:ext cx="7086600" cy="34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五、提高性练习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找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找一找生活中哪些地方分别有什么角。使学生意识到数学知识与生活的联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3">
            <a:hlinkClick r:id="" action="ppaction://hlinkshowjump?jump=previousslide"/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676520" y="1219320"/>
            <a:ext cx="5790960" cy="36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总结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、你有哪些收获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、你觉得本节课哪些地方最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      </a:t>
            </a:r>
            <a:r>
              <a:rPr b="1" lang="zh-CN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引你？为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3">
            <a:hlinkClick r:id="" action="ppaction://hlinkshowjump?jump=previousslide"/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752480" y="1981080"/>
            <a:ext cx="58676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谢谢您的阅览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希望能给予指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3">
            <a:hlinkClick r:id="" action="ppaction://hlinkshowjump?jump=previousslide"/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685800" y="5335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1523880" y="2057400"/>
            <a:ext cx="5715000" cy="38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Arial"/>
                <a:ea typeface="楷体_GB2312"/>
                <a:hlinkClick r:id="rId4"/>
              </a:rPr>
              <a:t>1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"/>
                <a:ea typeface="楷体_GB2312"/>
                <a:hlinkClick r:id="rId5"/>
              </a:rPr>
              <a:t>、目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Arial"/>
                <a:ea typeface="楷体_GB2312"/>
                <a:hlinkClick r:id="rId6"/>
              </a:rPr>
              <a:t>2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"/>
                <a:ea typeface="楷体_GB2312"/>
                <a:hlinkClick r:id="rId7"/>
              </a:rPr>
              <a:t>、课前需掌握的知识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Arial"/>
                <a:ea typeface="楷体_GB2312"/>
                <a:hlinkClick r:id="rId8"/>
              </a:rPr>
              <a:t>3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"/>
                <a:ea typeface="楷体_GB2312"/>
                <a:hlinkClick r:id="rId9"/>
              </a:rPr>
              <a:t>、资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Arial"/>
                <a:ea typeface="楷体_GB2312"/>
                <a:hlinkClick r:id="rId10"/>
              </a:rPr>
              <a:t>4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"/>
                <a:ea typeface="楷体_GB2312"/>
                <a:hlinkClick r:id="rId11"/>
              </a:rPr>
              <a:t>、课前准备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Arial"/>
                <a:ea typeface="楷体_GB2312"/>
                <a:hlinkClick r:id="rId12"/>
              </a:rPr>
              <a:t>5</a:t>
            </a:r>
            <a:r>
              <a:rPr b="0" lang="zh-CN" sz="3200" spc="-1" strike="noStrike" u="sng">
                <a:solidFill>
                  <a:srgbClr val="0033cc"/>
                </a:solidFill>
                <a:uFillTx/>
                <a:latin typeface="Arial"/>
                <a:ea typeface="楷体_GB2312"/>
                <a:hlinkClick r:id="rId13"/>
              </a:rPr>
              <a:t>、教学过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990720" y="2362320"/>
            <a:ext cx="533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1447920" y="9907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教案结构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>
            <a:hlinkClick r:id="" action="ppaction://hlinkshowjump?jump=nextslide"/>
          </p:cNvPr>
          <p:cNvSpPr/>
          <p:nvPr/>
        </p:nvSpPr>
        <p:spPr>
          <a:xfrm>
            <a:off x="1676520" y="2133720"/>
            <a:ext cx="1752480" cy="380880"/>
          </a:xfrm>
          <a:custGeom>
            <a:avLst/>
            <a:gdLst>
              <a:gd name="textAreaLeft" fmla="*/ 24480 w 1752480"/>
              <a:gd name="textAreaRight" fmla="*/ 1728000 w 1752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99311" h="21600">
                <a:moveTo>
                  <a:pt x="0" y="0"/>
                </a:moveTo>
                <a:lnTo>
                  <a:pt x="99311" y="0"/>
                </a:lnTo>
                <a:lnTo>
                  <a:pt x="99311" y="21600"/>
                </a:lnTo>
                <a:lnTo>
                  <a:pt x="0" y="21600"/>
                </a:lnTo>
                <a:close/>
              </a:path>
              <a:path fill="lightenLess" w="99311" h="21600">
                <a:moveTo>
                  <a:pt x="0" y="0"/>
                </a:moveTo>
                <a:lnTo>
                  <a:pt x="99311" y="0"/>
                </a:lnTo>
                <a:lnTo>
                  <a:pt x="97911" y="1400"/>
                </a:lnTo>
                <a:lnTo>
                  <a:pt x="1400" y="1400"/>
                </a:lnTo>
                <a:close/>
              </a:path>
              <a:path fill="darken" w="99311" h="21600">
                <a:moveTo>
                  <a:pt x="99311" y="0"/>
                </a:moveTo>
                <a:lnTo>
                  <a:pt x="99311" y="21600"/>
                </a:lnTo>
                <a:lnTo>
                  <a:pt x="97911" y="20200"/>
                </a:lnTo>
                <a:lnTo>
                  <a:pt x="97911" y="1400"/>
                </a:lnTo>
                <a:close/>
              </a:path>
              <a:path fill="darkenLess" w="99311" h="21600">
                <a:moveTo>
                  <a:pt x="993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911" y="20200"/>
                </a:lnTo>
                <a:close/>
              </a:path>
              <a:path fill="lighten" w="993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9311" h="21600">
                <a:moveTo>
                  <a:pt x="42649" y="3794"/>
                </a:moveTo>
                <a:lnTo>
                  <a:pt x="56662" y="10800"/>
                </a:lnTo>
                <a:lnTo>
                  <a:pt x="4264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6">
            <a:hlinkClick r:id="rId14" action="ppaction://hlinksldjump"/>
          </p:cNvPr>
          <p:cNvSpPr/>
          <p:nvPr/>
        </p:nvSpPr>
        <p:spPr>
          <a:xfrm>
            <a:off x="1752480" y="2819520"/>
            <a:ext cx="3733920" cy="533160"/>
          </a:xfrm>
          <a:custGeom>
            <a:avLst/>
            <a:gdLst>
              <a:gd name="textAreaLeft" fmla="*/ 34560 w 3733920"/>
              <a:gd name="textAreaRight" fmla="*/ 3699360 w 37339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151185" h="21600">
                <a:moveTo>
                  <a:pt x="0" y="0"/>
                </a:moveTo>
                <a:lnTo>
                  <a:pt x="151185" y="0"/>
                </a:lnTo>
                <a:lnTo>
                  <a:pt x="151185" y="21600"/>
                </a:lnTo>
                <a:lnTo>
                  <a:pt x="0" y="21600"/>
                </a:lnTo>
                <a:close/>
              </a:path>
              <a:path fill="lightenLess" w="151185" h="21600">
                <a:moveTo>
                  <a:pt x="0" y="0"/>
                </a:moveTo>
                <a:lnTo>
                  <a:pt x="151185" y="0"/>
                </a:lnTo>
                <a:lnTo>
                  <a:pt x="149785" y="1400"/>
                </a:lnTo>
                <a:lnTo>
                  <a:pt x="1400" y="1400"/>
                </a:lnTo>
                <a:close/>
              </a:path>
              <a:path fill="darken" w="151185" h="21600">
                <a:moveTo>
                  <a:pt x="151185" y="0"/>
                </a:moveTo>
                <a:lnTo>
                  <a:pt x="151185" y="21600"/>
                </a:lnTo>
                <a:lnTo>
                  <a:pt x="149785" y="20200"/>
                </a:lnTo>
                <a:lnTo>
                  <a:pt x="149785" y="1400"/>
                </a:lnTo>
                <a:close/>
              </a:path>
              <a:path fill="darkenLess" w="151185" h="21600">
                <a:moveTo>
                  <a:pt x="151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9785" y="20200"/>
                </a:lnTo>
                <a:close/>
              </a:path>
              <a:path fill="lighten" w="151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51185" h="21600">
                <a:moveTo>
                  <a:pt x="68586" y="3794"/>
                </a:moveTo>
                <a:lnTo>
                  <a:pt x="82599" y="10800"/>
                </a:lnTo>
                <a:lnTo>
                  <a:pt x="6858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7">
            <a:hlinkClick r:id="rId15" action="ppaction://hlinksldjump"/>
          </p:cNvPr>
          <p:cNvSpPr/>
          <p:nvPr/>
        </p:nvSpPr>
        <p:spPr>
          <a:xfrm>
            <a:off x="1600200" y="3505320"/>
            <a:ext cx="1981080" cy="533160"/>
          </a:xfrm>
          <a:custGeom>
            <a:avLst/>
            <a:gdLst>
              <a:gd name="textAreaLeft" fmla="*/ 34560 w 1981080"/>
              <a:gd name="textAreaRight" fmla="*/ 1946520 w 1981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80220" h="21600">
                <a:moveTo>
                  <a:pt x="0" y="0"/>
                </a:moveTo>
                <a:lnTo>
                  <a:pt x="80220" y="0"/>
                </a:lnTo>
                <a:lnTo>
                  <a:pt x="80220" y="21600"/>
                </a:lnTo>
                <a:lnTo>
                  <a:pt x="0" y="21600"/>
                </a:lnTo>
                <a:close/>
              </a:path>
              <a:path fill="lightenLess" w="80220" h="21600">
                <a:moveTo>
                  <a:pt x="0" y="0"/>
                </a:moveTo>
                <a:lnTo>
                  <a:pt x="80220" y="0"/>
                </a:lnTo>
                <a:lnTo>
                  <a:pt x="78820" y="1400"/>
                </a:lnTo>
                <a:lnTo>
                  <a:pt x="1400" y="1400"/>
                </a:lnTo>
                <a:close/>
              </a:path>
              <a:path fill="darken" w="80220" h="21600">
                <a:moveTo>
                  <a:pt x="80220" y="0"/>
                </a:moveTo>
                <a:lnTo>
                  <a:pt x="80220" y="21600"/>
                </a:lnTo>
                <a:lnTo>
                  <a:pt x="78820" y="20200"/>
                </a:lnTo>
                <a:lnTo>
                  <a:pt x="78820" y="1400"/>
                </a:lnTo>
                <a:close/>
              </a:path>
              <a:path fill="darkenLess" w="80220" h="21600">
                <a:moveTo>
                  <a:pt x="8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820" y="20200"/>
                </a:lnTo>
                <a:close/>
              </a:path>
              <a:path fill="lighten" w="8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220" h="21600">
                <a:moveTo>
                  <a:pt x="33104" y="3794"/>
                </a:moveTo>
                <a:lnTo>
                  <a:pt x="47117" y="10800"/>
                </a:lnTo>
                <a:lnTo>
                  <a:pt x="3310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8">
            <a:hlinkClick r:id="rId16" action="ppaction://hlinksldjump"/>
          </p:cNvPr>
          <p:cNvSpPr/>
          <p:nvPr/>
        </p:nvSpPr>
        <p:spPr>
          <a:xfrm>
            <a:off x="1600200" y="4343400"/>
            <a:ext cx="2438280" cy="380880"/>
          </a:xfrm>
          <a:custGeom>
            <a:avLst/>
            <a:gdLst>
              <a:gd name="textAreaLeft" fmla="*/ 24480 w 2438280"/>
              <a:gd name="textAreaRight" fmla="*/ 2413800 w 24382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38167" h="21600">
                <a:moveTo>
                  <a:pt x="0" y="0"/>
                </a:moveTo>
                <a:lnTo>
                  <a:pt x="138167" y="0"/>
                </a:lnTo>
                <a:lnTo>
                  <a:pt x="138167" y="21600"/>
                </a:lnTo>
                <a:lnTo>
                  <a:pt x="0" y="21600"/>
                </a:lnTo>
                <a:close/>
              </a:path>
              <a:path fill="lightenLess" w="138167" h="21600">
                <a:moveTo>
                  <a:pt x="0" y="0"/>
                </a:moveTo>
                <a:lnTo>
                  <a:pt x="138167" y="0"/>
                </a:lnTo>
                <a:lnTo>
                  <a:pt x="136767" y="1400"/>
                </a:lnTo>
                <a:lnTo>
                  <a:pt x="1400" y="1400"/>
                </a:lnTo>
                <a:close/>
              </a:path>
              <a:path fill="darken" w="138167" h="21600">
                <a:moveTo>
                  <a:pt x="138167" y="0"/>
                </a:moveTo>
                <a:lnTo>
                  <a:pt x="138167" y="21600"/>
                </a:lnTo>
                <a:lnTo>
                  <a:pt x="136767" y="20200"/>
                </a:lnTo>
                <a:lnTo>
                  <a:pt x="136767" y="1400"/>
                </a:lnTo>
                <a:close/>
              </a:path>
              <a:path fill="darkenLess" w="138167" h="21600">
                <a:moveTo>
                  <a:pt x="138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767" y="20200"/>
                </a:lnTo>
                <a:close/>
              </a:path>
              <a:path fill="lighten" w="138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38167" h="21600">
                <a:moveTo>
                  <a:pt x="62077" y="3794"/>
                </a:moveTo>
                <a:lnTo>
                  <a:pt x="76090" y="10800"/>
                </a:lnTo>
                <a:lnTo>
                  <a:pt x="6207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9">
            <a:hlinkClick r:id="rId17" action="ppaction://hlinksldjump"/>
          </p:cNvPr>
          <p:cNvSpPr/>
          <p:nvPr/>
        </p:nvSpPr>
        <p:spPr>
          <a:xfrm>
            <a:off x="1600200" y="4952880"/>
            <a:ext cx="2514600" cy="609840"/>
          </a:xfrm>
          <a:custGeom>
            <a:avLst/>
            <a:gdLst>
              <a:gd name="textAreaLeft" fmla="*/ 39240 w 2514600"/>
              <a:gd name="textAreaRight" fmla="*/ 2475360 w 25146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89025" h="21600">
                <a:moveTo>
                  <a:pt x="0" y="0"/>
                </a:moveTo>
                <a:lnTo>
                  <a:pt x="89025" y="0"/>
                </a:lnTo>
                <a:lnTo>
                  <a:pt x="89025" y="21600"/>
                </a:lnTo>
                <a:lnTo>
                  <a:pt x="0" y="21600"/>
                </a:lnTo>
                <a:close/>
              </a:path>
              <a:path fill="lightenLess" w="89025" h="21600">
                <a:moveTo>
                  <a:pt x="0" y="0"/>
                </a:moveTo>
                <a:lnTo>
                  <a:pt x="89025" y="0"/>
                </a:lnTo>
                <a:lnTo>
                  <a:pt x="87625" y="1400"/>
                </a:lnTo>
                <a:lnTo>
                  <a:pt x="1400" y="1400"/>
                </a:lnTo>
                <a:close/>
              </a:path>
              <a:path fill="darken" w="89025" h="21600">
                <a:moveTo>
                  <a:pt x="89025" y="0"/>
                </a:moveTo>
                <a:lnTo>
                  <a:pt x="89025" y="21600"/>
                </a:lnTo>
                <a:lnTo>
                  <a:pt x="87625" y="20200"/>
                </a:lnTo>
                <a:lnTo>
                  <a:pt x="87625" y="1400"/>
                </a:lnTo>
                <a:close/>
              </a:path>
              <a:path fill="darkenLess" w="89025" h="21600">
                <a:moveTo>
                  <a:pt x="89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625" y="20200"/>
                </a:lnTo>
                <a:close/>
              </a:path>
              <a:path fill="lighten" w="89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9025" h="21600">
                <a:moveTo>
                  <a:pt x="37506" y="3794"/>
                </a:moveTo>
                <a:lnTo>
                  <a:pt x="51519" y="10800"/>
                </a:lnTo>
                <a:lnTo>
                  <a:pt x="3750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475C-B455-4CA0-A892-8E75E4F0396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7910640" y="49417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3">
            <a:hlinkClick r:id="" action="ppaction://hlinkshowjump?jump=previousslide"/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685800" y="609480"/>
            <a:ext cx="7086600" cy="53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教学目标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知识技能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能直观认识直角、锐角、钝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能直观区分这些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情感态度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通过折、量、比等活动，培养学生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手操作的能力和科学精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初步感受数学问题的探索性和挑战性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发展学生的主动探索精神和解决实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问题的能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让学生在探究的过程中感受到学习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乐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文本框 1"/>
          <p:cNvSpPr/>
          <p:nvPr/>
        </p:nvSpPr>
        <p:spPr>
          <a:xfrm>
            <a:off x="473040" y="228600"/>
            <a:ext cx="809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3">
            <a:hlinkClick r:id="rId2" action="ppaction://hlinksldjump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143000" y="990720"/>
            <a:ext cx="617220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</a:rPr>
              <a:t>课前需要掌握的知识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、初步认识角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、会比较角的大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、学生对直角已有初步的认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3">
            <a:hlinkClick r:id="rId2" action="ppaction://hlinksldjump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838080" y="914400"/>
            <a:ext cx="7162920" cy="34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在上课之前，必须仔细阅读并会使用</a:t>
            </a:r>
            <a:r>
              <a:rPr b="0" lang="en-US" sz="3200" spc="-1" strike="noStrike" u="sng">
                <a:solidFill>
                  <a:srgbClr val="0033cc"/>
                </a:solidFill>
                <a:uFillTx/>
                <a:latin typeface="华文楷体"/>
                <a:ea typeface="华文楷体"/>
                <a:hlinkClick r:id="rId4"/>
              </a:rPr>
              <a:t>www.shodor.org/interactivate/</a:t>
            </a:r>
            <a:r>
              <a:rPr b="1" lang="en-US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 </a:t>
            </a:r>
            <a:r>
              <a:rPr b="0" lang="en-US" sz="3200" spc="-1" strike="noStrike" u="sng">
                <a:solidFill>
                  <a:srgbClr val="0033cc"/>
                </a:solidFill>
                <a:uFillTx/>
                <a:latin typeface="华文楷体"/>
                <a:ea typeface="华文楷体"/>
                <a:hlinkClick r:id="rId5"/>
              </a:rPr>
              <a:t>activities/</a:t>
            </a:r>
            <a:r>
              <a:rPr b="1" lang="en-US" sz="3200" spc="-1" strike="noStrike" u="sng">
                <a:solidFill>
                  <a:srgbClr val="0033cc"/>
                </a:solidFill>
                <a:uFillTx/>
                <a:latin typeface="华文楷体"/>
                <a:ea typeface="华文楷体"/>
              </a:rPr>
              <a:t>angles/index.html</a:t>
            </a:r>
            <a:r>
              <a:rPr b="1" lang="zh-CN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中登载的</a:t>
            </a:r>
            <a:r>
              <a:rPr b="1" lang="en-US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JAVA</a:t>
            </a:r>
            <a:r>
              <a:rPr b="1" lang="zh-CN" sz="3200" spc="-1" strike="noStrike">
                <a:solidFill>
                  <a:srgbClr val="0033cc"/>
                </a:solidFill>
                <a:latin typeface="华文楷体"/>
                <a:ea typeface="华文楷体"/>
              </a:rPr>
              <a:t>插件检查教室里的所有学生电脑，保证课上学生能正常上网操作，把活动的网址书签和练习纸复制给学生。 </a:t>
            </a:r>
            <a:r>
              <a:rPr b="0" lang="en-US" sz="3200" spc="-1" strike="noStrike" u="sng">
                <a:solidFill>
                  <a:srgbClr val="0033cc"/>
                </a:solidFill>
                <a:uFillTx/>
                <a:latin typeface="华文楷体"/>
                <a:ea typeface="华文楷体"/>
                <a:hlinkClick r:id="rId6"/>
              </a:rPr>
              <a:t>www.shodor.org/interactivate/activities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cc"/>
                </a:solidFill>
                <a:uFillTx/>
                <a:latin typeface="华文楷体"/>
                <a:ea typeface="华文楷体"/>
              </a:rPr>
              <a:t>angles/index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3">
            <a:hlinkClick r:id="rId2" action="ppaction://hlinksldjump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066680" y="990720"/>
            <a:ext cx="6705720" cy="36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资源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学校具备多媒体网络教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角的演示课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角的互动课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3">
            <a:hlinkClick r:id="rId2" action="ppaction://hlinksldjump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219320" y="1066680"/>
            <a:ext cx="6933960" cy="43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课前准备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每个小组准备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个大小不同的角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每个小组准备若干张形状不同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纸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每个小组准备一盒用卡纸剪成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各种带有角的不同图形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3">
            <a:hlinkClick r:id="rId2" action="ppaction://hlinksldjump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990720" y="1066680"/>
            <a:ext cx="6858000" cy="44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教学过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一、创设情境、谈话引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在上一课时学生已经初步认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了角的基础上，让学生说说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于角的知识已经有了哪些了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2" descr=""/>
          <p:cNvPicPr/>
          <p:nvPr/>
        </p:nvPicPr>
        <p:blipFill>
          <a:blip r:embed="rId1"/>
          <a:stretch/>
        </p:blipFill>
        <p:spPr>
          <a:xfrm>
            <a:off x="7696080" y="472428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3">
            <a:hlinkClick r:id="" action="ppaction://hlinkshowjump?jump=previousslide"/>
            <a:hlinkClick r:id="rId2"/>
          </p:cNvPr>
          <p:cNvSpPr/>
          <p:nvPr/>
        </p:nvSpPr>
        <p:spPr>
          <a:xfrm>
            <a:off x="76960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4">
            <a:hlinkClick r:id="" action="ppaction://hlinkshowjump?jump=nextslide"/>
            <a:hlinkClick r:id="rId3"/>
          </p:cNvPr>
          <p:cNvSpPr/>
          <p:nvPr/>
        </p:nvSpPr>
        <p:spPr>
          <a:xfrm>
            <a:off x="8381880" y="30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Object 5" descr=""/>
          <p:cNvPicPr/>
          <p:nvPr/>
        </p:nvPicPr>
        <p:blipFill>
          <a:blip r:embed="rId4"/>
          <a:stretch/>
        </p:blipFill>
        <p:spPr>
          <a:xfrm>
            <a:off x="1371600" y="2816280"/>
            <a:ext cx="5867280" cy="31557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7"/>
          <p:cNvSpPr/>
          <p:nvPr/>
        </p:nvSpPr>
        <p:spPr>
          <a:xfrm>
            <a:off x="1066680" y="990720"/>
            <a:ext cx="723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播放课件创设情境，让学生找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课件画面中的角。（下图为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Fla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制作的演示动画软件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2:47:16Z</dcterms:created>
  <dc:creator>第一PPT模板网-WWW.1PPT.COM </dc:creator>
  <dc:description>第一PPT模板网-WWW.1PPT.COM 
</dc:description>
  <cp:keywords>第一PPT模板网-WWW.1PPT.COM</cp:keywords>
  <dc:language>en-US</dc:language>
  <cp:lastModifiedBy>xinxing</cp:lastModifiedBy>
  <dcterms:modified xsi:type="dcterms:W3CDTF">2017-04-16T15:33:37Z</dcterms:modified>
  <cp:revision>34</cp:revision>
  <dc:subject>第一PPT模板网-WWW.1PPT.COM </dc:subject>
  <dc:title>第一PPT模板网-WWW.1PPT.COM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