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DF19-96FD-43E5-B21D-CECA25B193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56B-543A-4A18-BA57-F9B5A9B66D17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FAC-03B9-457D-ABC6-89B17341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CEE-FCED-45B4-A81F-233D8F49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8B9-906F-417E-BFD5-AE68F231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DE3-41F7-4D84-97D0-102D72E7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0C2-DB85-426D-833E-A305EFC2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C78-A2C0-44E1-B7A3-92AC2BD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8D7-4BCA-4027-A352-4E17811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F43-0590-4305-B004-AB83574F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7EC-D955-4195-A367-67963C01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1AE-E7C9-4ACD-B7D4-B4F21A36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8CB-8D82-4BBC-B244-E7E79B73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CBF-C557-4C7A-99C8-516652F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16DD-4971-49F9-922C-126A068955A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人教新课标一年级品德与生活下册第一单元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92000" y="1628280"/>
            <a:ext cx="5273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家人的爱</a:t>
            </a:r>
            <a:endParaRPr b="0" lang="en-US" sz="9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082240" y="3716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2786040" y="4202280"/>
            <a:ext cx="3456000" cy="2655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"/>
          <p:cNvPicPr/>
          <p:nvPr/>
        </p:nvPicPr>
        <p:blipFill>
          <a:blip r:embed="rId2"/>
          <a:stretch/>
        </p:blipFill>
        <p:spPr>
          <a:xfrm>
            <a:off x="6242040" y="4202280"/>
            <a:ext cx="2914560" cy="2668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" descr=""/>
          <p:cNvPicPr/>
          <p:nvPr/>
        </p:nvPicPr>
        <p:blipFill>
          <a:blip r:embed="rId3"/>
          <a:stretch/>
        </p:blipFill>
        <p:spPr>
          <a:xfrm>
            <a:off x="-3240" y="4202280"/>
            <a:ext cx="2913120" cy="26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447920" y="2362320"/>
            <a:ext cx="647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说一说，你类似的生活经历，说一说事发当时家长是怎样说的，自己是怎样想的，现在又是怎样体会的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6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27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AutoShape 1029"/>
          <p:cNvSpPr/>
          <p:nvPr/>
        </p:nvSpPr>
        <p:spPr>
          <a:xfrm>
            <a:off x="4419720" y="1523880"/>
            <a:ext cx="3733560" cy="2438640"/>
          </a:xfrm>
          <a:prstGeom prst="cloudCallout">
            <a:avLst>
              <a:gd name="adj1" fmla="val -60546"/>
              <a:gd name="adj2" fmla="val 5533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想一想，怎么才能体谅家长的良苦用心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7" name="Picture 1030" descr="卡通小孩-4"/>
          <p:cNvPicPr/>
          <p:nvPr/>
        </p:nvPicPr>
        <p:blipFill>
          <a:blip r:embed="rId3"/>
          <a:stretch/>
        </p:blipFill>
        <p:spPr>
          <a:xfrm>
            <a:off x="2216160" y="2666880"/>
            <a:ext cx="18986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19320" y="1905120"/>
            <a:ext cx="3352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这样的爱是真正的爱吗？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1" name="Picture 7" descr="今天学校做卫生"/>
          <p:cNvPicPr/>
          <p:nvPr/>
        </p:nvPicPr>
        <p:blipFill>
          <a:blip r:embed="rId2"/>
          <a:stretch/>
        </p:blipFill>
        <p:spPr>
          <a:xfrm>
            <a:off x="4421160" y="1523880"/>
            <a:ext cx="3143160" cy="4210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4197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今天学校做卫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947880" y="106200"/>
            <a:ext cx="68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F71C-C312-49D6-B316-7B32256C7E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1"/>
          <p:cNvPicPr/>
          <p:nvPr/>
        </p:nvPicPr>
        <p:blipFill>
          <a:blip r:embed="rId1"/>
          <a:stretch/>
        </p:blipFill>
        <p:spPr>
          <a:xfrm>
            <a:off x="644400" y="731880"/>
            <a:ext cx="247968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50920" y="5589720"/>
            <a:ext cx="8604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父母关爱我们，我们是不是也应该体贴父母呢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6" name="Picture 8" descr="体贴父母"/>
          <p:cNvPicPr/>
          <p:nvPr/>
        </p:nvPicPr>
        <p:blipFill>
          <a:blip r:embed="rId2"/>
          <a:stretch/>
        </p:blipFill>
        <p:spPr>
          <a:xfrm>
            <a:off x="1908000" y="1628640"/>
            <a:ext cx="5115240" cy="383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6"/>
          <p:cNvSpPr/>
          <p:nvPr/>
        </p:nvSpPr>
        <p:spPr>
          <a:xfrm>
            <a:off x="4038480" y="1752480"/>
            <a:ext cx="3810240" cy="3048120"/>
          </a:xfrm>
          <a:prstGeom prst="cloudCallout">
            <a:avLst>
              <a:gd name="adj1" fmla="val -56791"/>
              <a:gd name="adj2" fmla="val 4333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你有没有遇到过类似的情况？你能体会这其中的爱吗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Picture 18" descr="卡通小孩-1"/>
          <p:cNvPicPr/>
          <p:nvPr/>
        </p:nvPicPr>
        <p:blipFill>
          <a:blip r:embed="rId3"/>
          <a:stretch/>
        </p:blipFill>
        <p:spPr>
          <a:xfrm>
            <a:off x="2143080" y="2960640"/>
            <a:ext cx="1438200" cy="3211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"/>
          <p:cNvSpPr/>
          <p:nvPr/>
        </p:nvSpPr>
        <p:spPr>
          <a:xfrm>
            <a:off x="1752480" y="1600200"/>
            <a:ext cx="27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也是爱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722160" y="2181240"/>
            <a:ext cx="7239240" cy="40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02"/>
          <p:cNvPicPr/>
          <p:nvPr/>
        </p:nvPicPr>
        <p:blipFill>
          <a:blip r:embed="rId2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9"/>
          <p:cNvSpPr/>
          <p:nvPr/>
        </p:nvSpPr>
        <p:spPr>
          <a:xfrm>
            <a:off x="4191120" y="1066680"/>
            <a:ext cx="3962160" cy="2133720"/>
          </a:xfrm>
          <a:prstGeom prst="cloudCallout">
            <a:avLst>
              <a:gd name="adj1" fmla="val -48356"/>
              <a:gd name="adj2" fmla="val 5811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爸爸不帮孩子系鞋带，这是为什么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826920" y="2057400"/>
            <a:ext cx="7715520" cy="418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02"/>
          <p:cNvPicPr/>
          <p:nvPr/>
        </p:nvPicPr>
        <p:blipFill>
          <a:blip r:embed="rId2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4191120" y="1066680"/>
            <a:ext cx="3886200" cy="1981440"/>
          </a:xfrm>
          <a:prstGeom prst="cloudCallout">
            <a:avLst>
              <a:gd name="adj1" fmla="val -48324"/>
              <a:gd name="adj2" fmla="val 6642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妈妈不给孩子买新车，是为什么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723960" y="1746360"/>
            <a:ext cx="7696080" cy="455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02"/>
          <p:cNvPicPr/>
          <p:nvPr/>
        </p:nvPicPr>
        <p:blipFill>
          <a:blip r:embed="rId2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2895480" y="762120"/>
            <a:ext cx="4700880" cy="1981080"/>
          </a:xfrm>
          <a:prstGeom prst="cloudCallout">
            <a:avLst>
              <a:gd name="adj1" fmla="val -27708"/>
              <a:gd name="adj2" fmla="val 8277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奶奶让孩子自己做手工，是想让孩子怎么样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1555920" y="1752480"/>
            <a:ext cx="5781600" cy="479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27" descr="02"/>
          <p:cNvPicPr/>
          <p:nvPr/>
        </p:nvPicPr>
        <p:blipFill>
          <a:blip r:embed="rId2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033"/>
          <p:cNvSpPr/>
          <p:nvPr/>
        </p:nvSpPr>
        <p:spPr>
          <a:xfrm>
            <a:off x="4191120" y="914400"/>
            <a:ext cx="3886200" cy="1905120"/>
          </a:xfrm>
          <a:prstGeom prst="cloudCallout">
            <a:avLst>
              <a:gd name="adj1" fmla="val -45097"/>
              <a:gd name="adj2" fmla="val 5558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爷爷为什么让孩子向爸爸认错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828800" y="190512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家长这样做是希望孩子能够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828800" y="289548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自己能做的事情自己做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828800" y="380988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不向家长提不恰当的要求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209680" y="480060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勇于克服困难，有错认错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905120" y="228600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什么是真正的爱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05120" y="320040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真正的爱不仅仅是对自己的迁就，还包括对自己的严格要求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27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01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