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51D-A55D-46E5-8EC5-59712D4D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6B8-B14A-40C7-B63C-EE9CC4B8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A2736-3FD4-43A4-93E8-2FBE7CA2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53735-75DF-4EB1-B3D4-3405EBC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864A0-6844-4856-B7FD-3B5D41EC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F80DD-D0BD-40E1-8004-5450D95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CC694-5DB8-4F44-AD23-D976072A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3F517-DEE2-49B1-B643-235287AE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CF107-3E31-4D21-A071-F724F39D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374D6-4032-4AE5-83E6-06800CC6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154B7-ECB9-4C32-8A87-7696F405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68ADA-F183-4AAD-89B8-BF5C6BD4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84E-6360-4257-900B-04A229AA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720BD-3C15-4ADD-9AA7-DA8597E0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A635C-06D6-4703-8699-F3A43863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1A176-BCAA-4018-A4C3-211E1421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9CDAC-F017-431A-A453-BDD19FF5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C36C3-270D-46AF-9C7B-64B46B57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849AE-C8E6-4848-8C3D-797922D1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C313F-4D77-4970-8876-14EE9FB8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E14C7-F8AF-4FEA-958D-5B658F95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72144-E870-4809-8354-01243AC1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A10C1-EEE0-4AFE-A75B-8729B206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0FC-7BA2-4725-A2D6-718E9DFE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897D7-B297-4406-B7D6-72B2BCC5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C558D-A14A-4C92-B0CF-A6977A02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C0AF5-3DBF-4508-94AA-D0E6EF11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18CD2-24A8-48E0-AA43-B0891152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F739F-DD64-49C7-920C-D31D90A8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13DFC-1096-41BE-84B2-19267F4A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ED46B-13FF-4F0E-8BCC-0F9C1BFC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6A9E4-4189-437D-AC6E-2A2C73AA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B116B-0963-481C-9DAD-9ED93F50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848AD-29A2-4390-9820-7C60823D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96C7-06CA-411E-A171-81D57F9A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C684E-5B0A-4D52-8B44-45CD154A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A3C87-9F7B-4BE6-8E8B-DBDCD634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08330-1CED-41F0-A6DE-33824DEA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3A698-722A-4876-9971-8A50D13E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93623-0B9E-4CBA-9D7F-4BD81AAB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3C4C0-1E02-4B62-A4A5-08E1553D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333F9-6CB1-480B-9CA1-F59C466C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D7B99-E501-4649-BDBC-F2F88183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7A3CA-E78F-47C7-AF26-8641A49C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1210B-7067-43E7-ABEF-A745A789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4811-FCD1-4A35-A5F9-39DECF16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C1F5A-4DA9-4D11-A5E5-60B3E8C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DBDC4-CD25-4996-9DED-36872DB6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CA199-B638-4131-8ECB-F8C36E23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DA408-5E19-4BC4-8610-7C899E86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77D72-8AE0-49A7-8F19-8AB695ED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1F04-1697-4641-A762-046C5262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12E5-0FE8-43F8-A609-D47AE2F1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BEAD-CAE8-483A-93F4-403CA9AA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986C-5D59-41D3-AEA8-98E9D2B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05A0-F011-4F7F-9776-A480D26D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4C8-B9A3-4433-8712-452F9C6C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BCFA-3725-49D2-8B85-6AC52F4D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7466-A948-4288-B427-93ED3C8F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F03F-A9FF-4F45-8EBD-F072D716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0164-645F-46A6-9E2E-D0D13F75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1DD0-8F4D-4EC1-90A3-B3D75B18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AAE4-986E-43F7-A573-2A2ABF8B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B826-E4D6-40AA-8CF6-517DFD35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6E8CA-01E5-4C93-82FD-2A8B12B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321B-4C9C-467B-86E6-0101340A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6EAE-A729-4BF0-B715-030112AC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EE0-1A6C-4476-BB62-A7F7EC1B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82AE-B7B0-4A25-8B74-41F4790B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3A48-5755-4041-90D4-FBC7B23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8F04-3316-49FB-A19B-A814DB0A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5F79-740A-4DF6-8FF3-65BB917E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8E9D-07E2-4DB9-A597-DB3A2273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D6F2-532B-41DC-9A2B-2892B15B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15E0-305C-4422-85B6-60A93913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7469-2471-4167-BC1B-4C896181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6F29-309B-4BA6-B09C-735C97F6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38143-938C-490F-9C51-584B908D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821-28B6-43A4-B76D-33B4D11C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AFE5E-EE84-4FA7-8ED5-D4B41593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8312-8222-40CB-96ED-C03BF0E6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1042E-53C3-4C5F-A818-17753920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51A9-8D01-47E1-8B60-5D74170C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C2FA-ECAD-4BE5-AFBD-A5A42652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5560B-D534-481D-88C2-78D6493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962FA-C296-40FF-B227-1C70A28C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066B-3E35-4F61-AE0F-48693968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D1A6A-1C6C-4B00-9707-4ACBFFFA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4DE7F-D607-4EF6-A68E-0206AA39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4E7-109A-4F85-8327-D8D75AC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31DB8-8117-479A-BB16-7665AC67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8633-D54A-4791-93EE-B245DFEE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05502-548C-4B4D-BEC5-1E21743F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08810-D3F4-4DF4-A1D0-7B945610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706C1-2C12-4D61-BDAD-FAFF258D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E2F4-2481-421A-90F7-2D812FD6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38E5-5F3E-446C-B392-EDF967AB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7E00-95F3-4039-998D-F1EA12A2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D9D2B-47CE-4A29-AA22-3F9CDE0F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E9B6-E4F6-4362-838D-7B4D0073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DC7-DD9E-480C-97F8-640F625F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DCCB-4103-4FEC-B3DE-70246FF8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699F6-9AB5-4088-9E7F-FCFB7D93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A8C26-4D1C-40C1-91C5-7476D783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35A2-C06C-47CF-B3B5-8857C007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AEF89-FF5F-4D4A-A97C-973F4504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0CCFC-0852-45CD-BB7A-BC9BA45E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A3AD5-6805-49B2-A03F-F70A0D3C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59B9-48FC-4643-A543-84BEC871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A0F8E-1CE7-433F-AB89-A09EB1E1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718EE-AB2C-4497-9070-1FF64927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684-545F-4505-AC64-028E24E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17E83-376A-48CE-904E-71D79281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440BE-AA58-428E-A0F8-51DF0CF0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E824A-3171-427B-A1EC-BED841A6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C22DE-1348-45BB-9494-CB627AFF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9CCB-A4EA-4969-A4F1-D359DC4F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F4413-163A-4541-A747-801FBCE6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3577A-2717-483F-BDA9-A958E23C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7CCCD-B871-4087-97EF-2F07121D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45255-0230-4A51-9D41-11403014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BEEC8-A835-40F3-885D-311CACDF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F21-8CC6-4836-A2E5-6713E787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139F-D72B-4EF8-99CE-E2A3EC2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67D6A-5F30-4381-A05C-222345C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B599-C484-4CC5-B05F-9AD014FC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553F9-0D05-4863-8B6F-62E3E6C7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F151-502E-4E96-A738-FE6B31D5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BD82-CF1A-46E7-85DF-496EFFD0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075F2-6018-4C22-9ADF-6D847EDA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A57BF-2E55-4060-9389-087850C7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C2268-BBA4-4B7E-99DE-F5417807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3A49A-423B-499E-BB20-22C23749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1BA-FB14-4EB5-BF00-87DD7254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1081C-F6B3-4E23-AA0E-71E193F5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FD43E-7E7C-49CE-B636-2544194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4B0F3-F169-40E3-9068-E3B14C61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4B517-73A3-45D3-8B82-31FA300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174AE-86C4-4814-BA63-01B8489F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413E9-E0F8-4D89-84A4-9E680E7E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13CEE-EB34-41FD-97B6-BE33A584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D4C4C-1E2F-4B29-B250-02AFB37E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89481-3EAD-45A7-A532-B0C8BFDF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8EB87-A94B-420D-8FA1-8A72D14A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8704-822E-4F7A-A4E0-3207BAE675C9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321C-4E0A-43C2-B57B-E9975A206F9B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BFF0-CD0B-4DAD-918D-93DA01BB8477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BBFC-E66F-41AA-9E9D-60A09DAE056A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400" y="7920"/>
              <a:ext cx="9169200" cy="68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4"/>
            <a:srcRect l="0" t="15176" r="0" b="0"/>
            <a:stretch/>
          </p:blipFill>
          <p:spPr>
            <a:xfrm>
              <a:off x="0" y="2706840"/>
              <a:ext cx="91454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800" y="-629280"/>
              <a:ext cx="74520" cy="8042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080" y="-1353960"/>
              <a:ext cx="74880" cy="804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D5BF-BC0E-4726-9667-A3EA4635F344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D126-DCC6-4EA1-9766-54D911B175E3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4D19-7269-404B-BED7-C533A52557CA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A09B-1E39-44AC-9938-645652B152A6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5986-9FB2-4898-BF5D-AEA224E33F2E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8924-F48D-499E-AF69-15E63521B89A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EF2D-3A4E-4F36-91B1-321526E8562D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D2BC-9D79-49D8-95C1-E415FBB01CE3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WordArt 4" descr=""/>
          <p:cNvPicPr/>
          <p:nvPr/>
        </p:nvPicPr>
        <p:blipFill>
          <a:blip r:embed="rId1"/>
          <a:stretch/>
        </p:blipFill>
        <p:spPr>
          <a:xfrm>
            <a:off x="1328760" y="895320"/>
            <a:ext cx="6267600" cy="2432160"/>
          </a:xfrm>
          <a:prstGeom prst="rect">
            <a:avLst/>
          </a:prstGeom>
          <a:ln w="0">
            <a:noFill/>
          </a:ln>
        </p:spPr>
      </p:pic>
      <p:sp>
        <p:nvSpPr>
          <p:cNvPr id="515" name="矩形 1"/>
          <p:cNvSpPr/>
          <p:nvPr/>
        </p:nvSpPr>
        <p:spPr>
          <a:xfrm>
            <a:off x="1820880" y="5883120"/>
            <a:ext cx="588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13"/>
          <p:cNvSpPr/>
          <p:nvPr/>
        </p:nvSpPr>
        <p:spPr>
          <a:xfrm>
            <a:off x="2373480" y="20001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Text Box 4">
            <a:hlinkClick r:id="rId1" action="ppaction://hlinksldjump"/>
          </p:cNvPr>
          <p:cNvSpPr/>
          <p:nvPr/>
        </p:nvSpPr>
        <p:spPr>
          <a:xfrm>
            <a:off x="3581280" y="20574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华文行楷"/>
              </a:rPr>
              <a:t>学习词语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8" name="Text Box 5">
            <a:hlinkClick r:id="rId2" action="ppaction://hlinksldjump"/>
          </p:cNvPr>
          <p:cNvSpPr/>
          <p:nvPr/>
        </p:nvSpPr>
        <p:spPr>
          <a:xfrm>
            <a:off x="36576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华文行楷"/>
              </a:rPr>
              <a:t>初读课文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9" name="Text Box 6">
            <a:hlinkClick r:id="rId3" action="ppaction://hlinksldjump"/>
          </p:cNvPr>
          <p:cNvSpPr/>
          <p:nvPr/>
        </p:nvSpPr>
        <p:spPr>
          <a:xfrm>
            <a:off x="3657600" y="41911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华文行楷"/>
              </a:rPr>
              <a:t>深入思考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Text Box 7">
            <a:hlinkClick r:id="rId4" action="ppaction://hlinksldjump"/>
          </p:cNvPr>
          <p:cNvSpPr/>
          <p:nvPr/>
        </p:nvSpPr>
        <p:spPr>
          <a:xfrm>
            <a:off x="3657600" y="52578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华文行楷"/>
              </a:rPr>
              <a:t>狐狸和乌鸦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3581280" y="990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华文行楷"/>
              </a:rPr>
              <a:t>课文朗读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AutoShape 9">
            <a:hlinkClick r:id="" action="ppaction://hlinkshowjump?jump=endshow"/>
          </p:cNvPr>
          <p:cNvSpPr/>
          <p:nvPr/>
        </p:nvSpPr>
        <p:spPr>
          <a:xfrm>
            <a:off x="77724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23" name="《金色的脚印》朗读.MP3" descr=""/>
          <p:cNvPicPr/>
          <p:nvPr/>
        </p:nvPicPr>
        <p:blipFill>
          <a:blip r:embed="rId5"/>
          <a:stretch/>
        </p:blipFill>
        <p:spPr>
          <a:xfrm>
            <a:off x="67816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1" descr="1"/>
          <p:cNvPicPr/>
          <p:nvPr/>
        </p:nvPicPr>
        <p:blipFill>
          <a:blip r:embed="rId6"/>
          <a:stretch/>
        </p:blipFill>
        <p:spPr>
          <a:xfrm>
            <a:off x="2268360" y="1730520"/>
            <a:ext cx="1067040" cy="10033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2" descr="1"/>
          <p:cNvPicPr/>
          <p:nvPr/>
        </p:nvPicPr>
        <p:blipFill>
          <a:blip r:embed="rId7"/>
          <a:stretch/>
        </p:blipFill>
        <p:spPr>
          <a:xfrm>
            <a:off x="2362320" y="2959200"/>
            <a:ext cx="1066680" cy="1003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3" descr="1"/>
          <p:cNvPicPr/>
          <p:nvPr/>
        </p:nvPicPr>
        <p:blipFill>
          <a:blip r:embed="rId8"/>
          <a:stretch/>
        </p:blipFill>
        <p:spPr>
          <a:xfrm>
            <a:off x="2438280" y="4635360"/>
            <a:ext cx="1067040" cy="100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8288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男佣人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828800" y="26668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光秃秃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1828800" y="39625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正太郎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1828800" y="53341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湿漉漉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2286000" y="8683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yō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2438280" y="2239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tū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274320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l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zypyyb"/>
              </a:rPr>
              <a:t>á</a:t>
            </a: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243828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l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zypyyb"/>
              </a:rPr>
              <a:t>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Text Box 12"/>
          <p:cNvSpPr/>
          <p:nvPr/>
        </p:nvSpPr>
        <p:spPr>
          <a:xfrm>
            <a:off x="4419720" y="12952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柞树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Text Box 13"/>
          <p:cNvSpPr/>
          <p:nvPr/>
        </p:nvSpPr>
        <p:spPr>
          <a:xfrm>
            <a:off x="4419720" y="26668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嗥叫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Text Box 14"/>
          <p:cNvSpPr/>
          <p:nvPr/>
        </p:nvSpPr>
        <p:spPr>
          <a:xfrm>
            <a:off x="4419720" y="39625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仓房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4419720" y="53020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哆哆嗦嗦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Text Box 16"/>
          <p:cNvSpPr/>
          <p:nvPr/>
        </p:nvSpPr>
        <p:spPr>
          <a:xfrm>
            <a:off x="4419720" y="86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zuò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4419720" y="2239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h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zypyyb"/>
              </a:rPr>
              <a:t>á</a:t>
            </a: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4343400" y="35053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cā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441972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duō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Text Box 21"/>
          <p:cNvSpPr/>
          <p:nvPr/>
        </p:nvSpPr>
        <p:spPr>
          <a:xfrm>
            <a:off x="556272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suō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6705720" y="12952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蹭着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Text Box 23"/>
          <p:cNvSpPr/>
          <p:nvPr/>
        </p:nvSpPr>
        <p:spPr>
          <a:xfrm>
            <a:off x="6705720" y="26668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拽住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Text Box 24"/>
          <p:cNvSpPr/>
          <p:nvPr/>
        </p:nvSpPr>
        <p:spPr>
          <a:xfrm>
            <a:off x="6705720" y="39625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楷体_GB2312"/>
              </a:rPr>
              <a:t>咔嚓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Text Box 25"/>
          <p:cNvSpPr/>
          <p:nvPr/>
        </p:nvSpPr>
        <p:spPr>
          <a:xfrm>
            <a:off x="6629400" y="86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c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zypyyb"/>
              </a:rPr>
              <a:t>è</a:t>
            </a: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8" name="Text Box 26"/>
          <p:cNvSpPr/>
          <p:nvPr/>
        </p:nvSpPr>
        <p:spPr>
          <a:xfrm>
            <a:off x="6477120" y="2239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zhu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zypyyb"/>
              </a:rPr>
              <a:t>à</a:t>
            </a: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Text Box 27"/>
          <p:cNvSpPr/>
          <p:nvPr/>
        </p:nvSpPr>
        <p:spPr>
          <a:xfrm>
            <a:off x="678168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kā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1828800" y="1646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楷体_GB2312"/>
              </a:rPr>
              <a:t>瞪眼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1676520" y="3048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楷体_GB2312"/>
              </a:rPr>
              <a:t>脸颊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1752480" y="12193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d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zypyyb"/>
              </a:rPr>
              <a:t>è</a:t>
            </a: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228600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ji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zypyyb"/>
              </a:rPr>
              <a:t>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4419720" y="16462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楷体_GB2312"/>
              </a:rPr>
              <a:t>惦记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4419720" y="3017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楷体_GB2312"/>
              </a:rPr>
              <a:t>舔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1828800" y="43894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楷体_GB2312"/>
              </a:rPr>
              <a:t>踱来踱去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4343400" y="1219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di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zypyyb"/>
              </a:rPr>
              <a:t>à</a:t>
            </a: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Text Box 17"/>
          <p:cNvSpPr/>
          <p:nvPr/>
        </p:nvSpPr>
        <p:spPr>
          <a:xfrm>
            <a:off x="426708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tiǎ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Text Box 19"/>
          <p:cNvSpPr/>
          <p:nvPr/>
        </p:nvSpPr>
        <p:spPr>
          <a:xfrm>
            <a:off x="1828800" y="4008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du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zypyyb"/>
              </a:rPr>
              <a:t>ó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6705720" y="16462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楷体_GB2312"/>
              </a:rPr>
              <a:t>铁碗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6705720" y="30481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  <a:ea typeface="楷体_GB2312"/>
              </a:rPr>
              <a:t>嗖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7238880" y="1219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wǎ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3" name="Text Box 25"/>
          <p:cNvSpPr/>
          <p:nvPr/>
        </p:nvSpPr>
        <p:spPr>
          <a:xfrm>
            <a:off x="6705720" y="2590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zypyyb"/>
                <a:ea typeface="zypyyb"/>
              </a:rPr>
              <a:t>sō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文本框 1"/>
          <p:cNvSpPr/>
          <p:nvPr/>
        </p:nvSpPr>
        <p:spPr>
          <a:xfrm>
            <a:off x="676440" y="6175440"/>
            <a:ext cx="74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宋体"/>
              </a:rPr>
              <a:t>PPT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宋体"/>
              </a:rPr>
              <a:t>模板下载：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250920" y="233280"/>
            <a:ext cx="792468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光秃秃 冷清清 孤零零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湿漉漉 直勾勾 热乎乎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250920" y="2824200"/>
            <a:ext cx="792468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目不转睛  大摇大摆</a:t>
            </a:r>
            <a:endParaRPr b="0" lang="en-US" sz="6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莫名其妙  漫不经心</a:t>
            </a:r>
            <a:endParaRPr b="0" lang="en-US" sz="6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无影无踪  兴高采烈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7" name="AutoShape 6">
            <a:hlinkClick r:id="rId1" action="ppaction://hlinksldjump"/>
          </p:cNvPr>
          <p:cNvSpPr/>
          <p:nvPr/>
        </p:nvSpPr>
        <p:spPr>
          <a:xfrm>
            <a:off x="7261200" y="6176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4"/>
          <p:cNvSpPr/>
          <p:nvPr/>
        </p:nvSpPr>
        <p:spPr>
          <a:xfrm>
            <a:off x="468360" y="620640"/>
            <a:ext cx="79246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</a:t>
            </a:r>
            <a:r>
              <a:rPr b="1" lang="zh-CN" sz="4800" spc="-1" strike="noStrike">
                <a:solidFill>
                  <a:srgbClr val="333333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读读自己喜欢的部分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</a:t>
            </a:r>
            <a:r>
              <a:rPr b="1" lang="zh-CN" sz="4800" spc="-1" strike="noStrike">
                <a:solidFill>
                  <a:srgbClr val="333333"/>
                </a:solidFill>
                <a:latin typeface="华文行楷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说说对狐狸的初步印象，对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“</a:t>
            </a:r>
            <a:r>
              <a:rPr b="1" lang="zh-CN" sz="4800" spc="-1" strike="noStrike">
                <a:solidFill>
                  <a:srgbClr val="333333"/>
                </a:solidFill>
                <a:latin typeface="华文行楷"/>
                <a:ea typeface="华文行楷"/>
              </a:rPr>
              <a:t>我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”</a:t>
            </a:r>
            <a:r>
              <a:rPr b="1" lang="zh-CN" sz="4800" spc="-1" strike="noStrike">
                <a:solidFill>
                  <a:srgbClr val="333333"/>
                </a:solidFill>
                <a:latin typeface="华文行楷"/>
                <a:ea typeface="华文行楷"/>
              </a:rPr>
              <a:t>的认识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333333"/>
                </a:solidFill>
                <a:latin typeface="华文行楷"/>
                <a:ea typeface="华文行楷"/>
              </a:rPr>
              <a:t>3</a:t>
            </a:r>
            <a:r>
              <a:rPr b="1" lang="zh-CN" sz="48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说说你还读懂了什么？有什么问题？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AutoShape 5">
            <a:hlinkClick r:id="rId1" action="ppaction://hlinksldjump"/>
          </p:cNvPr>
          <p:cNvSpPr/>
          <p:nvPr/>
        </p:nvSpPr>
        <p:spPr>
          <a:xfrm>
            <a:off x="822960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4"/>
          <p:cNvSpPr/>
          <p:nvPr/>
        </p:nvSpPr>
        <p:spPr>
          <a:xfrm>
            <a:off x="380880" y="765000"/>
            <a:ext cx="784872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    </a:t>
            </a:r>
            <a:r>
              <a:rPr b="1" lang="zh-CN" sz="6000" spc="-1" strike="noStrike">
                <a:solidFill>
                  <a:srgbClr val="333333"/>
                </a:solidFill>
                <a:latin typeface="华文行楷"/>
                <a:ea typeface="华文行楷"/>
              </a:rPr>
              <a:t>1</a:t>
            </a:r>
            <a:r>
              <a:rPr b="1" lang="zh-CN" sz="60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</a:t>
            </a:r>
            <a:r>
              <a:rPr b="1" lang="zh-CN" sz="6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“</a:t>
            </a:r>
            <a:r>
              <a:rPr b="1" lang="zh-CN" sz="6000" spc="-1" strike="noStrike">
                <a:solidFill>
                  <a:srgbClr val="333333"/>
                </a:solidFill>
                <a:latin typeface="华文行楷"/>
                <a:ea typeface="华文行楷"/>
              </a:rPr>
              <a:t>我</a:t>
            </a:r>
            <a:r>
              <a:rPr b="1" lang="zh-CN" sz="6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”</a:t>
            </a:r>
            <a:r>
              <a:rPr b="1" lang="zh-CN" sz="60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为什么要帮助救狐狸？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    </a:t>
            </a:r>
            <a:r>
              <a:rPr b="1" lang="zh-CN" sz="6000" spc="-1" strike="noStrike">
                <a:solidFill>
                  <a:srgbClr val="333333"/>
                </a:solidFill>
                <a:latin typeface="华文行楷"/>
                <a:ea typeface="华文行楷"/>
              </a:rPr>
              <a:t>2</a:t>
            </a:r>
            <a:r>
              <a:rPr b="1" lang="zh-CN" sz="60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课文结尾及题目有什么含义？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AutoShape 5">
            <a:hlinkClick r:id="rId1" action="ppaction://hlinksldjump"/>
          </p:cNvPr>
          <p:cNvSpPr/>
          <p:nvPr/>
        </p:nvSpPr>
        <p:spPr>
          <a:xfrm>
            <a:off x="822960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4">
            <a:hlinkClick r:id="rId1" action="ppaction://hlinksldjump"/>
          </p:cNvPr>
          <p:cNvSpPr/>
          <p:nvPr/>
        </p:nvSpPr>
        <p:spPr>
          <a:xfrm>
            <a:off x="510552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73" name="《狐狸和乌鸦》视频朗读.asf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e4828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ae4828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C81C-3627-462D-A41D-5BBF4FD7E7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5:26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42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