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ED4E-F2B7-4BAB-BD94-BDA9A5044DFB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8EA7-1FA0-4425-B019-E92CFDA3F5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6FEA-13FA-4CCA-BF7D-989312A41F1C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1A5A-0CE0-4A3A-85AB-3D329A243D49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F443-2710-4E34-8F2C-A6330256882D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4BAA-BD09-4DDA-B41A-0C3B888E362B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4B0C-84B8-45E4-80EC-CA4700831B3F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376C-1F6B-4350-B500-C2C3B7B5406D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2FF0-1B74-4B89-84B7-F7F459B81AEA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9BA0-BAC8-4EB5-9A2B-2928FF4502EE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6640"/>
            <a:ext cx="4464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加法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和减法（二）</a:t>
            </a:r>
            <a:endParaRPr b="1" lang="en-US" sz="3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611280" y="2443320"/>
            <a:ext cx="485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进位加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383436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716040" y="249408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88B1-201D-476D-A1BE-AF654EEAE8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92040" y="1482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看谁算得又对又快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603440" y="2344680"/>
            <a:ext cx="70722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540160" y="2286000"/>
            <a:ext cx="52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502000" y="2832120"/>
            <a:ext cx="603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4076640" y="2284560"/>
            <a:ext cx="606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4064040" y="2832120"/>
            <a:ext cx="647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589720" y="2284560"/>
            <a:ext cx="715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589720" y="2832120"/>
            <a:ext cx="715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7740720" y="2284560"/>
            <a:ext cx="44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7731000" y="2832120"/>
            <a:ext cx="44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92040" y="344160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帮小兔找到要拔的萝卜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直接连接符 63"/>
          <p:cNvSpPr/>
          <p:nvPr/>
        </p:nvSpPr>
        <p:spPr>
          <a:xfrm>
            <a:off x="3032280" y="5229360"/>
            <a:ext cx="1852560" cy="65700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直接连接符 65"/>
          <p:cNvSpPr/>
          <p:nvPr/>
        </p:nvSpPr>
        <p:spPr>
          <a:xfrm>
            <a:off x="5048280" y="5229360"/>
            <a:ext cx="1292040" cy="637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2" name="Group 79"/>
          <p:cNvGrpSpPr/>
          <p:nvPr/>
        </p:nvGrpSpPr>
        <p:grpSpPr>
          <a:xfrm>
            <a:off x="1692360" y="4149720"/>
            <a:ext cx="5922000" cy="2470320"/>
            <a:chOff x="1692360" y="4149720"/>
            <a:chExt cx="5922000" cy="2470320"/>
          </a:xfrm>
        </p:grpSpPr>
        <p:grpSp>
          <p:nvGrpSpPr>
            <p:cNvPr id="103" name="Group 64"/>
            <p:cNvGrpSpPr/>
            <p:nvPr/>
          </p:nvGrpSpPr>
          <p:grpSpPr>
            <a:xfrm>
              <a:off x="1692360" y="4149720"/>
              <a:ext cx="1699560" cy="1608120"/>
              <a:chOff x="1692360" y="4149720"/>
              <a:chExt cx="1699560" cy="1608120"/>
            </a:xfrm>
          </p:grpSpPr>
          <p:pic>
            <p:nvPicPr>
              <p:cNvPr id="104" name="图片 51" descr="兔.BMP"/>
              <p:cNvPicPr/>
              <p:nvPr/>
            </p:nvPicPr>
            <p:blipFill>
              <a:blip r:embed="rId1"/>
              <a:srcRect l="27121" t="30740" r="25434" b="0"/>
              <a:stretch/>
            </p:blipFill>
            <p:spPr>
              <a:xfrm>
                <a:off x="1692360" y="4149720"/>
                <a:ext cx="1361520" cy="160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Box 52"/>
              <p:cNvSpPr/>
              <p:nvPr/>
            </p:nvSpPr>
            <p:spPr>
              <a:xfrm>
                <a:off x="2471400" y="4800600"/>
                <a:ext cx="920520" cy="4230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4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楷体_GB2312"/>
                  </a:rPr>
                  <a:t>＋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1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6" name="Group 68"/>
            <p:cNvGrpSpPr/>
            <p:nvPr/>
          </p:nvGrpSpPr>
          <p:grpSpPr>
            <a:xfrm>
              <a:off x="3711240" y="4149720"/>
              <a:ext cx="1774080" cy="1608120"/>
              <a:chOff x="3711240" y="4149720"/>
              <a:chExt cx="1774080" cy="1608120"/>
            </a:xfrm>
          </p:grpSpPr>
          <p:pic>
            <p:nvPicPr>
              <p:cNvPr id="107" name="图片 51" descr="兔.BMP"/>
              <p:cNvPicPr/>
              <p:nvPr/>
            </p:nvPicPr>
            <p:blipFill>
              <a:blip r:embed="rId2"/>
              <a:srcRect l="27121" t="30740" r="25434" b="0"/>
              <a:stretch/>
            </p:blipFill>
            <p:spPr>
              <a:xfrm>
                <a:off x="3711240" y="4149720"/>
                <a:ext cx="1361880" cy="160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Box 52"/>
              <p:cNvSpPr/>
              <p:nvPr/>
            </p:nvSpPr>
            <p:spPr>
              <a:xfrm>
                <a:off x="4415760" y="4800600"/>
                <a:ext cx="1069560" cy="4230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6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楷体_GB2312"/>
                  </a:rPr>
                  <a:t>＋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2</a:t>
                </a:r>
                <a:endParaRPr b="1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9" name="Group 69"/>
            <p:cNvGrpSpPr/>
            <p:nvPr/>
          </p:nvGrpSpPr>
          <p:grpSpPr>
            <a:xfrm>
              <a:off x="5840280" y="4149720"/>
              <a:ext cx="1774080" cy="1608120"/>
              <a:chOff x="5840280" y="4149720"/>
              <a:chExt cx="1774080" cy="1608120"/>
            </a:xfrm>
          </p:grpSpPr>
          <p:pic>
            <p:nvPicPr>
              <p:cNvPr id="110" name="图片 51" descr="兔.BMP"/>
              <p:cNvPicPr/>
              <p:nvPr/>
            </p:nvPicPr>
            <p:blipFill>
              <a:blip r:embed="rId3"/>
              <a:srcRect l="27121" t="30740" r="25434" b="0"/>
              <a:stretch/>
            </p:blipFill>
            <p:spPr>
              <a:xfrm>
                <a:off x="5840280" y="4149720"/>
                <a:ext cx="1361880" cy="160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TextBox 52"/>
              <p:cNvSpPr/>
              <p:nvPr/>
            </p:nvSpPr>
            <p:spPr>
              <a:xfrm>
                <a:off x="6544800" y="4800600"/>
                <a:ext cx="1069560" cy="4230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6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楷体_GB2312"/>
                  </a:rPr>
                  <a:t>＋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1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2" name="Group 72"/>
            <p:cNvGrpSpPr/>
            <p:nvPr/>
          </p:nvGrpSpPr>
          <p:grpSpPr>
            <a:xfrm>
              <a:off x="2733480" y="5778360"/>
              <a:ext cx="813960" cy="841680"/>
              <a:chOff x="2733480" y="5778360"/>
              <a:chExt cx="813960" cy="841680"/>
            </a:xfrm>
          </p:grpSpPr>
          <p:pic>
            <p:nvPicPr>
              <p:cNvPr id="113" name="图片 57" descr="4.jpg"/>
              <p:cNvPicPr/>
              <p:nvPr/>
            </p:nvPicPr>
            <p:blipFill>
              <a:blip r:embed="rId4"/>
              <a:stretch/>
            </p:blipFill>
            <p:spPr>
              <a:xfrm>
                <a:off x="2733480" y="5778360"/>
                <a:ext cx="813960" cy="84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Box 44"/>
              <p:cNvSpPr/>
              <p:nvPr/>
            </p:nvSpPr>
            <p:spPr>
              <a:xfrm>
                <a:off x="2895120" y="5958000"/>
                <a:ext cx="4338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96</a:t>
                </a:r>
                <a:endParaRPr b="1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5" name="Group 73"/>
            <p:cNvGrpSpPr/>
            <p:nvPr/>
          </p:nvGrpSpPr>
          <p:grpSpPr>
            <a:xfrm>
              <a:off x="4285800" y="5778360"/>
              <a:ext cx="814320" cy="841680"/>
              <a:chOff x="4285800" y="5778360"/>
              <a:chExt cx="814320" cy="841680"/>
            </a:xfrm>
          </p:grpSpPr>
          <p:pic>
            <p:nvPicPr>
              <p:cNvPr id="116" name="图片 57" descr="4.jpg"/>
              <p:cNvPicPr/>
              <p:nvPr/>
            </p:nvPicPr>
            <p:blipFill>
              <a:blip r:embed="rId5"/>
              <a:stretch/>
            </p:blipFill>
            <p:spPr>
              <a:xfrm>
                <a:off x="4285800" y="5778360"/>
                <a:ext cx="814320" cy="84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TextBox 44"/>
              <p:cNvSpPr/>
              <p:nvPr/>
            </p:nvSpPr>
            <p:spPr>
              <a:xfrm>
                <a:off x="4448160" y="5958000"/>
                <a:ext cx="4338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39</a:t>
                </a:r>
                <a:endParaRPr b="1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8" name="Group 76"/>
            <p:cNvGrpSpPr/>
            <p:nvPr/>
          </p:nvGrpSpPr>
          <p:grpSpPr>
            <a:xfrm>
              <a:off x="5790960" y="5778360"/>
              <a:ext cx="813960" cy="841680"/>
              <a:chOff x="5790960" y="5778360"/>
              <a:chExt cx="813960" cy="841680"/>
            </a:xfrm>
          </p:grpSpPr>
          <p:pic>
            <p:nvPicPr>
              <p:cNvPr id="119" name="图片 57" descr="4.jpg"/>
              <p:cNvPicPr/>
              <p:nvPr/>
            </p:nvPicPr>
            <p:blipFill>
              <a:blip r:embed="rId6"/>
              <a:stretch/>
            </p:blipFill>
            <p:spPr>
              <a:xfrm>
                <a:off x="5790960" y="5778360"/>
                <a:ext cx="813960" cy="84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Box 44"/>
              <p:cNvSpPr/>
              <p:nvPr/>
            </p:nvSpPr>
            <p:spPr>
              <a:xfrm>
                <a:off x="5952600" y="5958000"/>
                <a:ext cx="4338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58</a:t>
                </a:r>
                <a:endParaRPr b="1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21" name="直接连接符 67"/>
          <p:cNvSpPr/>
          <p:nvPr/>
        </p:nvSpPr>
        <p:spPr>
          <a:xfrm flipH="1">
            <a:off x="3390840" y="5234040"/>
            <a:ext cx="3965760" cy="7365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9"/>
          <p:cNvSpPr/>
          <p:nvPr/>
        </p:nvSpPr>
        <p:spPr>
          <a:xfrm>
            <a:off x="1116000" y="344808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24" name="Group 61"/>
          <p:cNvGrpSpPr/>
          <p:nvPr/>
        </p:nvGrpSpPr>
        <p:grpSpPr>
          <a:xfrm>
            <a:off x="5508720" y="260280"/>
            <a:ext cx="3108240" cy="1288800"/>
            <a:chOff x="5508720" y="260280"/>
            <a:chExt cx="3108240" cy="1288800"/>
          </a:xfrm>
        </p:grpSpPr>
        <p:sp>
          <p:nvSpPr>
            <p:cNvPr id="125" name="AutoShape 50"/>
            <p:cNvSpPr/>
            <p:nvPr/>
          </p:nvSpPr>
          <p:spPr>
            <a:xfrm>
              <a:off x="5508720" y="1052640"/>
              <a:ext cx="1657080" cy="496440"/>
            </a:xfrm>
            <a:prstGeom prst="wedgeRoundRectCallout">
              <a:avLst>
                <a:gd name="adj1" fmla="val 64268"/>
                <a:gd name="adj2" fmla="val 60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笔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6" name="Picture 51" descr="女天使"/>
            <p:cNvPicPr/>
            <p:nvPr/>
          </p:nvPicPr>
          <p:blipFill>
            <a:blip r:embed="rId1"/>
            <a:stretch/>
          </p:blipFill>
          <p:spPr>
            <a:xfrm>
              <a:off x="7093080" y="260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63" descr="02"/>
          <p:cNvPicPr/>
          <p:nvPr/>
        </p:nvPicPr>
        <p:blipFill>
          <a:blip r:embed="rId2"/>
          <a:stretch/>
        </p:blipFill>
        <p:spPr>
          <a:xfrm>
            <a:off x="539640" y="2205000"/>
            <a:ext cx="6670800" cy="29466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1"/>
          <p:cNvSpPr/>
          <p:nvPr/>
        </p:nvSpPr>
        <p:spPr>
          <a:xfrm>
            <a:off x="307800" y="5883120"/>
            <a:ext cx="55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3924360" y="1773360"/>
            <a:ext cx="201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1" name="Group 37"/>
          <p:cNvGrpSpPr/>
          <p:nvPr/>
        </p:nvGrpSpPr>
        <p:grpSpPr>
          <a:xfrm>
            <a:off x="5346720" y="2565360"/>
            <a:ext cx="2195640" cy="2397960"/>
            <a:chOff x="5346720" y="2565360"/>
            <a:chExt cx="2195640" cy="2397960"/>
          </a:xfrm>
        </p:grpSpPr>
        <p:sp>
          <p:nvSpPr>
            <p:cNvPr id="132" name="直接连接符 36"/>
            <p:cNvSpPr/>
            <p:nvPr/>
          </p:nvSpPr>
          <p:spPr>
            <a:xfrm>
              <a:off x="5500800" y="4437000"/>
              <a:ext cx="14475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3" name="TextBox 36"/>
            <p:cNvSpPr/>
            <p:nvPr/>
          </p:nvSpPr>
          <p:spPr>
            <a:xfrm>
              <a:off x="5734080" y="2565360"/>
              <a:ext cx="1808280" cy="17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buClr>
                  <a:srgbClr val="000000"/>
                </a:buClr>
                <a:buFont typeface="Arial"/>
                <a:buAutoNum type="alphaLcPeriod" startAt="10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   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" name="TextBox 37"/>
            <p:cNvSpPr/>
            <p:nvPr/>
          </p:nvSpPr>
          <p:spPr>
            <a:xfrm>
              <a:off x="5346720" y="3773520"/>
              <a:ext cx="1808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   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5" name="TextBox 40"/>
          <p:cNvSpPr/>
          <p:nvPr/>
        </p:nvSpPr>
        <p:spPr>
          <a:xfrm>
            <a:off x="6162840" y="4397400"/>
            <a:ext cx="93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Box 41"/>
          <p:cNvSpPr/>
          <p:nvPr/>
        </p:nvSpPr>
        <p:spPr>
          <a:xfrm>
            <a:off x="5848200" y="4397400"/>
            <a:ext cx="719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Box 42"/>
          <p:cNvSpPr/>
          <p:nvPr/>
        </p:nvSpPr>
        <p:spPr>
          <a:xfrm>
            <a:off x="6080040" y="39736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Box 43"/>
          <p:cNvSpPr/>
          <p:nvPr/>
        </p:nvSpPr>
        <p:spPr>
          <a:xfrm>
            <a:off x="5591160" y="1773360"/>
            <a:ext cx="216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9" name="组合 410"/>
          <p:cNvGrpSpPr/>
          <p:nvPr/>
        </p:nvGrpSpPr>
        <p:grpSpPr>
          <a:xfrm>
            <a:off x="2700000" y="4941720"/>
            <a:ext cx="735480" cy="595800"/>
            <a:chOff x="2700000" y="4941720"/>
            <a:chExt cx="735480" cy="595800"/>
          </a:xfrm>
        </p:grpSpPr>
        <p:sp>
          <p:nvSpPr>
            <p:cNvPr id="140" name="直接连接符 405"/>
            <p:cNvSpPr/>
            <p:nvPr/>
          </p:nvSpPr>
          <p:spPr>
            <a:xfrm>
              <a:off x="3435480" y="4941720"/>
              <a:ext cx="0" cy="5954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cxnSp>
          <p:nvCxnSpPr>
            <p:cNvPr id="141" name="直接箭头连接符 407"/>
            <p:cNvCxnSpPr/>
            <p:nvPr/>
          </p:nvCxnSpPr>
          <p:spPr>
            <a:xfrm flipH="1">
              <a:off x="2700000" y="5536800"/>
              <a:ext cx="72504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round/>
              <a:tailEnd len="med" type="stealth" w="med"/>
            </a:ln>
          </p:spPr>
        </p:cxnSp>
      </p:grpSp>
      <p:pic>
        <p:nvPicPr>
          <p:cNvPr id="142" name="Picture 23" descr="11"/>
          <p:cNvPicPr/>
          <p:nvPr/>
        </p:nvPicPr>
        <p:blipFill>
          <a:blip r:embed="rId1"/>
          <a:stretch/>
        </p:blipFill>
        <p:spPr>
          <a:xfrm>
            <a:off x="900000" y="2755800"/>
            <a:ext cx="4176720" cy="21369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24"/>
          <p:cNvSpPr/>
          <p:nvPr/>
        </p:nvSpPr>
        <p:spPr>
          <a:xfrm>
            <a:off x="2916360" y="2924280"/>
            <a:ext cx="1726920" cy="1944720"/>
          </a:xfrm>
          <a:prstGeom prst="parallelogram">
            <a:avLst>
              <a:gd name="adj" fmla="val 42463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4" name="Picture 25" descr="未标题-11"/>
          <p:cNvPicPr/>
          <p:nvPr/>
        </p:nvPicPr>
        <p:blipFill>
          <a:blip r:embed="rId2"/>
          <a:stretch/>
        </p:blipFill>
        <p:spPr>
          <a:xfrm>
            <a:off x="1979640" y="5013360"/>
            <a:ext cx="739800" cy="100800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1"/>
          <p:cNvGrpSpPr/>
          <p:nvPr/>
        </p:nvGrpSpPr>
        <p:grpSpPr>
          <a:xfrm>
            <a:off x="4643280" y="4941720"/>
            <a:ext cx="4203720" cy="1644480"/>
            <a:chOff x="4643280" y="4941720"/>
            <a:chExt cx="4203720" cy="1644480"/>
          </a:xfrm>
        </p:grpSpPr>
        <p:sp>
          <p:nvSpPr>
            <p:cNvPr id="146" name="AutoShape 22"/>
            <p:cNvSpPr/>
            <p:nvPr/>
          </p:nvSpPr>
          <p:spPr>
            <a:xfrm>
              <a:off x="4643280" y="5424120"/>
              <a:ext cx="2162160" cy="891000"/>
            </a:xfrm>
            <a:prstGeom prst="wedgeRoundRectCallout">
              <a:avLst>
                <a:gd name="adj1" fmla="val 65328"/>
                <a:gd name="adj2" fmla="val 1469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相加满十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向十位进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7" name="Picture 30" descr="03-1"/>
            <p:cNvPicPr/>
            <p:nvPr/>
          </p:nvPicPr>
          <p:blipFill>
            <a:blip r:embed="rId3"/>
            <a:stretch/>
          </p:blipFill>
          <p:spPr>
            <a:xfrm>
              <a:off x="7134120" y="4941720"/>
              <a:ext cx="171288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32"/>
          <p:cNvGrpSpPr/>
          <p:nvPr/>
        </p:nvGrpSpPr>
        <p:grpSpPr>
          <a:xfrm>
            <a:off x="5508720" y="260280"/>
            <a:ext cx="3108240" cy="1288800"/>
            <a:chOff x="5508720" y="260280"/>
            <a:chExt cx="3108240" cy="1288800"/>
          </a:xfrm>
        </p:grpSpPr>
        <p:sp>
          <p:nvSpPr>
            <p:cNvPr id="149" name="AutoShape 33"/>
            <p:cNvSpPr/>
            <p:nvPr/>
          </p:nvSpPr>
          <p:spPr>
            <a:xfrm>
              <a:off x="5508720" y="1052640"/>
              <a:ext cx="1657080" cy="496440"/>
            </a:xfrm>
            <a:prstGeom prst="wedgeRoundRectCallout">
              <a:avLst>
                <a:gd name="adj1" fmla="val 64268"/>
                <a:gd name="adj2" fmla="val 60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笔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0" name="Picture 34" descr="女天使"/>
            <p:cNvPicPr/>
            <p:nvPr/>
          </p:nvPicPr>
          <p:blipFill>
            <a:blip r:embed="rId4"/>
            <a:stretch/>
          </p:blipFill>
          <p:spPr>
            <a:xfrm>
              <a:off x="7093080" y="260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357120" y="289080"/>
            <a:ext cx="838224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101"/>
          <p:cNvGrpSpPr/>
          <p:nvPr/>
        </p:nvGrpSpPr>
        <p:grpSpPr>
          <a:xfrm>
            <a:off x="3564000" y="2060640"/>
            <a:ext cx="2697120" cy="4705200"/>
            <a:chOff x="3564000" y="2060640"/>
            <a:chExt cx="2697120" cy="4705200"/>
          </a:xfrm>
        </p:grpSpPr>
        <p:pic>
          <p:nvPicPr>
            <p:cNvPr id="153" name="Picture 3" descr="14-2"/>
            <p:cNvPicPr/>
            <p:nvPr/>
          </p:nvPicPr>
          <p:blipFill>
            <a:blip r:embed="rId1"/>
            <a:srcRect l="0" t="0" r="48234" b="0"/>
            <a:stretch/>
          </p:blipFill>
          <p:spPr>
            <a:xfrm>
              <a:off x="3564000" y="2060640"/>
              <a:ext cx="2697120" cy="470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Group 92"/>
            <p:cNvGrpSpPr/>
            <p:nvPr/>
          </p:nvGrpSpPr>
          <p:grpSpPr>
            <a:xfrm>
              <a:off x="3568680" y="2338560"/>
              <a:ext cx="1825200" cy="1328400"/>
              <a:chOff x="3568680" y="2338560"/>
              <a:chExt cx="1825200" cy="1328400"/>
            </a:xfrm>
          </p:grpSpPr>
          <p:grpSp>
            <p:nvGrpSpPr>
              <p:cNvPr id="155" name="Group 62"/>
              <p:cNvGrpSpPr/>
              <p:nvPr/>
            </p:nvGrpSpPr>
            <p:grpSpPr>
              <a:xfrm>
                <a:off x="3568680" y="2841480"/>
                <a:ext cx="972720" cy="825480"/>
                <a:chOff x="3568680" y="2841480"/>
                <a:chExt cx="972720" cy="825480"/>
              </a:xfrm>
            </p:grpSpPr>
            <p:sp>
              <p:nvSpPr>
                <p:cNvPr id="156" name="Rectangle 32"/>
                <p:cNvSpPr/>
                <p:nvPr/>
              </p:nvSpPr>
              <p:spPr>
                <a:xfrm>
                  <a:off x="3568680" y="2841480"/>
                  <a:ext cx="860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 7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楷体_GB2312"/>
                    </a:rPr>
                    <a:t>＋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4 1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57" name="Line 33"/>
                <p:cNvSpPr/>
                <p:nvPr/>
              </p:nvSpPr>
              <p:spPr>
                <a:xfrm>
                  <a:off x="3633480" y="3660840"/>
                  <a:ext cx="90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58" name="Group 84"/>
              <p:cNvGrpSpPr/>
              <p:nvPr/>
            </p:nvGrpSpPr>
            <p:grpSpPr>
              <a:xfrm>
                <a:off x="4421160" y="2338560"/>
                <a:ext cx="972720" cy="825480"/>
                <a:chOff x="4421160" y="2338560"/>
                <a:chExt cx="972720" cy="825480"/>
              </a:xfrm>
            </p:grpSpPr>
            <p:sp>
              <p:nvSpPr>
                <p:cNvPr id="159" name="Rectangle 32"/>
                <p:cNvSpPr/>
                <p:nvPr/>
              </p:nvSpPr>
              <p:spPr>
                <a:xfrm>
                  <a:off x="4421160" y="2338560"/>
                  <a:ext cx="860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 3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楷体_GB2312"/>
                    </a:rPr>
                    <a:t>＋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 5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0" name="Line 33"/>
                <p:cNvSpPr/>
                <p:nvPr/>
              </p:nvSpPr>
              <p:spPr>
                <a:xfrm>
                  <a:off x="4485960" y="3157560"/>
                  <a:ext cx="90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Rectangle 86"/>
          <p:cNvSpPr/>
          <p:nvPr/>
        </p:nvSpPr>
        <p:spPr>
          <a:xfrm>
            <a:off x="611280" y="1619280"/>
            <a:ext cx="403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算一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4967640" y="3073320"/>
            <a:ext cx="34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4710600" y="3073320"/>
            <a:ext cx="34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3854880" y="3576600"/>
            <a:ext cx="34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105800" y="3581280"/>
            <a:ext cx="34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7" name="Group 105"/>
          <p:cNvGrpSpPr/>
          <p:nvPr/>
        </p:nvGrpSpPr>
        <p:grpSpPr>
          <a:xfrm>
            <a:off x="6118200" y="2535120"/>
            <a:ext cx="2684520" cy="3171600"/>
            <a:chOff x="6118200" y="2535120"/>
            <a:chExt cx="2684520" cy="3171600"/>
          </a:xfrm>
        </p:grpSpPr>
        <p:sp>
          <p:nvSpPr>
            <p:cNvPr id="168" name="Text Box 5"/>
            <p:cNvSpPr/>
            <p:nvPr/>
          </p:nvSpPr>
          <p:spPr>
            <a:xfrm>
              <a:off x="6543720" y="3692520"/>
              <a:ext cx="21319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相同数位对齐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从个位加起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个位相加满十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向十位进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9" name="Text Box 5"/>
            <p:cNvSpPr/>
            <p:nvPr/>
          </p:nvSpPr>
          <p:spPr>
            <a:xfrm>
              <a:off x="6118200" y="2949480"/>
              <a:ext cx="2684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</a:rPr>
                <a:t>笔算加法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0" name="Group 37"/>
            <p:cNvGrpSpPr/>
            <p:nvPr/>
          </p:nvGrpSpPr>
          <p:grpSpPr>
            <a:xfrm>
              <a:off x="6278400" y="2535120"/>
              <a:ext cx="2406600" cy="3171600"/>
              <a:chOff x="6278400" y="2535120"/>
              <a:chExt cx="2406600" cy="3171600"/>
            </a:xfrm>
          </p:grpSpPr>
          <p:sp>
            <p:nvSpPr>
              <p:cNvPr id="171" name="AutoShape 38"/>
              <p:cNvSpPr/>
              <p:nvPr/>
            </p:nvSpPr>
            <p:spPr>
              <a:xfrm>
                <a:off x="6278400" y="2672280"/>
                <a:ext cx="2406600" cy="3034440"/>
              </a:xfrm>
              <a:custGeom>
                <a:avLst/>
                <a:gdLst>
                  <a:gd name="textAreaLeft" fmla="*/ 32760 w 2406600"/>
                  <a:gd name="textAreaRight" fmla="*/ 2373840 w 2406600"/>
                  <a:gd name="textAreaTop" fmla="*/ 32760 h 3034440"/>
                  <a:gd name="textAreaBottom" fmla="*/ 3001680 h 3034440"/>
                </a:gdLst>
                <a:ahLst/>
                <a:rect l="textAreaLeft" t="textAreaTop" r="textAreaRight" b="textAreaBottom"/>
                <a:pathLst>
                  <a:path w="21600" h="27234">
                    <a:moveTo>
                      <a:pt x="1013" y="0"/>
                    </a:moveTo>
                    <a:arcTo wR="1013" hR="1013" stAng="16200000" swAng="-5400000"/>
                    <a:lnTo>
                      <a:pt x="0" y="26221"/>
                    </a:lnTo>
                    <a:arcTo wR="1013" hR="1013" stAng="10800000" swAng="-5400000"/>
                    <a:lnTo>
                      <a:pt x="20587" y="27234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2" name="AutoShape 39"/>
              <p:cNvSpPr/>
              <p:nvPr/>
            </p:nvSpPr>
            <p:spPr>
              <a:xfrm>
                <a:off x="6504480" y="2535120"/>
                <a:ext cx="1949400" cy="27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4747"/>
                  </a:gs>
                  <a:gs pos="50000">
                    <a:srgbClr val="009999"/>
                  </a:gs>
                  <a:gs pos="100000">
                    <a:srgbClr val="0047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3" name="AutoShape 40"/>
              <p:cNvSpPr/>
              <p:nvPr/>
            </p:nvSpPr>
            <p:spPr>
              <a:xfrm flipH="1">
                <a:off x="8272080" y="2603880"/>
                <a:ext cx="74880" cy="137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4" name="AutoShape 41"/>
              <p:cNvSpPr/>
              <p:nvPr/>
            </p:nvSpPr>
            <p:spPr>
              <a:xfrm flipH="1">
                <a:off x="6612120" y="2603880"/>
                <a:ext cx="74520" cy="137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5" name="Group 102"/>
          <p:cNvGrpSpPr/>
          <p:nvPr/>
        </p:nvGrpSpPr>
        <p:grpSpPr>
          <a:xfrm>
            <a:off x="5076720" y="549360"/>
            <a:ext cx="3492720" cy="1322640"/>
            <a:chOff x="5076720" y="549360"/>
            <a:chExt cx="3492720" cy="1322640"/>
          </a:xfrm>
        </p:grpSpPr>
        <p:sp>
          <p:nvSpPr>
            <p:cNvPr id="176" name="AutoShape 53"/>
            <p:cNvSpPr/>
            <p:nvPr/>
          </p:nvSpPr>
          <p:spPr>
            <a:xfrm>
              <a:off x="5076720" y="981000"/>
              <a:ext cx="1728720" cy="891000"/>
            </a:xfrm>
            <a:prstGeom prst="wedgeRoundRectCallout">
              <a:avLst>
                <a:gd name="adj1" fmla="val 69736"/>
                <a:gd name="adj2" fmla="val 13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笔算加法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注意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7" name="Picture 54" descr="女天使"/>
            <p:cNvPicPr/>
            <p:nvPr/>
          </p:nvPicPr>
          <p:blipFill>
            <a:blip r:embed="rId2"/>
            <a:stretch/>
          </p:blipFill>
          <p:spPr>
            <a:xfrm>
              <a:off x="7045200" y="549360"/>
              <a:ext cx="1524240" cy="12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77"/>
          <p:cNvGrpSpPr/>
          <p:nvPr/>
        </p:nvGrpSpPr>
        <p:grpSpPr>
          <a:xfrm>
            <a:off x="1181160" y="2270160"/>
            <a:ext cx="2325600" cy="4587840"/>
            <a:chOff x="1181160" y="2270160"/>
            <a:chExt cx="2325600" cy="4587840"/>
          </a:xfrm>
        </p:grpSpPr>
        <p:pic>
          <p:nvPicPr>
            <p:cNvPr id="179" name="Picture 48" descr="14-2"/>
            <p:cNvPicPr/>
            <p:nvPr/>
          </p:nvPicPr>
          <p:blipFill>
            <a:blip r:embed="rId3"/>
            <a:srcRect l="52863" t="-2977" r="0" b="0"/>
            <a:stretch/>
          </p:blipFill>
          <p:spPr>
            <a:xfrm>
              <a:off x="1181160" y="2270160"/>
              <a:ext cx="2325600" cy="458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Group 67"/>
            <p:cNvGrpSpPr/>
            <p:nvPr/>
          </p:nvGrpSpPr>
          <p:grpSpPr>
            <a:xfrm>
              <a:off x="1239480" y="2427120"/>
              <a:ext cx="1958040" cy="1968480"/>
              <a:chOff x="1239480" y="2427120"/>
              <a:chExt cx="1958040" cy="1968480"/>
            </a:xfrm>
          </p:grpSpPr>
          <p:grpSp>
            <p:nvGrpSpPr>
              <p:cNvPr id="181" name="Group 68"/>
              <p:cNvGrpSpPr/>
              <p:nvPr/>
            </p:nvGrpSpPr>
            <p:grpSpPr>
              <a:xfrm>
                <a:off x="1686600" y="2427120"/>
                <a:ext cx="972720" cy="825480"/>
                <a:chOff x="1686600" y="2427120"/>
                <a:chExt cx="972720" cy="825480"/>
              </a:xfrm>
            </p:grpSpPr>
            <p:sp>
              <p:nvSpPr>
                <p:cNvPr id="182" name="Rectangle 32"/>
                <p:cNvSpPr/>
                <p:nvPr/>
              </p:nvSpPr>
              <p:spPr>
                <a:xfrm>
                  <a:off x="1686600" y="2427120"/>
                  <a:ext cx="860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 8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楷体_GB2312"/>
                    </a:rPr>
                    <a:t>＋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6 5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3" name="Line 33"/>
                <p:cNvSpPr/>
                <p:nvPr/>
              </p:nvSpPr>
              <p:spPr>
                <a:xfrm>
                  <a:off x="1751760" y="3246480"/>
                  <a:ext cx="907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84" name="Group 71"/>
              <p:cNvGrpSpPr/>
              <p:nvPr/>
            </p:nvGrpSpPr>
            <p:grpSpPr>
              <a:xfrm>
                <a:off x="1239480" y="3570120"/>
                <a:ext cx="972720" cy="825480"/>
                <a:chOff x="1239480" y="3570120"/>
                <a:chExt cx="972720" cy="825480"/>
              </a:xfrm>
            </p:grpSpPr>
            <p:sp>
              <p:nvSpPr>
                <p:cNvPr id="185" name="Rectangle 32"/>
                <p:cNvSpPr/>
                <p:nvPr/>
              </p:nvSpPr>
              <p:spPr>
                <a:xfrm>
                  <a:off x="1239480" y="3570120"/>
                  <a:ext cx="860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 3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楷体_GB2312"/>
                    </a:rPr>
                    <a:t>＋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4 7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6" name="Line 33"/>
                <p:cNvSpPr/>
                <p:nvPr/>
              </p:nvSpPr>
              <p:spPr>
                <a:xfrm>
                  <a:off x="1304280" y="4389480"/>
                  <a:ext cx="90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87" name="Group 74"/>
              <p:cNvGrpSpPr/>
              <p:nvPr/>
            </p:nvGrpSpPr>
            <p:grpSpPr>
              <a:xfrm>
                <a:off x="2224800" y="3405240"/>
                <a:ext cx="972720" cy="825480"/>
                <a:chOff x="2224800" y="3405240"/>
                <a:chExt cx="972720" cy="825480"/>
              </a:xfrm>
            </p:grpSpPr>
            <p:sp>
              <p:nvSpPr>
                <p:cNvPr id="188" name="Rectangle 32"/>
                <p:cNvSpPr/>
                <p:nvPr/>
              </p:nvSpPr>
              <p:spPr>
                <a:xfrm>
                  <a:off x="2224800" y="3405240"/>
                  <a:ext cx="860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 6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楷体_GB2312"/>
                    </a:rPr>
                    <a:t>＋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 9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9" name="Line 33"/>
                <p:cNvSpPr/>
                <p:nvPr/>
              </p:nvSpPr>
              <p:spPr>
                <a:xfrm>
                  <a:off x="2289960" y="4224240"/>
                  <a:ext cx="907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190" name="Rectangle 34"/>
          <p:cNvSpPr/>
          <p:nvPr/>
        </p:nvSpPr>
        <p:spPr>
          <a:xfrm>
            <a:off x="2227680" y="3139920"/>
            <a:ext cx="34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Rectangle 35"/>
          <p:cNvSpPr/>
          <p:nvPr/>
        </p:nvSpPr>
        <p:spPr>
          <a:xfrm>
            <a:off x="1970280" y="3139920"/>
            <a:ext cx="34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1781640" y="4302000"/>
            <a:ext cx="34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1524240" y="4302000"/>
            <a:ext cx="34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2764080" y="4143240"/>
            <a:ext cx="34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40"/>
          <p:cNvSpPr/>
          <p:nvPr/>
        </p:nvSpPr>
        <p:spPr>
          <a:xfrm>
            <a:off x="2513520" y="4143240"/>
            <a:ext cx="34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Rectangle 41"/>
          <p:cNvSpPr/>
          <p:nvPr/>
        </p:nvSpPr>
        <p:spPr>
          <a:xfrm>
            <a:off x="2136240" y="2954160"/>
            <a:ext cx="266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Rectangle 42"/>
          <p:cNvSpPr/>
          <p:nvPr/>
        </p:nvSpPr>
        <p:spPr>
          <a:xfrm>
            <a:off x="1699920" y="4108320"/>
            <a:ext cx="266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Rectangle 43"/>
          <p:cNvSpPr/>
          <p:nvPr/>
        </p:nvSpPr>
        <p:spPr>
          <a:xfrm>
            <a:off x="2682360" y="3943440"/>
            <a:ext cx="266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99"/>
          <p:cNvGrpSpPr/>
          <p:nvPr/>
        </p:nvGrpSpPr>
        <p:grpSpPr>
          <a:xfrm>
            <a:off x="324000" y="2565360"/>
            <a:ext cx="7848360" cy="2597040"/>
            <a:chOff x="324000" y="2565360"/>
            <a:chExt cx="7848360" cy="2597040"/>
          </a:xfrm>
        </p:grpSpPr>
        <p:pic>
          <p:nvPicPr>
            <p:cNvPr id="200" name="Picture 67" descr="未标题-12"/>
            <p:cNvPicPr/>
            <p:nvPr/>
          </p:nvPicPr>
          <p:blipFill>
            <a:blip r:embed="rId1"/>
            <a:stretch/>
          </p:blipFill>
          <p:spPr>
            <a:xfrm>
              <a:off x="324000" y="2565360"/>
              <a:ext cx="7848360" cy="259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Group 79"/>
            <p:cNvGrpSpPr/>
            <p:nvPr/>
          </p:nvGrpSpPr>
          <p:grpSpPr>
            <a:xfrm>
              <a:off x="755640" y="2924280"/>
              <a:ext cx="1079640" cy="1223280"/>
              <a:chOff x="755640" y="2924280"/>
              <a:chExt cx="1079640" cy="1223280"/>
            </a:xfrm>
          </p:grpSpPr>
          <p:sp>
            <p:nvSpPr>
              <p:cNvPr id="202" name="Text Box 68"/>
              <p:cNvSpPr/>
              <p:nvPr/>
            </p:nvSpPr>
            <p:spPr>
              <a:xfrm>
                <a:off x="755640" y="2924280"/>
                <a:ext cx="1079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 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 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3" name="Line 72"/>
              <p:cNvSpPr/>
              <p:nvPr/>
            </p:nvSpPr>
            <p:spPr>
              <a:xfrm>
                <a:off x="900000" y="374004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4" name="Text Box 74"/>
              <p:cNvSpPr/>
              <p:nvPr/>
            </p:nvSpPr>
            <p:spPr>
              <a:xfrm>
                <a:off x="901800" y="3687840"/>
                <a:ext cx="74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 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05" name="Group 89"/>
            <p:cNvGrpSpPr/>
            <p:nvPr/>
          </p:nvGrpSpPr>
          <p:grpSpPr>
            <a:xfrm>
              <a:off x="3492360" y="2924280"/>
              <a:ext cx="1079640" cy="1223280"/>
              <a:chOff x="3492360" y="2924280"/>
              <a:chExt cx="1079640" cy="1223280"/>
            </a:xfrm>
          </p:grpSpPr>
          <p:sp>
            <p:nvSpPr>
              <p:cNvPr id="206" name="Text Box 85"/>
              <p:cNvSpPr/>
              <p:nvPr/>
            </p:nvSpPr>
            <p:spPr>
              <a:xfrm>
                <a:off x="3492360" y="2924280"/>
                <a:ext cx="1079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 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7" name="Line 86"/>
              <p:cNvSpPr/>
              <p:nvPr/>
            </p:nvSpPr>
            <p:spPr>
              <a:xfrm>
                <a:off x="3637080" y="374040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8" name="Text Box 87"/>
              <p:cNvSpPr/>
              <p:nvPr/>
            </p:nvSpPr>
            <p:spPr>
              <a:xfrm>
                <a:off x="3540240" y="3687840"/>
                <a:ext cx="74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09" name="Group 94"/>
            <p:cNvGrpSpPr/>
            <p:nvPr/>
          </p:nvGrpSpPr>
          <p:grpSpPr>
            <a:xfrm>
              <a:off x="6215040" y="2924280"/>
              <a:ext cx="1079640" cy="1223280"/>
              <a:chOff x="6215040" y="2924280"/>
              <a:chExt cx="1079640" cy="1223280"/>
            </a:xfrm>
          </p:grpSpPr>
          <p:sp>
            <p:nvSpPr>
              <p:cNvPr id="210" name="Text Box 95"/>
              <p:cNvSpPr/>
              <p:nvPr/>
            </p:nvSpPr>
            <p:spPr>
              <a:xfrm>
                <a:off x="6215040" y="2924280"/>
                <a:ext cx="1079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1" name="Line 96"/>
              <p:cNvSpPr/>
              <p:nvPr/>
            </p:nvSpPr>
            <p:spPr>
              <a:xfrm>
                <a:off x="6359400" y="374004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2" name="Text Box 97"/>
              <p:cNvSpPr/>
              <p:nvPr/>
            </p:nvSpPr>
            <p:spPr>
              <a:xfrm>
                <a:off x="6361200" y="3687840"/>
                <a:ext cx="74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 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611280" y="1557360"/>
            <a:ext cx="7921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下面的计算对吗？把不对的改正过来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5" name="Group 102"/>
          <p:cNvGrpSpPr/>
          <p:nvPr/>
        </p:nvGrpSpPr>
        <p:grpSpPr>
          <a:xfrm>
            <a:off x="1728720" y="2781360"/>
            <a:ext cx="1479600" cy="1003320"/>
            <a:chOff x="1728720" y="2781360"/>
            <a:chExt cx="1479600" cy="1003320"/>
          </a:xfrm>
        </p:grpSpPr>
        <p:sp>
          <p:nvSpPr>
            <p:cNvPr id="216" name="直接连接符 36"/>
            <p:cNvSpPr/>
            <p:nvPr/>
          </p:nvSpPr>
          <p:spPr>
            <a:xfrm>
              <a:off x="1798560" y="3740040"/>
              <a:ext cx="11095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7" name="TextBox 54"/>
            <p:cNvSpPr/>
            <p:nvPr/>
          </p:nvSpPr>
          <p:spPr>
            <a:xfrm>
              <a:off x="2128680" y="278136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4  9</a:t>
              </a:r>
              <a:endParaRPr b="1" lang="en-US" sz="25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" name="TextBox 55"/>
            <p:cNvSpPr/>
            <p:nvPr/>
          </p:nvSpPr>
          <p:spPr>
            <a:xfrm>
              <a:off x="1728720" y="323388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12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4  4</a:t>
              </a:r>
              <a:endParaRPr b="1" lang="en-US" sz="25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9" name="TextBox 56"/>
          <p:cNvSpPr/>
          <p:nvPr/>
        </p:nvSpPr>
        <p:spPr>
          <a:xfrm>
            <a:off x="2347920" y="36496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Box 57"/>
          <p:cNvSpPr/>
          <p:nvPr/>
        </p:nvSpPr>
        <p:spPr>
          <a:xfrm>
            <a:off x="2017800" y="3649680"/>
            <a:ext cx="5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Box 58"/>
          <p:cNvSpPr/>
          <p:nvPr/>
        </p:nvSpPr>
        <p:spPr>
          <a:xfrm>
            <a:off x="2239920" y="3457440"/>
            <a:ext cx="4176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Box 76"/>
          <p:cNvSpPr/>
          <p:nvPr/>
        </p:nvSpPr>
        <p:spPr>
          <a:xfrm>
            <a:off x="5087880" y="364824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Box 77"/>
          <p:cNvSpPr/>
          <p:nvPr/>
        </p:nvSpPr>
        <p:spPr>
          <a:xfrm>
            <a:off x="4746600" y="3649680"/>
            <a:ext cx="51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Box 78"/>
          <p:cNvSpPr/>
          <p:nvPr/>
        </p:nvSpPr>
        <p:spPr>
          <a:xfrm>
            <a:off x="4968720" y="3459240"/>
            <a:ext cx="3621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Box 85"/>
          <p:cNvSpPr/>
          <p:nvPr/>
        </p:nvSpPr>
        <p:spPr>
          <a:xfrm>
            <a:off x="8177040" y="3648240"/>
            <a:ext cx="54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Box 86"/>
          <p:cNvSpPr/>
          <p:nvPr/>
        </p:nvSpPr>
        <p:spPr>
          <a:xfrm>
            <a:off x="7832880" y="3648240"/>
            <a:ext cx="51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Box 87"/>
          <p:cNvSpPr/>
          <p:nvPr/>
        </p:nvSpPr>
        <p:spPr>
          <a:xfrm>
            <a:off x="8101080" y="3500280"/>
            <a:ext cx="3175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8" name="Group 122"/>
          <p:cNvGrpSpPr/>
          <p:nvPr/>
        </p:nvGrpSpPr>
        <p:grpSpPr>
          <a:xfrm>
            <a:off x="4716360" y="692280"/>
            <a:ext cx="3900600" cy="1279440"/>
            <a:chOff x="4716360" y="692280"/>
            <a:chExt cx="3900600" cy="1279440"/>
          </a:xfrm>
        </p:grpSpPr>
        <p:sp>
          <p:nvSpPr>
            <p:cNvPr id="229" name="AutoShape 53"/>
            <p:cNvSpPr/>
            <p:nvPr/>
          </p:nvSpPr>
          <p:spPr>
            <a:xfrm>
              <a:off x="4716360" y="692280"/>
              <a:ext cx="2448000" cy="496440"/>
            </a:xfrm>
            <a:prstGeom prst="wedgeRoundRectCallout">
              <a:avLst>
                <a:gd name="adj1" fmla="val 56671"/>
                <a:gd name="adj2" fmla="val 370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相同数位要对齐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30" name="Picture 54" descr="女天使"/>
            <p:cNvPicPr/>
            <p:nvPr/>
          </p:nvPicPr>
          <p:blipFill>
            <a:blip r:embed="rId2"/>
            <a:stretch/>
          </p:blipFill>
          <p:spPr>
            <a:xfrm>
              <a:off x="7093080" y="692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98"/>
          <p:cNvGrpSpPr/>
          <p:nvPr/>
        </p:nvGrpSpPr>
        <p:grpSpPr>
          <a:xfrm>
            <a:off x="250920" y="4869000"/>
            <a:ext cx="3744720" cy="1796760"/>
            <a:chOff x="250920" y="4869000"/>
            <a:chExt cx="3744720" cy="1796760"/>
          </a:xfrm>
        </p:grpSpPr>
        <p:pic>
          <p:nvPicPr>
            <p:cNvPr id="232" name="Picture 64" descr="未标题-9"/>
            <p:cNvPicPr/>
            <p:nvPr/>
          </p:nvPicPr>
          <p:blipFill>
            <a:blip r:embed="rId3"/>
            <a:srcRect l="0" t="0" r="0" b="12657"/>
            <a:stretch/>
          </p:blipFill>
          <p:spPr>
            <a:xfrm>
              <a:off x="250920" y="4869000"/>
              <a:ext cx="1463760" cy="17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AutoShape 65"/>
            <p:cNvSpPr/>
            <p:nvPr/>
          </p:nvSpPr>
          <p:spPr>
            <a:xfrm>
              <a:off x="1619280" y="5300640"/>
              <a:ext cx="2376360" cy="891000"/>
            </a:xfrm>
            <a:prstGeom prst="wedgeRoundRectCallout">
              <a:avLst>
                <a:gd name="adj1" fmla="val -60148"/>
                <a:gd name="adj2" fmla="val 12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满十了，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位别忘了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呦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4" name="Group 103"/>
          <p:cNvGrpSpPr/>
          <p:nvPr/>
        </p:nvGrpSpPr>
        <p:grpSpPr>
          <a:xfrm>
            <a:off x="4427640" y="2781360"/>
            <a:ext cx="1479600" cy="1003320"/>
            <a:chOff x="4427640" y="2781360"/>
            <a:chExt cx="1479600" cy="1003320"/>
          </a:xfrm>
        </p:grpSpPr>
        <p:sp>
          <p:nvSpPr>
            <p:cNvPr id="235" name="直接连接符 36"/>
            <p:cNvSpPr/>
            <p:nvPr/>
          </p:nvSpPr>
          <p:spPr>
            <a:xfrm>
              <a:off x="4497480" y="3740040"/>
              <a:ext cx="11095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6" name="TextBox 54"/>
            <p:cNvSpPr/>
            <p:nvPr/>
          </p:nvSpPr>
          <p:spPr>
            <a:xfrm>
              <a:off x="4827600" y="278136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2  1</a:t>
              </a:r>
              <a:endParaRPr b="1" lang="en-US" sz="25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7" name="TextBox 55"/>
            <p:cNvSpPr/>
            <p:nvPr/>
          </p:nvSpPr>
          <p:spPr>
            <a:xfrm>
              <a:off x="4427640" y="323388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12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3  9</a:t>
              </a:r>
              <a:endParaRPr b="1" lang="en-US" sz="25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8" name="Group 107"/>
          <p:cNvGrpSpPr/>
          <p:nvPr/>
        </p:nvGrpSpPr>
        <p:grpSpPr>
          <a:xfrm>
            <a:off x="7524720" y="2781360"/>
            <a:ext cx="1479600" cy="1003320"/>
            <a:chOff x="7524720" y="2781360"/>
            <a:chExt cx="1479600" cy="1003320"/>
          </a:xfrm>
        </p:grpSpPr>
        <p:sp>
          <p:nvSpPr>
            <p:cNvPr id="239" name="直接连接符 36"/>
            <p:cNvSpPr/>
            <p:nvPr/>
          </p:nvSpPr>
          <p:spPr>
            <a:xfrm>
              <a:off x="7594560" y="3740040"/>
              <a:ext cx="11095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0" name="TextBox 54"/>
            <p:cNvSpPr/>
            <p:nvPr/>
          </p:nvSpPr>
          <p:spPr>
            <a:xfrm>
              <a:off x="7924680" y="278136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2  7</a:t>
              </a:r>
              <a:endParaRPr b="1" lang="en-US" sz="25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1" name="TextBox 55"/>
            <p:cNvSpPr/>
            <p:nvPr/>
          </p:nvSpPr>
          <p:spPr>
            <a:xfrm>
              <a:off x="7524720" y="323388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楷体_GB2312"/>
                </a:rPr>
                <a:t>＋  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5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2" name="Group 119"/>
          <p:cNvGrpSpPr/>
          <p:nvPr/>
        </p:nvGrpSpPr>
        <p:grpSpPr>
          <a:xfrm>
            <a:off x="4640400" y="5048280"/>
            <a:ext cx="4249440" cy="1644480"/>
            <a:chOff x="4640400" y="5048280"/>
            <a:chExt cx="4249440" cy="1644480"/>
          </a:xfrm>
        </p:grpSpPr>
        <p:sp>
          <p:nvSpPr>
            <p:cNvPr id="243" name="AutoShape 58"/>
            <p:cNvSpPr/>
            <p:nvPr/>
          </p:nvSpPr>
          <p:spPr>
            <a:xfrm>
              <a:off x="4640400" y="5106960"/>
              <a:ext cx="2401920" cy="891000"/>
            </a:xfrm>
            <a:prstGeom prst="wedgeRoundRectCallout">
              <a:avLst>
                <a:gd name="adj1" fmla="val 58254"/>
                <a:gd name="adj2" fmla="val 25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用来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位的，一定要写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44" name="Picture 118" descr="03-1"/>
            <p:cNvPicPr/>
            <p:nvPr/>
          </p:nvPicPr>
          <p:blipFill>
            <a:blip r:embed="rId4"/>
            <a:stretch/>
          </p:blipFill>
          <p:spPr>
            <a:xfrm>
              <a:off x="7176960" y="5048280"/>
              <a:ext cx="1712880" cy="164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07"/>
          <p:cNvSpPr/>
          <p:nvPr/>
        </p:nvSpPr>
        <p:spPr>
          <a:xfrm>
            <a:off x="2274840" y="2852640"/>
            <a:ext cx="536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TextBox 111"/>
          <p:cNvSpPr/>
          <p:nvPr/>
        </p:nvSpPr>
        <p:spPr>
          <a:xfrm>
            <a:off x="4903920" y="2852640"/>
            <a:ext cx="536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Box 116"/>
          <p:cNvSpPr/>
          <p:nvPr/>
        </p:nvSpPr>
        <p:spPr>
          <a:xfrm>
            <a:off x="7569360" y="2852640"/>
            <a:ext cx="536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TextBox 109"/>
          <p:cNvSpPr/>
          <p:nvPr/>
        </p:nvSpPr>
        <p:spPr>
          <a:xfrm>
            <a:off x="2273400" y="4008600"/>
            <a:ext cx="536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TextBox 113"/>
          <p:cNvSpPr/>
          <p:nvPr/>
        </p:nvSpPr>
        <p:spPr>
          <a:xfrm>
            <a:off x="4903920" y="4008600"/>
            <a:ext cx="536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Box 115"/>
          <p:cNvSpPr/>
          <p:nvPr/>
        </p:nvSpPr>
        <p:spPr>
          <a:xfrm>
            <a:off x="7567560" y="4008600"/>
            <a:ext cx="536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2" name="Group 36"/>
          <p:cNvGrpSpPr/>
          <p:nvPr/>
        </p:nvGrpSpPr>
        <p:grpSpPr>
          <a:xfrm>
            <a:off x="4745160" y="1017720"/>
            <a:ext cx="3744360" cy="1279440"/>
            <a:chOff x="4745160" y="1017720"/>
            <a:chExt cx="3744360" cy="1279440"/>
          </a:xfrm>
        </p:grpSpPr>
        <p:sp>
          <p:nvSpPr>
            <p:cNvPr id="253" name="AutoShape 32"/>
            <p:cNvSpPr/>
            <p:nvPr/>
          </p:nvSpPr>
          <p:spPr>
            <a:xfrm>
              <a:off x="4745160" y="1144440"/>
              <a:ext cx="2152440" cy="496440"/>
            </a:xfrm>
            <a:prstGeom prst="wedgeRoundRectCallout">
              <a:avLst>
                <a:gd name="adj1" fmla="val 60833"/>
                <a:gd name="adj2" fmla="val -369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下面藏着几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54" name="Picture 33" descr="女天使"/>
            <p:cNvPicPr/>
            <p:nvPr/>
          </p:nvPicPr>
          <p:blipFill>
            <a:blip r:embed="rId1"/>
            <a:stretch/>
          </p:blipFill>
          <p:spPr>
            <a:xfrm>
              <a:off x="6965640" y="1017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五角星 26"/>
            <p:cNvSpPr/>
            <p:nvPr/>
          </p:nvSpPr>
          <p:spPr>
            <a:xfrm>
              <a:off x="4798800" y="1217520"/>
              <a:ext cx="355320" cy="353520"/>
            </a:xfrm>
            <a:custGeom>
              <a:avLst/>
              <a:gdLst/>
              <a:ahLst/>
              <a:rect l="l" t="t" r="r" b="b"/>
              <a:pathLst>
                <a:path w="288925" h="287337">
                  <a:moveTo>
                    <a:pt x="0" y="109753"/>
                  </a:moveTo>
                  <a:lnTo>
                    <a:pt x="110360" y="109753"/>
                  </a:lnTo>
                  <a:lnTo>
                    <a:pt x="144463" y="0"/>
                  </a:lnTo>
                  <a:lnTo>
                    <a:pt x="178565" y="109753"/>
                  </a:lnTo>
                  <a:lnTo>
                    <a:pt x="288925" y="109753"/>
                  </a:lnTo>
                  <a:lnTo>
                    <a:pt x="199641" y="177583"/>
                  </a:lnTo>
                  <a:lnTo>
                    <a:pt x="233745" y="287336"/>
                  </a:lnTo>
                  <a:lnTo>
                    <a:pt x="144463" y="219504"/>
                  </a:lnTo>
                  <a:lnTo>
                    <a:pt x="55180" y="287336"/>
                  </a:lnTo>
                  <a:lnTo>
                    <a:pt x="89284" y="177583"/>
                  </a:lnTo>
                  <a:lnTo>
                    <a:pt x="0" y="10975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6" name="五角星 26"/>
          <p:cNvSpPr/>
          <p:nvPr/>
        </p:nvSpPr>
        <p:spPr>
          <a:xfrm>
            <a:off x="2276640" y="2905200"/>
            <a:ext cx="495000" cy="493560"/>
          </a:xfrm>
          <a:custGeom>
            <a:avLst/>
            <a:gdLst/>
            <a:ahLst/>
            <a:rect l="l" t="t" r="r" b="b"/>
            <a:pathLst>
              <a:path w="288925" h="287337">
                <a:moveTo>
                  <a:pt x="0" y="109753"/>
                </a:moveTo>
                <a:lnTo>
                  <a:pt x="110360" y="109753"/>
                </a:lnTo>
                <a:lnTo>
                  <a:pt x="144463" y="0"/>
                </a:lnTo>
                <a:lnTo>
                  <a:pt x="178565" y="109753"/>
                </a:lnTo>
                <a:lnTo>
                  <a:pt x="288925" y="109753"/>
                </a:lnTo>
                <a:lnTo>
                  <a:pt x="199641" y="177583"/>
                </a:lnTo>
                <a:lnTo>
                  <a:pt x="233745" y="287336"/>
                </a:lnTo>
                <a:lnTo>
                  <a:pt x="144463" y="219504"/>
                </a:lnTo>
                <a:lnTo>
                  <a:pt x="55180" y="287336"/>
                </a:lnTo>
                <a:lnTo>
                  <a:pt x="89284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611280" y="1557360"/>
            <a:ext cx="2376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五角星 26"/>
          <p:cNvSpPr/>
          <p:nvPr/>
        </p:nvSpPr>
        <p:spPr>
          <a:xfrm>
            <a:off x="2276640" y="4057560"/>
            <a:ext cx="495000" cy="493920"/>
          </a:xfrm>
          <a:custGeom>
            <a:avLst/>
            <a:gdLst/>
            <a:ahLst/>
            <a:rect l="l" t="t" r="r" b="b"/>
            <a:pathLst>
              <a:path w="288925" h="287337">
                <a:moveTo>
                  <a:pt x="0" y="109753"/>
                </a:moveTo>
                <a:lnTo>
                  <a:pt x="110360" y="109753"/>
                </a:lnTo>
                <a:lnTo>
                  <a:pt x="144463" y="0"/>
                </a:lnTo>
                <a:lnTo>
                  <a:pt x="178565" y="109753"/>
                </a:lnTo>
                <a:lnTo>
                  <a:pt x="288925" y="109753"/>
                </a:lnTo>
                <a:lnTo>
                  <a:pt x="199641" y="177583"/>
                </a:lnTo>
                <a:lnTo>
                  <a:pt x="233745" y="287336"/>
                </a:lnTo>
                <a:lnTo>
                  <a:pt x="144463" y="219504"/>
                </a:lnTo>
                <a:lnTo>
                  <a:pt x="55180" y="287336"/>
                </a:lnTo>
                <a:lnTo>
                  <a:pt x="89284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五角星 26"/>
          <p:cNvSpPr/>
          <p:nvPr/>
        </p:nvSpPr>
        <p:spPr>
          <a:xfrm>
            <a:off x="4910040" y="2905200"/>
            <a:ext cx="495360" cy="493560"/>
          </a:xfrm>
          <a:custGeom>
            <a:avLst/>
            <a:gdLst/>
            <a:ahLst/>
            <a:rect l="l" t="t" r="r" b="b"/>
            <a:pathLst>
              <a:path w="288925" h="287337">
                <a:moveTo>
                  <a:pt x="0" y="109753"/>
                </a:moveTo>
                <a:lnTo>
                  <a:pt x="110360" y="109753"/>
                </a:lnTo>
                <a:lnTo>
                  <a:pt x="144463" y="0"/>
                </a:lnTo>
                <a:lnTo>
                  <a:pt x="178565" y="109753"/>
                </a:lnTo>
                <a:lnTo>
                  <a:pt x="288925" y="109753"/>
                </a:lnTo>
                <a:lnTo>
                  <a:pt x="199641" y="177583"/>
                </a:lnTo>
                <a:lnTo>
                  <a:pt x="233745" y="287336"/>
                </a:lnTo>
                <a:lnTo>
                  <a:pt x="144463" y="219504"/>
                </a:lnTo>
                <a:lnTo>
                  <a:pt x="55180" y="287336"/>
                </a:lnTo>
                <a:lnTo>
                  <a:pt x="89284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五角星 26"/>
          <p:cNvSpPr/>
          <p:nvPr/>
        </p:nvSpPr>
        <p:spPr>
          <a:xfrm>
            <a:off x="4910040" y="4057560"/>
            <a:ext cx="495360" cy="493920"/>
          </a:xfrm>
          <a:custGeom>
            <a:avLst/>
            <a:gdLst/>
            <a:ahLst/>
            <a:rect l="l" t="t" r="r" b="b"/>
            <a:pathLst>
              <a:path w="288925" h="287337">
                <a:moveTo>
                  <a:pt x="0" y="109753"/>
                </a:moveTo>
                <a:lnTo>
                  <a:pt x="110360" y="109753"/>
                </a:lnTo>
                <a:lnTo>
                  <a:pt x="144463" y="0"/>
                </a:lnTo>
                <a:lnTo>
                  <a:pt x="178565" y="109753"/>
                </a:lnTo>
                <a:lnTo>
                  <a:pt x="288925" y="109753"/>
                </a:lnTo>
                <a:lnTo>
                  <a:pt x="199641" y="177583"/>
                </a:lnTo>
                <a:lnTo>
                  <a:pt x="233745" y="287336"/>
                </a:lnTo>
                <a:lnTo>
                  <a:pt x="144463" y="219504"/>
                </a:lnTo>
                <a:lnTo>
                  <a:pt x="55180" y="287336"/>
                </a:lnTo>
                <a:lnTo>
                  <a:pt x="89284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五角星 26"/>
          <p:cNvSpPr/>
          <p:nvPr/>
        </p:nvSpPr>
        <p:spPr>
          <a:xfrm>
            <a:off x="7567560" y="2905200"/>
            <a:ext cx="495360" cy="493560"/>
          </a:xfrm>
          <a:custGeom>
            <a:avLst/>
            <a:gdLst/>
            <a:ahLst/>
            <a:rect l="l" t="t" r="r" b="b"/>
            <a:pathLst>
              <a:path w="288925" h="287337">
                <a:moveTo>
                  <a:pt x="0" y="109753"/>
                </a:moveTo>
                <a:lnTo>
                  <a:pt x="110360" y="109753"/>
                </a:lnTo>
                <a:lnTo>
                  <a:pt x="144463" y="0"/>
                </a:lnTo>
                <a:lnTo>
                  <a:pt x="178565" y="109753"/>
                </a:lnTo>
                <a:lnTo>
                  <a:pt x="288925" y="109753"/>
                </a:lnTo>
                <a:lnTo>
                  <a:pt x="199641" y="177583"/>
                </a:lnTo>
                <a:lnTo>
                  <a:pt x="233745" y="287336"/>
                </a:lnTo>
                <a:lnTo>
                  <a:pt x="144463" y="219504"/>
                </a:lnTo>
                <a:lnTo>
                  <a:pt x="55180" y="287336"/>
                </a:lnTo>
                <a:lnTo>
                  <a:pt x="89284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2" name="Group 56"/>
          <p:cNvGrpSpPr/>
          <p:nvPr/>
        </p:nvGrpSpPr>
        <p:grpSpPr>
          <a:xfrm>
            <a:off x="754200" y="2852640"/>
            <a:ext cx="7921440" cy="1794600"/>
            <a:chOff x="754200" y="2852640"/>
            <a:chExt cx="7921440" cy="1794600"/>
          </a:xfrm>
        </p:grpSpPr>
        <p:sp>
          <p:nvSpPr>
            <p:cNvPr id="263" name="TextBox 99"/>
            <p:cNvSpPr/>
            <p:nvPr/>
          </p:nvSpPr>
          <p:spPr>
            <a:xfrm>
              <a:off x="754200" y="2852640"/>
              <a:ext cx="2630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＝ </a:t>
              </a:r>
              <a:r>
                <a:rPr b="1" lang="en-US" sz="15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4" name="TextBox 99"/>
            <p:cNvSpPr/>
            <p:nvPr/>
          </p:nvSpPr>
          <p:spPr>
            <a:xfrm>
              <a:off x="754200" y="4005360"/>
              <a:ext cx="2630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＝ </a:t>
              </a:r>
              <a:r>
                <a:rPr b="1" lang="en-US" sz="15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5" name="TextBox 99"/>
            <p:cNvSpPr/>
            <p:nvPr/>
          </p:nvSpPr>
          <p:spPr>
            <a:xfrm>
              <a:off x="3387600" y="2852640"/>
              <a:ext cx="2630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＝ </a:t>
              </a:r>
              <a:r>
                <a:rPr b="1" lang="en-US" sz="15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6" name="TextBox 99"/>
            <p:cNvSpPr/>
            <p:nvPr/>
          </p:nvSpPr>
          <p:spPr>
            <a:xfrm>
              <a:off x="3387600" y="4005360"/>
              <a:ext cx="2630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＝ </a:t>
              </a:r>
              <a:r>
                <a:rPr b="1" lang="en-US" sz="15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7" name="TextBox 99"/>
            <p:cNvSpPr/>
            <p:nvPr/>
          </p:nvSpPr>
          <p:spPr>
            <a:xfrm>
              <a:off x="6045120" y="2852640"/>
              <a:ext cx="2630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＝ </a:t>
              </a:r>
              <a:r>
                <a:rPr b="1" lang="en-US" sz="15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8" name="TextBox 99"/>
            <p:cNvSpPr/>
            <p:nvPr/>
          </p:nvSpPr>
          <p:spPr>
            <a:xfrm>
              <a:off x="6262560" y="4005360"/>
              <a:ext cx="23418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＝ </a:t>
              </a:r>
              <a:r>
                <a:rPr b="1" lang="en-US" sz="15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9" name="五角星 26"/>
          <p:cNvSpPr/>
          <p:nvPr/>
        </p:nvSpPr>
        <p:spPr>
          <a:xfrm>
            <a:off x="7567560" y="4057560"/>
            <a:ext cx="495360" cy="493920"/>
          </a:xfrm>
          <a:custGeom>
            <a:avLst/>
            <a:gdLst/>
            <a:ahLst/>
            <a:rect l="l" t="t" r="r" b="b"/>
            <a:pathLst>
              <a:path w="288925" h="287337">
                <a:moveTo>
                  <a:pt x="0" y="109753"/>
                </a:moveTo>
                <a:lnTo>
                  <a:pt x="110360" y="109753"/>
                </a:lnTo>
                <a:lnTo>
                  <a:pt x="144463" y="0"/>
                </a:lnTo>
                <a:lnTo>
                  <a:pt x="178565" y="109753"/>
                </a:lnTo>
                <a:lnTo>
                  <a:pt x="288925" y="109753"/>
                </a:lnTo>
                <a:lnTo>
                  <a:pt x="199641" y="177583"/>
                </a:lnTo>
                <a:lnTo>
                  <a:pt x="233745" y="287336"/>
                </a:lnTo>
                <a:lnTo>
                  <a:pt x="144463" y="219504"/>
                </a:lnTo>
                <a:lnTo>
                  <a:pt x="55180" y="287336"/>
                </a:lnTo>
                <a:lnTo>
                  <a:pt x="89284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95"/>
          <p:cNvGrpSpPr/>
          <p:nvPr/>
        </p:nvGrpSpPr>
        <p:grpSpPr>
          <a:xfrm>
            <a:off x="5400720" y="1989000"/>
            <a:ext cx="1596960" cy="3356280"/>
            <a:chOff x="5400720" y="1989000"/>
            <a:chExt cx="1596960" cy="3356280"/>
          </a:xfrm>
        </p:grpSpPr>
        <p:pic>
          <p:nvPicPr>
            <p:cNvPr id="271" name="Picture 21" descr="21-7 拷贝"/>
            <p:cNvPicPr/>
            <p:nvPr/>
          </p:nvPicPr>
          <p:blipFill>
            <a:blip r:embed="rId1"/>
            <a:stretch/>
          </p:blipFill>
          <p:spPr>
            <a:xfrm>
              <a:off x="5400720" y="1989000"/>
              <a:ext cx="1596960" cy="335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Group 94"/>
            <p:cNvGrpSpPr/>
            <p:nvPr/>
          </p:nvGrpSpPr>
          <p:grpSpPr>
            <a:xfrm>
              <a:off x="5469840" y="2311560"/>
              <a:ext cx="1283040" cy="1410480"/>
              <a:chOff x="5469840" y="2311560"/>
              <a:chExt cx="1283040" cy="1410480"/>
            </a:xfrm>
          </p:grpSpPr>
          <p:grpSp>
            <p:nvGrpSpPr>
              <p:cNvPr id="273" name="Group 71"/>
              <p:cNvGrpSpPr/>
              <p:nvPr/>
            </p:nvGrpSpPr>
            <p:grpSpPr>
              <a:xfrm>
                <a:off x="5469840" y="2311560"/>
                <a:ext cx="1283040" cy="1410480"/>
                <a:chOff x="5469840" y="2311560"/>
                <a:chExt cx="1283040" cy="1410480"/>
              </a:xfrm>
            </p:grpSpPr>
            <p:sp>
              <p:nvSpPr>
                <p:cNvPr id="274" name="Rectangle 22"/>
                <p:cNvSpPr/>
                <p:nvPr/>
              </p:nvSpPr>
              <p:spPr>
                <a:xfrm>
                  <a:off x="5469840" y="2311560"/>
                  <a:ext cx="1244520" cy="14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楷体_GB2312"/>
                    </a:rPr>
                    <a:t>＋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8  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75" name="Line 33"/>
                <p:cNvSpPr/>
                <p:nvPr/>
              </p:nvSpPr>
              <p:spPr>
                <a:xfrm>
                  <a:off x="5616360" y="3241800"/>
                  <a:ext cx="1136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76" name="Rectangle 83"/>
              <p:cNvSpPr/>
              <p:nvPr/>
            </p:nvSpPr>
            <p:spPr>
              <a:xfrm>
                <a:off x="6354720" y="2432160"/>
                <a:ext cx="331920" cy="331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7" name="Rectangle 84"/>
              <p:cNvSpPr/>
              <p:nvPr/>
            </p:nvSpPr>
            <p:spPr>
              <a:xfrm>
                <a:off x="6354720" y="2863800"/>
                <a:ext cx="331920" cy="331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78" name="Group 93"/>
          <p:cNvGrpSpPr/>
          <p:nvPr/>
        </p:nvGrpSpPr>
        <p:grpSpPr>
          <a:xfrm>
            <a:off x="1836720" y="1989000"/>
            <a:ext cx="1596960" cy="3356280"/>
            <a:chOff x="1836720" y="1989000"/>
            <a:chExt cx="1596960" cy="3356280"/>
          </a:xfrm>
        </p:grpSpPr>
        <p:pic>
          <p:nvPicPr>
            <p:cNvPr id="279" name="Picture 21" descr="21-7 拷贝"/>
            <p:cNvPicPr/>
            <p:nvPr/>
          </p:nvPicPr>
          <p:blipFill>
            <a:blip r:embed="rId2"/>
            <a:stretch/>
          </p:blipFill>
          <p:spPr>
            <a:xfrm>
              <a:off x="1836720" y="1989000"/>
              <a:ext cx="1596960" cy="335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Group 85"/>
            <p:cNvGrpSpPr/>
            <p:nvPr/>
          </p:nvGrpSpPr>
          <p:grpSpPr>
            <a:xfrm>
              <a:off x="1904040" y="2311560"/>
              <a:ext cx="1283760" cy="1410480"/>
              <a:chOff x="1904040" y="2311560"/>
              <a:chExt cx="1283760" cy="1410480"/>
            </a:xfrm>
          </p:grpSpPr>
          <p:grpSp>
            <p:nvGrpSpPr>
              <p:cNvPr id="281" name="Group 64"/>
              <p:cNvGrpSpPr/>
              <p:nvPr/>
            </p:nvGrpSpPr>
            <p:grpSpPr>
              <a:xfrm>
                <a:off x="1904040" y="2311560"/>
                <a:ext cx="1283760" cy="1410480"/>
                <a:chOff x="1904040" y="2311560"/>
                <a:chExt cx="1283760" cy="1410480"/>
              </a:xfrm>
            </p:grpSpPr>
            <p:sp>
              <p:nvSpPr>
                <p:cNvPr id="282" name="Rectangle 22"/>
                <p:cNvSpPr/>
                <p:nvPr/>
              </p:nvSpPr>
              <p:spPr>
                <a:xfrm>
                  <a:off x="1904040" y="2311560"/>
                  <a:ext cx="1244520" cy="14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楷体_GB2312"/>
                    </a:rPr>
                    <a:t>＋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7  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1" lang="en-US" sz="2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3" name="Line 33"/>
                <p:cNvSpPr/>
                <p:nvPr/>
              </p:nvSpPr>
              <p:spPr>
                <a:xfrm>
                  <a:off x="2050920" y="3241800"/>
                  <a:ext cx="1136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84" name="Rectangle 78"/>
              <p:cNvSpPr/>
              <p:nvPr/>
            </p:nvSpPr>
            <p:spPr>
              <a:xfrm>
                <a:off x="2801880" y="2432160"/>
                <a:ext cx="331920" cy="331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5" name="Rectangle 79"/>
              <p:cNvSpPr/>
              <p:nvPr/>
            </p:nvSpPr>
            <p:spPr>
              <a:xfrm>
                <a:off x="2801880" y="2863800"/>
                <a:ext cx="331920" cy="331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86" name="AutoShape 57"/>
          <p:cNvSpPr/>
          <p:nvPr/>
        </p:nvSpPr>
        <p:spPr>
          <a:xfrm>
            <a:off x="1547640" y="5732640"/>
            <a:ext cx="2576520" cy="496440"/>
          </a:xfrm>
          <a:prstGeom prst="wedgeRoundRectCallout">
            <a:avLst>
              <a:gd name="adj1" fmla="val -58185"/>
              <a:gd name="adj2" fmla="val -4616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十位怎么变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Text Box 35"/>
          <p:cNvSpPr/>
          <p:nvPr/>
        </p:nvSpPr>
        <p:spPr>
          <a:xfrm>
            <a:off x="2747880" y="230652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2747880" y="274644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Text Box 38"/>
          <p:cNvSpPr/>
          <p:nvPr/>
        </p:nvSpPr>
        <p:spPr>
          <a:xfrm>
            <a:off x="2751120" y="2746440"/>
            <a:ext cx="45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2751120" y="2306520"/>
            <a:ext cx="45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 Box 40"/>
          <p:cNvSpPr/>
          <p:nvPr/>
        </p:nvSpPr>
        <p:spPr>
          <a:xfrm>
            <a:off x="2747880" y="230652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2747880" y="274644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2747880" y="230652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Text Box 43"/>
          <p:cNvSpPr/>
          <p:nvPr/>
        </p:nvSpPr>
        <p:spPr>
          <a:xfrm>
            <a:off x="2747880" y="274644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6261120" y="2306520"/>
            <a:ext cx="536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6261120" y="2744640"/>
            <a:ext cx="536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6261120" y="2744640"/>
            <a:ext cx="536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6261120" y="2306520"/>
            <a:ext cx="536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00" name="Picture 59" descr="未标题-9"/>
          <p:cNvPicPr/>
          <p:nvPr/>
        </p:nvPicPr>
        <p:blipFill>
          <a:blip r:embed="rId3"/>
          <a:srcRect l="0" t="0" r="0" b="12657"/>
          <a:stretch/>
        </p:blipFill>
        <p:spPr>
          <a:xfrm>
            <a:off x="146160" y="4843440"/>
            <a:ext cx="1463400" cy="17971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2"/>
          <p:cNvSpPr/>
          <p:nvPr/>
        </p:nvSpPr>
        <p:spPr>
          <a:xfrm>
            <a:off x="611280" y="1557360"/>
            <a:ext cx="2376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2" name="Group 66"/>
          <p:cNvGrpSpPr/>
          <p:nvPr/>
        </p:nvGrpSpPr>
        <p:grpSpPr>
          <a:xfrm>
            <a:off x="5508720" y="404640"/>
            <a:ext cx="3324240" cy="1351080"/>
            <a:chOff x="5508720" y="404640"/>
            <a:chExt cx="3324240" cy="1351080"/>
          </a:xfrm>
        </p:grpSpPr>
        <p:sp>
          <p:nvSpPr>
            <p:cNvPr id="303" name="AutoShape 67"/>
            <p:cNvSpPr/>
            <p:nvPr/>
          </p:nvSpPr>
          <p:spPr>
            <a:xfrm>
              <a:off x="5508720" y="404640"/>
              <a:ext cx="1728720" cy="891000"/>
            </a:xfrm>
            <a:prstGeom prst="wedgeRoundRectCallout">
              <a:avLst>
                <a:gd name="adj1" fmla="val 59990"/>
                <a:gd name="adj2" fmla="val -81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□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里都可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填几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04" name="Picture 68" descr="女天使"/>
            <p:cNvPicPr/>
            <p:nvPr/>
          </p:nvPicPr>
          <p:blipFill>
            <a:blip r:embed="rId4"/>
            <a:stretch/>
          </p:blipFill>
          <p:spPr>
            <a:xfrm>
              <a:off x="7309080" y="476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 Box 15"/>
          <p:cNvSpPr/>
          <p:nvPr/>
        </p:nvSpPr>
        <p:spPr>
          <a:xfrm>
            <a:off x="6069960" y="2946240"/>
            <a:ext cx="266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AutoShape 60"/>
          <p:cNvSpPr/>
          <p:nvPr/>
        </p:nvSpPr>
        <p:spPr>
          <a:xfrm>
            <a:off x="1547640" y="5300640"/>
            <a:ext cx="2584800" cy="1286280"/>
          </a:xfrm>
          <a:prstGeom prst="wedgeRoundRectCallout">
            <a:avLst>
              <a:gd name="adj1" fmla="val -59759"/>
              <a:gd name="adj2" fmla="val 925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位上□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＋□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们可以有顺序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思考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7" name="Group 77"/>
          <p:cNvGrpSpPr/>
          <p:nvPr/>
        </p:nvGrpSpPr>
        <p:grpSpPr>
          <a:xfrm>
            <a:off x="4859280" y="4869000"/>
            <a:ext cx="3944520" cy="1644480"/>
            <a:chOff x="4859280" y="4869000"/>
            <a:chExt cx="3944520" cy="1644480"/>
          </a:xfrm>
        </p:grpSpPr>
        <p:sp>
          <p:nvSpPr>
            <p:cNvPr id="308" name="AutoShape 53"/>
            <p:cNvSpPr/>
            <p:nvPr/>
          </p:nvSpPr>
          <p:spPr>
            <a:xfrm>
              <a:off x="4859280" y="5578560"/>
              <a:ext cx="1981080" cy="891000"/>
            </a:xfrm>
            <a:prstGeom prst="wedgeRoundRectCallout">
              <a:avLst>
                <a:gd name="adj1" fmla="val 59120"/>
                <a:gd name="adj2" fmla="val -12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相加一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满十了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09" name="Picture 76" descr="03-1"/>
            <p:cNvPicPr/>
            <p:nvPr/>
          </p:nvPicPr>
          <p:blipFill>
            <a:blip r:embed="rId5"/>
            <a:stretch/>
          </p:blipFill>
          <p:spPr>
            <a:xfrm>
              <a:off x="7091280" y="4869000"/>
              <a:ext cx="1712520" cy="16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Text Box 42"/>
          <p:cNvSpPr/>
          <p:nvPr/>
        </p:nvSpPr>
        <p:spPr>
          <a:xfrm>
            <a:off x="2747880" y="230652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Text Box 43"/>
          <p:cNvSpPr/>
          <p:nvPr/>
        </p:nvSpPr>
        <p:spPr>
          <a:xfrm>
            <a:off x="2747880" y="274464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2747880" y="230652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Text Box 43"/>
          <p:cNvSpPr/>
          <p:nvPr/>
        </p:nvSpPr>
        <p:spPr>
          <a:xfrm>
            <a:off x="2747880" y="274464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Text Box 42"/>
          <p:cNvSpPr/>
          <p:nvPr/>
        </p:nvSpPr>
        <p:spPr>
          <a:xfrm>
            <a:off x="2747880" y="230652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5" name="Text Box 43"/>
          <p:cNvSpPr/>
          <p:nvPr/>
        </p:nvSpPr>
        <p:spPr>
          <a:xfrm>
            <a:off x="2747880" y="2744640"/>
            <a:ext cx="45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261120" y="2306520"/>
            <a:ext cx="536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6261120" y="2744640"/>
            <a:ext cx="536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"/>
                            </p:stCondLst>
                            <p:childTnLst>
                              <p:par>
                                <p:cTn id="4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22Z</dcterms:modified>
  <cp:revision>47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