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chimes.wav" ContentType="audio/x-wav"/>
  <Override PartName="/ppt/media/projctor.wav" ContentType="audio/x-wav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B3F4-3ACE-49A0-B328-A7D06B770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EAF3-E184-4053-965B-1280B662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81AE4-9F4A-4604-9E4A-1845CB68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B2E8E-08E9-445E-AE83-7A113695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8FDF0-77CF-40BE-B906-8147FCDC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D6A16-E7B3-424E-ABB7-C31AE271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BBD11-54BB-45DF-ACB0-1C41992E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3003A-4B0D-4EED-A7BA-E6BA4088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2E0A8-B203-4C49-B182-12E15000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196C4-6EA1-4A17-89B9-AF56B6958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BAE2D-E207-4D8F-9945-B6FD2F76B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E6179-AB48-43D5-925D-4EE881878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1C6A-C7B7-4D0A-973E-3E323E43E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D5EFC-8AEF-4B80-93BD-8C5C5330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4980D-5756-41F9-BFC1-BE2A6935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A8D0C-6551-415C-A213-FA8DC6B4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1F622-3BD0-4FF3-96D8-9E2CD45F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27A58-C27F-4A62-8D61-BB95339B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5BC8B-2078-4B56-A432-90199DB2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52DA7-FAE7-4BCE-894C-C11271C7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957909-31BA-42F5-818C-1444F688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305CD-1B5D-46C6-A9C2-8065F92D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CE5A7-7BB4-4626-B7E0-C1086A20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8C1B-5ACF-402A-B9E1-C8A41E151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B12DC-92E3-4DA1-A416-3DFEBB96B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C27E3-7558-44F9-9EDE-C470BA0E8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87485-07D8-4B6F-B7BE-45EE4882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BAE2D-F350-403C-95B0-1A26BFA2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37F0D-91B1-4F38-A4F0-60554D27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EE0A3-39B5-4F34-9B68-4542A185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ADF6B-86C9-4C6F-90D9-DA7FEC02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0FBD8-7BEC-4819-874A-9BB8F93B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E308E-78BE-466D-882A-C894C931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46C90-E463-4106-A115-AAC17233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6BD6-505F-4699-9743-20331E3F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226FC-60E3-4345-862B-8A13F189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D6271-496F-4155-8EFC-DB0715BB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9C03E-5077-45CD-85D5-F67318C86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07417B-057F-401B-8ACB-2D7DAB8AA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D52119-71C8-4CCD-8291-894B5943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257A7-A758-4B19-B9DF-04D80B43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D9E59-4FA6-4C84-9894-BD88AA35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3406E7-CF2C-4961-A5FC-509F9C08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91152-B40B-497D-9AF4-33314FBC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167DD-8450-48FC-8C07-A21113F3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31C7-0803-4247-ACB0-BD7B1F61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280740-B8E6-4FCF-B073-AAD43193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99E1F-2B9B-4157-9769-A84E6CC6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E5D93-DB84-4313-9789-54B781FA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C4EA8-EBB2-4FBB-AEE2-DBDB3097C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904A4-5FBD-4268-A675-417D4C934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A43FC9-9BCD-4DF0-A6FA-E050C1CD4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C16017-2425-4C62-A667-8C171E87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2F894F-4AB8-4FFB-AA1F-CC5FF35D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7E0871-D733-412C-866E-A13D7A34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16D3B2-3198-4207-8A6F-B9830FD6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6D8F-73FD-47B4-94A4-7C69A3C7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DB6151-A9BB-4A87-9FBA-63EF476C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FE6587-40DE-4243-ADD4-56DEF649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2D1708-7E64-4E75-816E-775054E8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993F79-7145-415E-B1A9-1D09108B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67A647-2FD8-43B4-92AD-6075BD12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976FF1-4B23-4343-9572-0820541E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4B1076-A359-4DEF-BDF5-7E578A14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EFFC-E587-465A-AC00-09171DFA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4878-E801-4927-9C55-D478B1F5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51F1-8D5C-4BBC-828D-D17F1DC9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D843-B6F3-4BA6-A7F6-FA1F23E4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31C8-2787-4F60-905E-E10EBB3A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88B3-B7C3-4EB8-83DD-1D7E9329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EFE8-C6CA-456C-A2BC-4B19EA2C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CA67-4324-4277-9908-9204127E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B5B7-D444-4CD2-845A-6DC988351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2590-E958-4EEC-BCE6-B72368155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E66BA-B87F-43E7-BBF9-D3D42EC2D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49ACF-382A-4BC2-8C68-30DCC58A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D2F05-A8FE-466D-BC8B-590CC056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4F662-B599-4BFF-9636-6E3596B9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8DC89-B399-4D36-863C-7ADC68F9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BA80-CA51-4A6A-A0F9-C26A0284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CCC5E-B93D-43A8-BE24-47AA1AC1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2F8ED-5A1A-4051-B98C-2A62606A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5C861-EC36-4342-B74A-F2EA04E4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CAFA9-3D4A-4D44-8616-581D9091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A9F9B-C4C5-45C0-B408-0F4BE00F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D9898-451C-4F42-AE5E-7FBAB7158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E0A11-86AB-4515-9D7C-8F3F2A9C4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B1BDD-6195-4306-9453-6656FE25E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3A65D-DAA1-482E-85B0-0FF4D4FA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8F50F-4EAF-4923-BED8-70DEFA92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FC2D-B3FA-45FC-BA35-7FBC06AF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4735B-6255-4684-9725-9024CA90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DAFB3-22BE-4CC4-8A36-3DAC943E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2544A-26B9-48C2-83FF-B5BA248A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93719-1DB8-44D6-8F6E-3D4B5A82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94414-6FAA-4BA0-B0E4-B36D12E7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B2FBD-2949-4D12-A71D-43855018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3A462-EFEF-4BA5-B2CD-A236184A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011D7-BCE6-4FD2-AC38-9A499F64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72C3C-9817-42DF-8E46-0B889CF2C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D6211-B3BA-4C8D-9A5F-94EC5DF5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662E-8822-422B-8C90-933CD213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BBA61-A201-4BFE-8FC8-9C7E745B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61D43-4B4F-4FF4-8FDA-F524B343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8C243-118D-4EEB-96C0-9FFC0055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ADB1E-8943-4A0A-9A08-617371B8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A97B4-2C34-44D1-98EF-E2C63037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3D077-C8BE-484C-8A64-D02AB55F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F7C3E-F291-40BD-A359-9418D918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7A4A7-8314-4907-879B-5C3FEED4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E0FB0-616C-4774-8FDC-DA839D69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CCA60-1231-4C89-9C8B-64939257F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1308-CD67-408D-84C0-4ECCD8B5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58F6D-B7E1-4289-A713-1EBDACEB7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1285C-A2D5-498E-B0A0-083EED559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387FC-6E53-462D-BE7F-5839A776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7914C-B0B3-46B1-8469-02AD7C4F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8B6C1-A1FD-4F25-98B0-87105C08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E5486-8B54-4800-9529-8BDC84D0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4CA26-38D6-4096-B181-DEFCC06E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816CE-04FD-466E-AE7F-BE3A36A1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72A51-50A0-4401-8206-2CB29F62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0C89D-EB24-40AB-8787-A8BCAA90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F8FF-9B7D-4F8B-9C5F-51B558E4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5D69E-98B8-4296-BC83-CEB5ADA9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B848D-F4CD-4611-B297-E924F92BA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DCB9A-EF7E-40F4-80FE-268C7D51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2B050-6E16-4C4C-9B2C-D1F056D0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7C009-A0E4-4FC3-B1CA-99ADE9E6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B7985-8C0F-4E3B-8072-14D58B27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C8A44-1675-4D89-9639-8F126C91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8B3F0-6D1F-4FFC-96C1-26E870CD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4E6E3-2322-4F20-97F3-06DDEC2E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C8F48-7DAE-40D0-92A1-1FFF9213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9A25-C234-4407-AA9B-8A7E2B79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25D97-55A3-49F6-AC80-F60398F6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06954-64E2-41C4-826B-9C7BD842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0B27A-1FD1-4B4C-98FE-4062BCBF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09659-E869-476E-9A33-50C4FC3C1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B0D1D-3008-4071-A067-712EBA38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6080F-BE9E-4F9A-996E-07B4179E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E42BE-AD7C-40D3-B270-48ECAB72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C65C4-B3CA-46AF-BA2C-D6D0D015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43F75-EA4A-455B-83EB-0D0746A9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A292C-D324-4E84-8141-44C2EAF3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413B-8195-4F33-A0CB-E711BC4D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387AB-6863-44E0-8872-A8C6504C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90096-31E6-4D1B-AB0D-36F75898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5AE0F-7FBC-49F6-92CE-36D60C56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19A01-08F9-446A-8346-C9E79FEF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35DD1-A5C9-425B-866C-340ADB1F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0154B-1E45-4AF8-91D6-58FE5F0E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9D8F5-0B83-48FB-856C-EF31E89E7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C9AD5-2EB2-4E96-BD30-E539A901C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1CFD6-37BD-44ED-B0AB-2CC29E3F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FFEA9-87E6-435E-901A-40FE6B2A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4637-B9B4-4410-AFD2-AD251A677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46A7-0BEC-4E1B-BDA5-85F01507B95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62B3-C3A5-401B-B2A6-404F19A991C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DE85-F20E-4692-AB02-E9A4F1C268B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431A-68CE-40D1-885D-4B98FE24495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FC74-5343-4424-BC53-8932368499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1F56-FD8E-46DC-B53A-F31028B72DF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C98A-BD13-4D57-AE5C-B5130320253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1352-1952-4DC7-A8CE-525D59FE37B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8C38-26B0-4F7A-9F8B-46E222BD3C2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E22B-DCFD-4644-9D4D-099447B17FE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071F-3419-470C-A11A-40F06A1EC59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79B3-9DAF-4310-967E-547F23B6148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excel/" TargetMode="External"/><Relationship Id="rId14" Type="http://schemas.openxmlformats.org/officeDocument/2006/relationships/hyperlink" Target="http://www.1ppt.com/ziliao/" TargetMode="External"/><Relationship Id="rId15" Type="http://schemas.openxmlformats.org/officeDocument/2006/relationships/hyperlink" Target="http://www.1ppt.com/kejian/" TargetMode="External"/><Relationship Id="rId16" Type="http://schemas.openxmlformats.org/officeDocument/2006/relationships/hyperlink" Target="http://www.1ppt.com/fanwen/" TargetMode="External"/><Relationship Id="rId17" Type="http://schemas.openxmlformats.org/officeDocument/2006/relationships/hyperlink" Target="http://www.1ppt.com/fanwen/" TargetMode="External"/><Relationship Id="rId18" Type="http://schemas.openxmlformats.org/officeDocument/2006/relationships/hyperlink" Target="http://www.1ppt.com/shiti/" TargetMode="External"/><Relationship Id="rId19" Type="http://schemas.openxmlformats.org/officeDocument/2006/relationships/hyperlink" Target="http://www.1ppt.com/jiaoan/" TargetMode="External"/><Relationship Id="rId20" Type="http://schemas.openxmlformats.org/officeDocument/2006/relationships/image" Target="../media/image4.png"/><Relationship Id="rId21" Type="http://schemas.openxmlformats.org/officeDocument/2006/relationships/image" Target="../media/image5.png"/><Relationship Id="rId22" Type="http://schemas.openxmlformats.org/officeDocument/2006/relationships/image" Target="../media/image6.png"/><Relationship Id="rId2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WordArt 2"/>
          <p:cNvSpPr txBox="1"/>
          <p:nvPr/>
        </p:nvSpPr>
        <p:spPr>
          <a:xfrm>
            <a:off x="1042920" y="2276640"/>
            <a:ext cx="7416720" cy="23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10089" dir="7678449" blurRad="0" rotWithShape="0">
                    <a:srgbClr val="000000">
                      <a:alpha val="32000"/>
                    </a:srgbClr>
                  </a:outerShdw>
                </a:effectLst>
                <a:latin typeface="隶书"/>
              </a:rPr>
              <a:t>可能性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10089" dir="7678449" blurRad="0" rotWithShape="0">
                  <a:srgbClr val="000000">
                    <a:alpha val="32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258920" y="6206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人教新课标版三年级数学上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矩形 5"/>
          <p:cNvSpPr/>
          <p:nvPr/>
        </p:nvSpPr>
        <p:spPr>
          <a:xfrm>
            <a:off x="2355120" y="61657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WordArt 4"/>
          <p:cNvSpPr txBox="1"/>
          <p:nvPr/>
        </p:nvSpPr>
        <p:spPr>
          <a:xfrm>
            <a:off x="755640" y="404640"/>
            <a:ext cx="77724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黑体"/>
              </a:rPr>
              <a:t>下面城市的冬天下雪吗？请用“一定”“很少”“不可能”说一说。</a:t>
            </a:r>
            <a:endParaRPr b="0" lang="en-US" sz="2000" spc="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黑体"/>
              <a:ea typeface="黑体"/>
            </a:endParaRPr>
          </a:p>
        </p:txBody>
      </p:sp>
      <p:sp>
        <p:nvSpPr>
          <p:cNvPr id="590" name="Text Box 18"/>
          <p:cNvSpPr/>
          <p:nvPr/>
        </p:nvSpPr>
        <p:spPr>
          <a:xfrm>
            <a:off x="2113200" y="1989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武汉很少下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9"/>
          <p:cNvSpPr/>
          <p:nvPr/>
        </p:nvSpPr>
        <p:spPr>
          <a:xfrm>
            <a:off x="2108160" y="43657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海南不可能下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20"/>
          <p:cNvSpPr/>
          <p:nvPr/>
        </p:nvSpPr>
        <p:spPr>
          <a:xfrm>
            <a:off x="2757960" y="31384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哈尔滨一定下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矩形 4"/>
          <p:cNvSpPr/>
          <p:nvPr/>
        </p:nvSpPr>
        <p:spPr>
          <a:xfrm>
            <a:off x="1573200" y="4329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word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excel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om/fanwen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8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9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7"/>
          <p:cNvSpPr/>
          <p:nvPr/>
        </p:nvSpPr>
        <p:spPr>
          <a:xfrm>
            <a:off x="0" y="2709720"/>
            <a:ext cx="9144000" cy="136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图片 9" descr=""/>
          <p:cNvPicPr/>
          <p:nvPr/>
        </p:nvPicPr>
        <p:blipFill>
          <a:blip r:embed="rId20"/>
          <a:stretch/>
        </p:blipFill>
        <p:spPr>
          <a:xfrm>
            <a:off x="1652760" y="349200"/>
            <a:ext cx="5581440" cy="194328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3"/>
          <p:cNvSpPr/>
          <p:nvPr/>
        </p:nvSpPr>
        <p:spPr>
          <a:xfrm>
            <a:off x="468360" y="2809800"/>
            <a:ext cx="41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4572000" y="280980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Picture 10" descr="png-0644"/>
          <p:cNvPicPr/>
          <p:nvPr/>
        </p:nvPicPr>
        <p:blipFill>
          <a:blip r:embed="rId21"/>
          <a:stretch/>
        </p:blipFill>
        <p:spPr>
          <a:xfrm>
            <a:off x="2916360" y="28098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1" descr="png-0652"/>
          <p:cNvPicPr/>
          <p:nvPr/>
        </p:nvPicPr>
        <p:blipFill>
          <a:blip r:embed="rId22"/>
          <a:stretch/>
        </p:blipFill>
        <p:spPr>
          <a:xfrm>
            <a:off x="7234200" y="28098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1A91-7011-4218-B37E-037B005158A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教学目标 </a:t>
            </a:r>
            <a:br>
              <a:rPr sz="4400"/>
            </a:b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使学生初步体验有些事情的发生是确定的，有些则是不确定的。 </a:t>
            </a:r>
            <a:br>
              <a:rPr sz="2800"/>
            </a:b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使学生能够列出简单试验中所有可能的结果。 </a:t>
            </a:r>
            <a:br>
              <a:rPr sz="2800"/>
            </a:b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初步使学生感受事件发生的可能性有大有小，能对一些简单的事件发生的可能性作描述，并和同伴交换思想。 </a:t>
            </a:r>
            <a:br>
              <a:rPr sz="2800"/>
            </a:b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文本框 1"/>
          <p:cNvSpPr/>
          <p:nvPr/>
        </p:nvSpPr>
        <p:spPr>
          <a:xfrm>
            <a:off x="165240" y="6272280"/>
            <a:ext cx="96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矩形 6"/>
          <p:cNvSpPr/>
          <p:nvPr/>
        </p:nvSpPr>
        <p:spPr>
          <a:xfrm>
            <a:off x="6804000" y="4365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0" y="0"/>
            <a:ext cx="630072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天，阿凡提牵着自己心爱的小毛驴，背着一袋金币往家赶。刚到村口，就碰到那个贪财、吝啬的大财主。他看到阿凡提手里的一袋金币就眼红。眼珠转了转，对阿凡提说：“如果你能把口袋里的金币往空中一抛，落下后个个都是正面朝上，那么这些金币就是你的了。如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是，哼！哼！那它就是我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6156000" y="1052280"/>
            <a:ext cx="331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看！！</a:t>
            </a:r>
            <a:br>
              <a:rPr sz="4000"/>
            </a:b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是谁来了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20" descr=""/>
          <p:cNvPicPr/>
          <p:nvPr/>
        </p:nvPicPr>
        <p:blipFill>
          <a:blip r:embed="rId1"/>
          <a:stretch/>
        </p:blipFill>
        <p:spPr>
          <a:xfrm>
            <a:off x="6227640" y="3141720"/>
            <a:ext cx="216072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50000">
              <a:srgbClr val="ffffff"/>
            </a:gs>
            <a:gs pos="100000">
              <a:srgbClr val="66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7"/>
          <p:cNvGrpSpPr/>
          <p:nvPr/>
        </p:nvGrpSpPr>
        <p:grpSpPr>
          <a:xfrm>
            <a:off x="1258920" y="1125360"/>
            <a:ext cx="2735280" cy="2160360"/>
            <a:chOff x="1258920" y="1125360"/>
            <a:chExt cx="2735280" cy="2160360"/>
          </a:xfrm>
        </p:grpSpPr>
        <p:sp>
          <p:nvSpPr>
            <p:cNvPr id="543" name="AutoShape 4"/>
            <p:cNvSpPr/>
            <p:nvPr/>
          </p:nvSpPr>
          <p:spPr>
            <a:xfrm>
              <a:off x="1258920" y="1125360"/>
              <a:ext cx="2735280" cy="216036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Oval 5"/>
            <p:cNvSpPr/>
            <p:nvPr/>
          </p:nvSpPr>
          <p:spPr>
            <a:xfrm>
              <a:off x="1474560" y="1917360"/>
              <a:ext cx="1729080" cy="10080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Times New Roman"/>
                </a:rPr>
                <a:t>12</a:t>
              </a:r>
              <a:r>
                <a:rPr b="1" lang="zh-CN" sz="2800" spc="-1" strike="noStrike">
                  <a:solidFill>
                    <a:srgbClr val="0066ff"/>
                  </a:solidFill>
                  <a:latin typeface="Times New Roman"/>
                </a:rPr>
                <a:t>个白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Oval 6"/>
            <p:cNvSpPr/>
            <p:nvPr/>
          </p:nvSpPr>
          <p:spPr>
            <a:xfrm>
              <a:off x="2050920" y="1271520"/>
              <a:ext cx="1079640" cy="28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" name="Text Box 8"/>
          <p:cNvSpPr/>
          <p:nvPr/>
        </p:nvSpPr>
        <p:spPr>
          <a:xfrm>
            <a:off x="2077200" y="3898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一定是白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Group 9"/>
          <p:cNvGrpSpPr/>
          <p:nvPr/>
        </p:nvGrpSpPr>
        <p:grpSpPr>
          <a:xfrm>
            <a:off x="5148360" y="1052640"/>
            <a:ext cx="2735280" cy="2160360"/>
            <a:chOff x="5148360" y="1052640"/>
            <a:chExt cx="2735280" cy="2160360"/>
          </a:xfrm>
        </p:grpSpPr>
        <p:sp>
          <p:nvSpPr>
            <p:cNvPr id="548" name="AutoShape 10"/>
            <p:cNvSpPr/>
            <p:nvPr/>
          </p:nvSpPr>
          <p:spPr>
            <a:xfrm>
              <a:off x="5148360" y="1052640"/>
              <a:ext cx="2735280" cy="2160360"/>
            </a:xfrm>
            <a:prstGeom prst="cube">
              <a:avLst>
                <a:gd name="adj" fmla="val 25000"/>
              </a:avLst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Oval 11"/>
            <p:cNvSpPr/>
            <p:nvPr/>
          </p:nvSpPr>
          <p:spPr>
            <a:xfrm>
              <a:off x="5364000" y="1844640"/>
              <a:ext cx="1729080" cy="100800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Times New Roman"/>
                </a:rPr>
                <a:t>10</a:t>
              </a: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个红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Oval 12"/>
            <p:cNvSpPr/>
            <p:nvPr/>
          </p:nvSpPr>
          <p:spPr>
            <a:xfrm>
              <a:off x="5940360" y="1198800"/>
              <a:ext cx="1079640" cy="28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Text Box 13"/>
          <p:cNvSpPr/>
          <p:nvPr/>
        </p:nvSpPr>
        <p:spPr>
          <a:xfrm>
            <a:off x="5895000" y="3860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定是红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4"/>
          <p:cNvSpPr/>
          <p:nvPr/>
        </p:nvSpPr>
        <p:spPr>
          <a:xfrm>
            <a:off x="5571000" y="4508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不可能是白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50000">
              <a:srgbClr val="ffffff"/>
            </a:gs>
            <a:gs pos="100000">
              <a:srgbClr val="66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Group 4"/>
          <p:cNvGrpSpPr/>
          <p:nvPr/>
        </p:nvGrpSpPr>
        <p:grpSpPr>
          <a:xfrm>
            <a:off x="2411280" y="836640"/>
            <a:ext cx="3742920" cy="2518920"/>
            <a:chOff x="2411280" y="836640"/>
            <a:chExt cx="3742920" cy="2518920"/>
          </a:xfrm>
        </p:grpSpPr>
        <p:sp>
          <p:nvSpPr>
            <p:cNvPr id="554" name="AutoShape 5"/>
            <p:cNvSpPr/>
            <p:nvPr/>
          </p:nvSpPr>
          <p:spPr>
            <a:xfrm>
              <a:off x="2411280" y="836640"/>
              <a:ext cx="3742920" cy="251892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Oval 6"/>
            <p:cNvSpPr/>
            <p:nvPr/>
          </p:nvSpPr>
          <p:spPr>
            <a:xfrm>
              <a:off x="2706120" y="1760040"/>
              <a:ext cx="2365920" cy="11754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Times New Roman"/>
                </a:rPr>
                <a:t>12</a:t>
              </a:r>
              <a:r>
                <a:rPr b="1" lang="zh-CN" sz="2800" spc="-1" strike="noStrike">
                  <a:solidFill>
                    <a:srgbClr val="0066ff"/>
                  </a:solidFill>
                  <a:latin typeface="Times New Roman"/>
                </a:rPr>
                <a:t>个白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Times New Roman"/>
                </a:rPr>
                <a:t>10</a:t>
              </a: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个红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Oval 7"/>
            <p:cNvSpPr/>
            <p:nvPr/>
          </p:nvSpPr>
          <p:spPr>
            <a:xfrm>
              <a:off x="3494880" y="1006920"/>
              <a:ext cx="1477440" cy="334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Text Box 8"/>
          <p:cNvSpPr/>
          <p:nvPr/>
        </p:nvSpPr>
        <p:spPr>
          <a:xfrm>
            <a:off x="2605680" y="39337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可能是白球，也可能是红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4"/>
          <p:cNvSpPr/>
          <p:nvPr/>
        </p:nvSpPr>
        <p:spPr>
          <a:xfrm>
            <a:off x="2471040" y="76500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9900"/>
                </a:solidFill>
                <a:latin typeface="Times New Roman"/>
              </a:rPr>
              <a:t>小组合作，摸球游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1116000" y="177336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小组内准备一个黑袋，装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个白球，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个黄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每人轮换摸球，把结果记录在课本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8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页“摸一摸”表格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开展游戏遵守规则，游戏结束，组内成员交流想法，填写在课本“填一填”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6"/>
          <p:cNvSpPr/>
          <p:nvPr/>
        </p:nvSpPr>
        <p:spPr>
          <a:xfrm>
            <a:off x="990720" y="838080"/>
            <a:ext cx="682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幼圆"/>
              </a:rPr>
              <a:t>每次口袋里该放什么球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7"/>
          <p:cNvSpPr/>
          <p:nvPr/>
        </p:nvSpPr>
        <p:spPr>
          <a:xfrm>
            <a:off x="914400" y="19051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）任意摸一个，不可能是绿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9"/>
          <p:cNvSpPr/>
          <p:nvPr/>
        </p:nvSpPr>
        <p:spPr>
          <a:xfrm>
            <a:off x="990720" y="4038480"/>
            <a:ext cx="739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）任意摸一个，一定是绿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0"/>
          <p:cNvSpPr/>
          <p:nvPr/>
        </p:nvSpPr>
        <p:spPr>
          <a:xfrm>
            <a:off x="990720" y="29718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）任意摸一个，可能是绿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3"/>
          <p:cNvSpPr/>
          <p:nvPr/>
        </p:nvSpPr>
        <p:spPr>
          <a:xfrm>
            <a:off x="1295280" y="1355760"/>
            <a:ext cx="27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幼圆"/>
              </a:rPr>
              <a:t>考考你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1295280" y="2286000"/>
            <a:ext cx="63248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太阳（       ）从东方升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今天老师（       ）要表扬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时间永远（         ）停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11"/>
          <p:cNvSpPr/>
          <p:nvPr/>
        </p:nvSpPr>
        <p:spPr>
          <a:xfrm>
            <a:off x="2895480" y="22543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幼圆"/>
              </a:rPr>
              <a:t>一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2"/>
          <p:cNvSpPr/>
          <p:nvPr/>
        </p:nvSpPr>
        <p:spPr>
          <a:xfrm>
            <a:off x="3962520" y="320040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3"/>
          <p:cNvSpPr/>
          <p:nvPr/>
        </p:nvSpPr>
        <p:spPr>
          <a:xfrm>
            <a:off x="3886200" y="3092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可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15"/>
          <p:cNvSpPr/>
          <p:nvPr/>
        </p:nvSpPr>
        <p:spPr>
          <a:xfrm>
            <a:off x="3809880" y="39337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幼圆"/>
              </a:rPr>
              <a:t>不可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下面的五个箱子里，分别摸出一个球，结果是哪个？连一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Picture 3" descr="扫描5（处理）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grpSp>
        <p:nvGrpSpPr>
          <p:cNvPr id="572" name="Group 4"/>
          <p:cNvGrpSpPr/>
          <p:nvPr/>
        </p:nvGrpSpPr>
        <p:grpSpPr>
          <a:xfrm>
            <a:off x="3033720" y="1652760"/>
            <a:ext cx="3770280" cy="4927320"/>
            <a:chOff x="3033720" y="1652760"/>
            <a:chExt cx="3770280" cy="4927320"/>
          </a:xfrm>
        </p:grpSpPr>
        <p:grpSp>
          <p:nvGrpSpPr>
            <p:cNvPr id="573" name="Group 5"/>
            <p:cNvGrpSpPr/>
            <p:nvPr/>
          </p:nvGrpSpPr>
          <p:grpSpPr>
            <a:xfrm>
              <a:off x="3048120" y="1652760"/>
              <a:ext cx="3352320" cy="600120"/>
              <a:chOff x="3048120" y="1652760"/>
              <a:chExt cx="3352320" cy="600120"/>
            </a:xfrm>
          </p:grpSpPr>
          <p:sp>
            <p:nvSpPr>
              <p:cNvPr id="574" name="Rectangle 6"/>
              <p:cNvSpPr/>
              <p:nvPr/>
            </p:nvSpPr>
            <p:spPr>
              <a:xfrm>
                <a:off x="3048120" y="1652760"/>
                <a:ext cx="3352320" cy="56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Text Box 7"/>
              <p:cNvSpPr/>
              <p:nvPr/>
            </p:nvSpPr>
            <p:spPr>
              <a:xfrm>
                <a:off x="3429360" y="1732320"/>
                <a:ext cx="2742840" cy="5205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Arial"/>
                  </a:rPr>
                  <a:t>    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Arial"/>
                  </a:rPr>
                  <a:t>可 能 是 白  球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Rectangle 8"/>
            <p:cNvSpPr/>
            <p:nvPr/>
          </p:nvSpPr>
          <p:spPr>
            <a:xfrm>
              <a:off x="3097080" y="2708280"/>
              <a:ext cx="3419640" cy="561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9"/>
            <p:cNvSpPr/>
            <p:nvPr/>
          </p:nvSpPr>
          <p:spPr>
            <a:xfrm>
              <a:off x="3348000" y="2787480"/>
              <a:ext cx="2951280" cy="520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一  定  是  白  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Rectangle 10"/>
            <p:cNvSpPr/>
            <p:nvPr/>
          </p:nvSpPr>
          <p:spPr>
            <a:xfrm>
              <a:off x="3038400" y="3789360"/>
              <a:ext cx="3530520" cy="641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Text Box 11"/>
            <p:cNvSpPr/>
            <p:nvPr/>
          </p:nvSpPr>
          <p:spPr>
            <a:xfrm>
              <a:off x="3348000" y="3868560"/>
              <a:ext cx="3024360" cy="520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一 定 不 是 白 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Rectangle 12"/>
            <p:cNvSpPr/>
            <p:nvPr/>
          </p:nvSpPr>
          <p:spPr>
            <a:xfrm>
              <a:off x="3059280" y="4941720"/>
              <a:ext cx="3584520" cy="560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Text Box 13"/>
            <p:cNvSpPr/>
            <p:nvPr/>
          </p:nvSpPr>
          <p:spPr>
            <a:xfrm>
              <a:off x="3287880" y="5021280"/>
              <a:ext cx="3012840" cy="520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很  可 能 是 白 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Rectangle 14"/>
            <p:cNvSpPr/>
            <p:nvPr/>
          </p:nvSpPr>
          <p:spPr>
            <a:xfrm>
              <a:off x="3033720" y="5979960"/>
              <a:ext cx="3770280" cy="559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Text Box 15"/>
            <p:cNvSpPr/>
            <p:nvPr/>
          </p:nvSpPr>
          <p:spPr>
            <a:xfrm>
              <a:off x="3419640" y="6059520"/>
              <a:ext cx="3240000" cy="520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白球的可能性很小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Line 16"/>
          <p:cNvSpPr/>
          <p:nvPr/>
        </p:nvSpPr>
        <p:spPr>
          <a:xfrm>
            <a:off x="2195640" y="3068640"/>
            <a:ext cx="936360" cy="2089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7"/>
          <p:cNvSpPr/>
          <p:nvPr/>
        </p:nvSpPr>
        <p:spPr>
          <a:xfrm flipV="1">
            <a:off x="2050920" y="1989000"/>
            <a:ext cx="1657440" cy="216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18"/>
          <p:cNvSpPr/>
          <p:nvPr/>
        </p:nvSpPr>
        <p:spPr>
          <a:xfrm>
            <a:off x="2124000" y="5734080"/>
            <a:ext cx="1511280" cy="358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19"/>
          <p:cNvSpPr/>
          <p:nvPr/>
        </p:nvSpPr>
        <p:spPr>
          <a:xfrm flipH="1">
            <a:off x="6084360" y="3789360"/>
            <a:ext cx="1295640" cy="287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0"/>
          <p:cNvSpPr/>
          <p:nvPr/>
        </p:nvSpPr>
        <p:spPr>
          <a:xfrm flipH="1" flipV="1">
            <a:off x="6227280" y="3141720"/>
            <a:ext cx="1297080" cy="2303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03:02:1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5:20Z</dcterms:modified>
  <cp:revision>3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