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F571-B3F6-45C2-AE35-247E09373B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1A2-4B84-4754-B3A8-C5B8280CCCA3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5A4-D3D9-4CEB-83F1-D15E03B0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0DF-4484-4ABC-B229-FB63566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FC0-5000-4CA1-9800-D0605A5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482-C648-441D-B080-94ED80D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911D-4A19-431D-AC3B-8D4F4C78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D4B-4665-42D5-8CC4-834A5FFD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77C-2B2D-40A5-B183-4F3B5606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35A3-5512-4558-8676-721CC70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9783-1ECA-48E8-BA9A-DFBE594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8E2-9C05-4449-9B9D-C9507A6E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380-A8E6-4352-9C2C-6A2753A9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DD1-B83D-4516-B3E1-9319CBBF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4B7-8A8A-4EE2-B31A-C737460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8F7-7996-459A-9F8D-F340EEB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BF98-95E8-48D0-B154-97B8019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454A-FBF1-418A-9231-5B8424F7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C99-360A-4402-A696-6BC7FDAD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85D-CB56-40A4-8BA3-84F905DF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B95-E993-4CB2-803C-C1DDAAAB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5FD-732E-4683-8E4C-097E69A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C5B-1B8F-4063-A9BD-58D3230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F84-92E4-4B65-8BCC-AFC3C52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585-548E-4EE5-A58D-6BEB6A6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674-F792-47DE-BCF9-78EC529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380-2022-446D-8E46-95965FC6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5B9-BF31-4992-BD1E-7C457E02AEA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34920" y="765000"/>
            <a:ext cx="48243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39"/>
                </a:solidFill>
                <a:latin typeface="华文中宋"/>
                <a:ea typeface="华文中宋"/>
              </a:rPr>
              <a:t>第</a:t>
            </a:r>
            <a:r>
              <a:rPr b="1" lang="en-US" sz="6000" spc="-1" strike="noStrike">
                <a:solidFill>
                  <a:srgbClr val="003b39"/>
                </a:solidFill>
                <a:latin typeface="华文中宋"/>
                <a:ea typeface="华文中宋"/>
              </a:rPr>
              <a:t>6</a:t>
            </a:r>
            <a:r>
              <a:rPr b="1" lang="zh-CN" sz="6000" spc="-1" strike="noStrike">
                <a:solidFill>
                  <a:srgbClr val="003b39"/>
                </a:solidFill>
                <a:latin typeface="华文中宋"/>
                <a:ea typeface="华文中宋"/>
              </a:rPr>
              <a:t>课 建高塔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3715920" y="5877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b3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3b39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482436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诸城电视塔2"/>
          <p:cNvPicPr/>
          <p:nvPr/>
        </p:nvPicPr>
        <p:blipFill>
          <a:blip r:embed="rId1"/>
          <a:stretch/>
        </p:blipFill>
        <p:spPr>
          <a:xfrm>
            <a:off x="1763640" y="115920"/>
            <a:ext cx="4824360" cy="659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468480" y="2421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诸城电视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51774890"/>
          <p:cNvPicPr/>
          <p:nvPr/>
        </p:nvPicPr>
        <p:blipFill>
          <a:blip r:embed="rId1"/>
          <a:stretch/>
        </p:blipFill>
        <p:spPr>
          <a:xfrm>
            <a:off x="1763640" y="115920"/>
            <a:ext cx="4994280" cy="666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612840" y="242100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石油钻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一般铁塔2"/>
          <p:cNvPicPr/>
          <p:nvPr/>
        </p:nvPicPr>
        <p:blipFill>
          <a:blip r:embed="rId1"/>
          <a:stretch/>
        </p:blipFill>
        <p:spPr>
          <a:xfrm>
            <a:off x="755640" y="176040"/>
            <a:ext cx="7632720" cy="5989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348000" y="61405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高压输电铁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一般铁塔3"/>
          <p:cNvPicPr/>
          <p:nvPr/>
        </p:nvPicPr>
        <p:blipFill>
          <a:blip r:embed="rId1"/>
          <a:stretch/>
        </p:blipFill>
        <p:spPr>
          <a:xfrm>
            <a:off x="826920" y="115920"/>
            <a:ext cx="7561440" cy="599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34800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高压输电铁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一般铁塔3"/>
          <p:cNvPicPr/>
          <p:nvPr/>
        </p:nvPicPr>
        <p:blipFill>
          <a:blip r:embed="rId1"/>
          <a:stretch/>
        </p:blipFill>
        <p:spPr>
          <a:xfrm>
            <a:off x="6084720" y="189000"/>
            <a:ext cx="2578320" cy="43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埃菲尔铁塔"/>
          <p:cNvPicPr/>
          <p:nvPr/>
        </p:nvPicPr>
        <p:blipFill>
          <a:blip r:embed="rId2"/>
          <a:stretch/>
        </p:blipFill>
        <p:spPr>
          <a:xfrm>
            <a:off x="403200" y="189000"/>
            <a:ext cx="2584440" cy="43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451774890"/>
          <p:cNvPicPr/>
          <p:nvPr/>
        </p:nvPicPr>
        <p:blipFill>
          <a:blip r:embed="rId3"/>
          <a:stretch/>
        </p:blipFill>
        <p:spPr>
          <a:xfrm>
            <a:off x="3179880" y="189000"/>
            <a:ext cx="2724120" cy="4392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611280" y="4653000"/>
            <a:ext cx="799308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猜想和假设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这些高大的铁塔会受到哪些力的作用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187280" y="649116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1128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观察它们的形状和结构，是哪些特点使高塔不容易倒，把我们的猜想写下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11280" y="5373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本身的重量、其它的重压、侧面来的风的力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87280" y="11286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活动一：物体不容易倒的秘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怎样做，塑料瓶最容易倒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89080" y="2684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塑料瓶怎样放不容易倒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87280" y="369252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塑料瓶怎样放最不容易倒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5840" y="48434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想使物体不容易倒，我们可以用些什么方法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87280" y="21798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瓶口向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187280" y="31878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瓶口向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187280" y="4267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瓶口向上，瓶子里再装入一些沙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87280" y="53737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上小下大、上轻下重。即：把物体下面做大些、重些，上面做小些、轻些，物体就不容易倒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70836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建高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40000" y="765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、建高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00000" y="184464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活动二：建造不容易倒的“高塔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用课本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页上给出的材料做一个“高塔”，比比哪个组做的塔又高又稳定。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71640" y="33987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思考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看看这些材料有什么特点，要想使我们建造的“高塔” 不容易倒，可以采用哪些方法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76360" y="4437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说说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采取了哪些办法使“高塔”不容易倒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50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做做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扇风试试，我们建造的“高塔”抗风能力如何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57120" y="3357720"/>
            <a:ext cx="5429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框架结构铁塔的特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上小下大、上轻下重、空气阻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8" name="组合 10"/>
          <p:cNvGrpSpPr/>
          <p:nvPr/>
        </p:nvGrpSpPr>
        <p:grpSpPr>
          <a:xfrm>
            <a:off x="357120" y="549360"/>
            <a:ext cx="7058160" cy="2320560"/>
            <a:chOff x="357120" y="549360"/>
            <a:chExt cx="7058160" cy="2320560"/>
          </a:xfrm>
        </p:grpSpPr>
        <p:sp>
          <p:nvSpPr>
            <p:cNvPr id="139" name="Text Box 2"/>
            <p:cNvSpPr/>
            <p:nvPr/>
          </p:nvSpPr>
          <p:spPr>
            <a:xfrm>
              <a:off x="1785960" y="54936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6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、建高塔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Text Box 3"/>
            <p:cNvSpPr/>
            <p:nvPr/>
          </p:nvSpPr>
          <p:spPr>
            <a:xfrm>
              <a:off x="357120" y="1557360"/>
              <a:ext cx="525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活动三：铁塔不容易倒的再思考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Text Box 4"/>
            <p:cNvSpPr/>
            <p:nvPr/>
          </p:nvSpPr>
          <p:spPr>
            <a:xfrm>
              <a:off x="357120" y="2349360"/>
              <a:ext cx="70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哪些特点使 框架铁塔不容易倒？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42" name="Picture 11" descr="埃菲尔铁塔"/>
          <p:cNvPicPr/>
          <p:nvPr/>
        </p:nvPicPr>
        <p:blipFill>
          <a:blip r:embed="rId1"/>
          <a:stretch/>
        </p:blipFill>
        <p:spPr>
          <a:xfrm>
            <a:off x="5786280" y="428760"/>
            <a:ext cx="32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1214280" y="2500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</a:rPr>
              <a:t>看看我们先前的猜想，哪些得到了验证，哪些需要修正、补充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285920" y="1098720"/>
            <a:ext cx="578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验证假设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989440" y="91584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建高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330200" y="1925640"/>
            <a:ext cx="7129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课外作业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调查一下诸城有哪些铁塔，各是干什么用的？它运用了我们学的什么原理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设计一座铁塔。画出设计图，或用一些简单的材料做一个模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埃菲尔铁塔"/>
          <p:cNvPicPr/>
          <p:nvPr/>
        </p:nvPicPr>
        <p:blipFill>
          <a:blip r:embed="rId1"/>
          <a:stretch/>
        </p:blipFill>
        <p:spPr>
          <a:xfrm>
            <a:off x="7682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916360" y="602604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埃菲尔铁塔（法国巴黎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3941240000[1]"/>
          <p:cNvPicPr/>
          <p:nvPr/>
        </p:nvPicPr>
        <p:blipFill>
          <a:blip r:embed="rId1">
            <a:alphaModFix amt="88000"/>
          </a:blip>
          <a:stretch/>
        </p:blipFill>
        <p:spPr>
          <a:xfrm>
            <a:off x="611280" y="404640"/>
            <a:ext cx="7956360" cy="59677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8" name="WordArt 3"/>
          <p:cNvSpPr txBox="1"/>
          <p:nvPr/>
        </p:nvSpPr>
        <p:spPr>
          <a:xfrm>
            <a:off x="2381400" y="2305080"/>
            <a:ext cx="45068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+mn-ea"/>
              </a:rPr>
              <a:t>敬請指導</a:t>
            </a:r>
            <a:endParaRPr b="0" i="1" lang="en-US" sz="6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185760" y="5683320"/>
            <a:ext cx="55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236B-D04D-4502-9A87-D0B28DC3FF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东方明珠2"/>
          <p:cNvPicPr/>
          <p:nvPr/>
        </p:nvPicPr>
        <p:blipFill>
          <a:blip r:embed="rId1"/>
          <a:stretch/>
        </p:blipFill>
        <p:spPr>
          <a:xfrm>
            <a:off x="762120" y="115920"/>
            <a:ext cx="7626240" cy="5905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700360" y="609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上海东方明珠电视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上海东方名珠"/>
          <p:cNvPicPr/>
          <p:nvPr/>
        </p:nvPicPr>
        <p:blipFill>
          <a:blip r:embed="rId1"/>
          <a:stretch/>
        </p:blipFill>
        <p:spPr>
          <a:xfrm>
            <a:off x="324000" y="115920"/>
            <a:ext cx="8497800" cy="662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多伦多电视塔（世界第二高塔）"/>
          <p:cNvPicPr/>
          <p:nvPr/>
        </p:nvPicPr>
        <p:blipFill>
          <a:blip r:embed="rId1"/>
          <a:stretch/>
        </p:blipFill>
        <p:spPr>
          <a:xfrm>
            <a:off x="395280" y="333360"/>
            <a:ext cx="8352000" cy="5553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7672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多伦多电视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1187280" y="321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世界第一高塔2"/>
          <p:cNvPicPr/>
          <p:nvPr/>
        </p:nvPicPr>
        <p:blipFill>
          <a:blip r:embed="rId1"/>
          <a:stretch/>
        </p:blipFill>
        <p:spPr>
          <a:xfrm>
            <a:off x="1116000" y="115920"/>
            <a:ext cx="7201080" cy="5932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70836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未来东京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中央电视台电视塔"/>
          <p:cNvPicPr/>
          <p:nvPr/>
        </p:nvPicPr>
        <p:blipFill>
          <a:blip r:embed="rId1"/>
          <a:stretch/>
        </p:blipFill>
        <p:spPr>
          <a:xfrm>
            <a:off x="324000" y="125280"/>
            <a:ext cx="849132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广州新电视塔2"/>
          <p:cNvPicPr/>
          <p:nvPr/>
        </p:nvPicPr>
        <p:blipFill>
          <a:blip r:embed="rId1"/>
          <a:stretch/>
        </p:blipFill>
        <p:spPr>
          <a:xfrm>
            <a:off x="355680" y="189000"/>
            <a:ext cx="4145040" cy="583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广州新电视塔3"/>
          <p:cNvPicPr/>
          <p:nvPr/>
        </p:nvPicPr>
        <p:blipFill>
          <a:blip r:embed="rId2"/>
          <a:stretch/>
        </p:blipFill>
        <p:spPr>
          <a:xfrm>
            <a:off x="4716360" y="189000"/>
            <a:ext cx="3954600" cy="5832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708360" y="609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广州电视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青岛电视塔"/>
          <p:cNvPicPr/>
          <p:nvPr/>
        </p:nvPicPr>
        <p:blipFill>
          <a:blip r:embed="rId1"/>
          <a:stretch/>
        </p:blipFill>
        <p:spPr>
          <a:xfrm>
            <a:off x="1979640" y="189000"/>
            <a:ext cx="4746600" cy="6408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6612840" y="2349360"/>
            <a:ext cx="91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青岛电视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2:17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32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