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chimes.wav" ContentType="audio/x-wav"/>
  <Override PartName="/ppt/media/image6.jpeg" ContentType="image/jpeg"/>
  <Override PartName="/ppt/media/image4.jpeg" ContentType="image/jpeg"/>
  <Override PartName="/ppt/media/image5.jpeg" ContentType="image/jpeg"/>
  <Override PartName="/ppt/media/applause.wav" ContentType="audio/x-wav"/>
  <Override PartName="/ppt/media/drumroll.wav" ContentType="audio/x-wav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C99D-E1C2-49B4-98CF-4D5C3DC6B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09E7-5CD6-4EF1-A6E1-A3A511A3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FF20-E655-4E4D-B3B7-E3376CF51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8C24-2E5C-4B9B-81C4-DEC2B703F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D2F5D-036C-404F-87ED-D80831E26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AEF79-7994-458D-AAB0-5E91B3933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6DEDB-8768-4E14-A09F-9FA6316D9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A47B8-4EC1-4189-90AB-5A5479893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5A5AC-694D-41C2-97AF-D3D019037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1F07A-0094-40DA-AD71-94AC3ABCE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BC066-B637-4E8C-BB9B-E0FA662C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00F1-B902-4F2F-BF4C-70B04450A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03208-F285-46F8-9FB8-1796DE5D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20CD5-8A68-467D-9571-C4CC467B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3EB04-8253-4A61-B915-AE5E11EC6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B4DB6-E3B0-4468-8E54-082D81317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72A49-932B-4A4C-9B34-A0280C7B3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4A44-5D4A-4D8A-B906-CC2B66F8C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6042-C054-4408-88E7-30D690BAB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3F18-D051-4C34-BF1D-8503FD70D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D7C7-07E5-46E3-903A-75860372D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DB42-ADF9-4E8B-86D6-A10C2A38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3ABE-C29B-4CA9-8DCE-F79221B6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596B-24BE-4525-A9EC-C019B2D2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D4B8E-58F2-4FD6-914D-4F6BF2C90A01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6B735-9616-483E-950A-5E72736F8771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applause.wav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3"/>
          <p:cNvSpPr txBox="1"/>
          <p:nvPr/>
        </p:nvSpPr>
        <p:spPr>
          <a:xfrm>
            <a:off x="1476360" y="1125360"/>
            <a:ext cx="619128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18 </a:t>
            </a: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绿色蝈蝈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92" name="WordArt 4"/>
          <p:cNvSpPr txBox="1"/>
          <p:nvPr/>
        </p:nvSpPr>
        <p:spPr>
          <a:xfrm>
            <a:off x="3780000" y="4195800"/>
            <a:ext cx="3352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0">
                  <a:noFill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[</a:t>
            </a:r>
            <a:r>
              <a:rPr b="0" lang="zh-CN" sz="2400" spc="-1" strike="noStrike">
                <a:ln w="0">
                  <a:noFill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法国</a:t>
            </a:r>
            <a:r>
              <a:rPr b="0" lang="en-US" sz="2400" spc="-1" strike="noStrike">
                <a:ln w="0">
                  <a:noFill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]</a:t>
            </a:r>
            <a:r>
              <a:rPr b="0" lang="zh-CN" sz="2400" spc="-1" strike="noStrike">
                <a:ln w="0">
                  <a:noFill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法布尔</a:t>
            </a:r>
            <a:endParaRPr b="0" lang="en-US" sz="2400" spc="-1" strike="noStrike">
              <a:ln w="0">
                <a:noFill/>
              </a:ln>
              <a:solidFill>
                <a:srgbClr val="00008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3" name="矩形 6"/>
          <p:cNvSpPr/>
          <p:nvPr/>
        </p:nvSpPr>
        <p:spPr>
          <a:xfrm>
            <a:off x="2686680" y="609300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2"/>
          <p:cNvSpPr txBox="1"/>
          <p:nvPr/>
        </p:nvSpPr>
        <p:spPr>
          <a:xfrm>
            <a:off x="1619280" y="1916280"/>
            <a:ext cx="4968720" cy="32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cap="rnd" w="25560">
                  <a:solidFill>
                    <a:srgbClr val="00ffff"/>
                  </a:solidFill>
                  <a:custDash>
                    <a:ds d="100000" sp="1000"/>
                  </a:custDash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再见</a:t>
            </a:r>
            <a:endParaRPr b="0" lang="en-US" sz="4400" spc="1" strike="noStrike">
              <a:ln cap="rnd" w="25560">
                <a:solidFill>
                  <a:srgbClr val="00ffff"/>
                </a:solidFill>
                <a:custDash>
                  <a:ds d="100000" sp="1000"/>
                </a:custDash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0" dur="2000" fill="hold"/>
                                        <p:tgtEl>
                                          <p:spTgt spid="1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b0ae6a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b0ae6a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b5249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12EA1-5D55-4263-96A6-5F3730F55AE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3"/>
          <p:cNvSpPr/>
          <p:nvPr/>
        </p:nvSpPr>
        <p:spPr>
          <a:xfrm>
            <a:off x="228600" y="304920"/>
            <a:ext cx="8686800" cy="22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黑体"/>
              </a:rPr>
              <a:t>一、法布尔与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黑体"/>
              </a:rPr>
              <a:t>《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黑体"/>
              </a:rPr>
              <a:t>昆虫记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黑体"/>
              </a:rPr>
              <a:t>》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823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年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2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月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2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日，法布尔生于法国南部一农民家中。童年时代就迷上了户外大自然中的花草虫鸟。在他不足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9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岁时就立志研究昆虫。后来靠自学获得了自然科学硕士、博士学位。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880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年他用积攒的一小笔钱，在乡间小镇塞里尼昂附近购得一处坐落在荒地上的老旧民宅，进一步研究活虫子的计划即变成了现实。他精神舒畅，用当地普罗斯旺语给这处居所取了个风趣的雅号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荒石园。年复一年，他守着心爱的荒园，开足生命的马力，不知疲倦地从事独具特色的昆虫学研究，把劳动成果写进一卷又一卷的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《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昆虫记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》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。他就是这样，孤独、欢欣、清苦、平静地度过了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35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余生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《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昆虫记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》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主体内容集中在昆虫学问题上，同时收入一些讲述经历、回忆往事的传记性文章，若干解决理论问题的议论，以及少量带科普知识性的文字。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910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年法布尔在全十卷精装本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《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昆虫记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》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的出版序言中说：“非常遗憾，如今我被迫中断了这些研究。要知道从事这些研究是我一生得到的惟一仅有的安慰。阅尽大千世界，自知虫类是其最多姿多彩者中之一群。即使能让我再获得些许气力，甚至有可能再获得几次长寿人生，我也做不到彻底认清虫类的益趣。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915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年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1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月的一天，这位以昆虫为琴拨响人类命运颤音的巨人逝世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3"/>
          <p:cNvSpPr/>
          <p:nvPr/>
        </p:nvSpPr>
        <p:spPr>
          <a:xfrm>
            <a:off x="838080" y="1341360"/>
            <a:ext cx="769644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二、快速阅读课文，理解课文内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、绿色蝈蝈的外表有哪些特征？绿色蝈蝈有哪些习性？作者主要写了哪个方面的习性？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、作者不断变换对绿色蝈蝈的称呼，找出这些称呼，说说作者在什么情况下用什么称呼，这样写有什么效果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、课文多处运用拟人手法，找出几个例子，说说这样写的好处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1143000" y="28656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文本框 1"/>
          <p:cNvSpPr/>
          <p:nvPr/>
        </p:nvSpPr>
        <p:spPr>
          <a:xfrm>
            <a:off x="-115920" y="5927760"/>
            <a:ext cx="9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模板下载：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 9"/>
          <p:cNvSpPr/>
          <p:nvPr/>
        </p:nvSpPr>
        <p:spPr>
          <a:xfrm>
            <a:off x="5219640" y="184464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Times New Roman"/>
              </a:rPr>
              <a:t>二、快速阅读课文，理解课文内容</a:t>
            </a:r>
            <a:br>
              <a:rPr sz="3600"/>
            </a:b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41911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、绿色蝈蝈的外表有哪些特征？绿色蝈蝈有哪些习性？作者主要写了哪个方面的习性？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1" name="Picture 4" descr="蝈蝈图"/>
          <p:cNvPicPr/>
          <p:nvPr/>
        </p:nvPicPr>
        <p:blipFill>
          <a:blip r:embed="rId1"/>
          <a:stretch/>
        </p:blipFill>
        <p:spPr>
          <a:xfrm>
            <a:off x="4495680" y="1523880"/>
            <a:ext cx="4419720" cy="48769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228600" y="2819520"/>
            <a:ext cx="426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外表特征：这种昆虫非常漂亮，浑身嫩绿，侧面有两条淡白色的丝带，身材优美、苗条、匀称，两片大翼轻盈如纱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304920" y="48006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习性：作者写了蝈蝈的叫声和食性。主要写的是食物习性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蝗虫2"/>
          <p:cNvPicPr/>
          <p:nvPr/>
        </p:nvPicPr>
        <p:blipFill>
          <a:blip r:embed="rId1"/>
          <a:srcRect l="12150" t="0" r="2051" b="14193"/>
          <a:stretch/>
        </p:blipFill>
        <p:spPr>
          <a:xfrm>
            <a:off x="457200" y="1447920"/>
            <a:ext cx="4267080" cy="50292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838080" y="3049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、作者不断变换对绿色蝈蝈的称呼，找出这些称呼，说说作者在什么情况下用什么称呼，这样写有什么效果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5029200" y="50292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　　作者不断变换称呼，使行文更生动，描写更形象，给人更深刻的印象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4952880" y="1523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　　作者对蝈蝈的称呼有：狂热的狩猎者、我笼里的囚犯、蝉的屠夫等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4952880" y="266688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　　当蝈蝈捕杀蝉时作者用“狂热的狩猎者”；当蝈蝈成为作者笼中观察和实验的对象时，作者就用“笼里的囚犯”；当蝈蝈吃蝉肉时作者称之为“蝉的屠夫”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蝗虫5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380880" y="304920"/>
            <a:ext cx="8305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课文多处运用拟人手法，找出几个例子，说说这样写的好处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685800" y="16765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窃窃自语”“津津有味”“酷爱甜食”“毫不犹豫地都接受”等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838080" y="23623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这样写亲切自然，形象生动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3"/>
          <p:cNvSpPr/>
          <p:nvPr/>
        </p:nvSpPr>
        <p:spPr>
          <a:xfrm>
            <a:off x="533520" y="45720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533520" y="2286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三、找到以下语句，说说表达了作者怎样的情感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685800" y="76212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6600ff"/>
                </a:solidFill>
                <a:latin typeface="Times New Roman"/>
              </a:rPr>
              <a:t>、“绿色的蝈蝈啊，如果你拉的琴再响亮一点儿，那你就是比蝉更胜一筹的歌手了。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762120" y="144792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用拟人手法写蝈蝈，流露出浓厚炽热的喜爱之情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609480" y="17683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、“这种昆虫非常漂亮，浑身嫩绿，侧面有两条淡白色的丝带，身材优美，苗条匀称，两片大翼轻盈如纱。”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609480" y="25750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用优美的语言刻画出蝈蝈可爱的样子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533520" y="28954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、“关于食物，我遇到了喂养螽斯时同样的麻烦。”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609480" y="3336840"/>
            <a:ext cx="769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麻烦”一词表现出作者对蝈蝈悉心照料不怕麻烦的态度。带有明显的感情色彩，亲切自然，富有文学笔法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609480" y="4343400"/>
            <a:ext cx="7391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6600ff"/>
                </a:solidFill>
                <a:latin typeface="Times New Roman"/>
              </a:rPr>
              <a:t>、“它用喙尖抓抓脚底，用沾着唾液的爪擦擦脸和眼睛，然后闭着双眼或者躺在沙上消化食物。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ff"/>
                </a:solidFill>
                <a:latin typeface="Times New Roman"/>
              </a:rPr>
              <a:t>“</a:t>
            </a:r>
            <a:r>
              <a:rPr b="0" lang="zh-CN" sz="2000" spc="-1" strike="noStrike">
                <a:solidFill>
                  <a:srgbClr val="6600ff"/>
                </a:solidFill>
                <a:latin typeface="Times New Roman"/>
              </a:rPr>
              <a:t>我用蝉来喂养它们。它们对这道菜吃得津津有味。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609480" y="5715000"/>
            <a:ext cx="701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语言使用生动传神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3"/>
          <p:cNvSpPr/>
          <p:nvPr/>
        </p:nvSpPr>
        <p:spPr>
          <a:xfrm>
            <a:off x="762120" y="53352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四、合作研讨：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914400" y="11430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、作者用什么方法引出蝈蝈的呢？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990720" y="32767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、作者是如何知道蝈蝈喜欢吃什么食物的呢？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1066680" y="5121360"/>
            <a:ext cx="678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、研读课文第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9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段，归纳这段文字说明了蝈蝈的什么生活习性，说明蝈蝈属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------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食肉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食草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杂食）性昆虫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1066680" y="166068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课文第一段并没有写蝈蝈，是写在别人欢度国庆的日子里，自己还没有忘记去观察昆虫。“我独自一人”说明作者对他热爱的事业的执著。第二段写蝉在夜晚不再鸣叫，它要休息了。突然，蝉的一声哀号引出了本文的“主人翁”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蝈蝈。这是多么富有匠心的写作思路！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1219320" y="3809880"/>
            <a:ext cx="693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作者是通过实验和观察知道蝈蝈喜欢吃蝉肚子的。清晨，作者散步时看到的一幕揭开了蝈蝈食物之谜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捕蝉为食。又通过变换食物的花样，揭开了蝈蝈首先吃蝉肚子的秘密，因为肚子既有肉，又有甜食。这反映了作者严谨的科学态度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4800600" y="547056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ff"/>
                </a:solidFill>
                <a:latin typeface="Times New Roman"/>
              </a:rPr>
              <a:t>杂食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蝈蝈"/>
          <p:cNvPicPr/>
          <p:nvPr/>
        </p:nvPicPr>
        <p:blipFill>
          <a:blip r:embed="rId1"/>
          <a:srcRect l="7890" t="0" r="5559" b="13430"/>
          <a:stretch/>
        </p:blipFill>
        <p:spPr>
          <a:xfrm>
            <a:off x="685800" y="914400"/>
            <a:ext cx="3352680" cy="2754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蝈蝈图"/>
          <p:cNvPicPr/>
          <p:nvPr/>
        </p:nvPicPr>
        <p:blipFill>
          <a:blip r:embed="rId2"/>
          <a:stretch/>
        </p:blipFill>
        <p:spPr>
          <a:xfrm>
            <a:off x="4800600" y="838080"/>
            <a:ext cx="3225960" cy="2743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蝗虫8"/>
          <p:cNvPicPr/>
          <p:nvPr/>
        </p:nvPicPr>
        <p:blipFill>
          <a:blip r:embed="rId3"/>
          <a:stretch/>
        </p:blipFill>
        <p:spPr>
          <a:xfrm>
            <a:off x="685800" y="3809880"/>
            <a:ext cx="3276720" cy="2819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蝗虫"/>
          <p:cNvPicPr/>
          <p:nvPr/>
        </p:nvPicPr>
        <p:blipFill>
          <a:blip r:embed="rId4"/>
          <a:stretch/>
        </p:blipFill>
        <p:spPr>
          <a:xfrm>
            <a:off x="4648320" y="3962520"/>
            <a:ext cx="40766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9T15:22:5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cp:lastPrinted>1900-01-03T05:48:54Z</cp:lastPrinted>
  <dcterms:modified xsi:type="dcterms:W3CDTF">2017-04-16T16:07:15Z</dcterms:modified>
  <cp:revision>1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