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7473-ED04-46E6-8C0B-25D84C416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2819160"/>
            <a:ext cx="56386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371480"/>
            <a:ext cx="56386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9B7-4BB8-46F0-B1B0-67B593E8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281916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7120" y="281916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37148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7120" y="437148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439C-91E2-4A64-B14D-5BABF311E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2819160"/>
            <a:ext cx="1815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54320" y="2819160"/>
            <a:ext cx="1815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60880" y="2819160"/>
            <a:ext cx="1815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371480"/>
            <a:ext cx="1815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54320" y="4371480"/>
            <a:ext cx="1815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60880" y="4371480"/>
            <a:ext cx="1815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DCC-239F-4432-A259-420292432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2819160"/>
            <a:ext cx="56386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6A1-E656-4684-97DA-B37E898C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2819160"/>
            <a:ext cx="5638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1F1C-E209-40B6-A359-B347F825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2819160"/>
            <a:ext cx="275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7120" y="2819160"/>
            <a:ext cx="275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EBD5-F47E-41A6-9CE1-5D0AE143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ED1-EF10-4818-BD79-CD1FF167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5120" y="1371240"/>
            <a:ext cx="6705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7D3B-ABE9-4769-B858-194A3204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281916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7120" y="2819160"/>
            <a:ext cx="275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37148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9830-406F-47B5-BB38-A56BA9B7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2819160"/>
            <a:ext cx="275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7120" y="281916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7120" y="437148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D7BD-52D5-4B19-80C7-53E80193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281916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7120" y="2819160"/>
            <a:ext cx="275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371480"/>
            <a:ext cx="56386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F8ED-9047-4D8D-AE44-A5FECC06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2819160"/>
            <a:ext cx="56386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11440" indent="-162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35800" indent="-1620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460520" indent="-162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460520" indent="-162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460520" indent="-1620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6793-3595-49BE-A359-699A7BB2C4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4"/>
          <p:cNvGrpSpPr/>
          <p:nvPr/>
        </p:nvGrpSpPr>
        <p:grpSpPr>
          <a:xfrm>
            <a:off x="304920" y="1295280"/>
            <a:ext cx="8610480" cy="5410440"/>
            <a:chOff x="304920" y="1295280"/>
            <a:chExt cx="8610480" cy="5410440"/>
          </a:xfrm>
        </p:grpSpPr>
        <p:pic>
          <p:nvPicPr>
            <p:cNvPr id="42" name="Picture 33" descr="xin_4410032515332231208618"/>
            <p:cNvPicPr/>
            <p:nvPr/>
          </p:nvPicPr>
          <p:blipFill>
            <a:blip r:embed="rId2"/>
            <a:stretch/>
          </p:blipFill>
          <p:spPr>
            <a:xfrm>
              <a:off x="304920" y="1295280"/>
              <a:ext cx="8610480" cy="541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32" descr="mnls"/>
            <p:cNvPicPr/>
            <p:nvPr/>
          </p:nvPicPr>
          <p:blipFill>
            <a:blip r:embed="rId3"/>
            <a:stretch/>
          </p:blipFill>
          <p:spPr>
            <a:xfrm>
              <a:off x="7391520" y="2286000"/>
              <a:ext cx="1461960" cy="182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WordArt 35"/>
          <p:cNvSpPr txBox="1"/>
          <p:nvPr/>
        </p:nvSpPr>
        <p:spPr>
          <a:xfrm>
            <a:off x="1676520" y="304920"/>
            <a:ext cx="5257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中宋"/>
              </a:rPr>
              <a:t>蒙娜丽莎之约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45" name="矩形 6"/>
          <p:cNvSpPr/>
          <p:nvPr/>
        </p:nvSpPr>
        <p:spPr>
          <a:xfrm>
            <a:off x="2431080" y="62974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mnls"/>
          <p:cNvPicPr/>
          <p:nvPr/>
        </p:nvPicPr>
        <p:blipFill>
          <a:blip r:embed="rId2"/>
          <a:stretch/>
        </p:blipFill>
        <p:spPr>
          <a:xfrm>
            <a:off x="380880" y="1143000"/>
            <a:ext cx="5029200" cy="51814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5715000" y="13716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画像概貌（尺寸、颜色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715000" y="25146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面部表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5715000" y="3276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神秘的微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5715000" y="4038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优雅的身姿、交叠的双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5715000" y="5181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</a:rPr>
              <a:t>、空旷深远的背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457200" y="1219320"/>
            <a:ext cx="4648320" cy="502920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1"/>
          <p:cNvSpPr/>
          <p:nvPr/>
        </p:nvSpPr>
        <p:spPr>
          <a:xfrm>
            <a:off x="1828800" y="1295280"/>
            <a:ext cx="1828800" cy="175284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2"/>
          <p:cNvSpPr/>
          <p:nvPr/>
        </p:nvSpPr>
        <p:spPr>
          <a:xfrm>
            <a:off x="1447920" y="3809880"/>
            <a:ext cx="2666880" cy="236232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3"/>
          <p:cNvSpPr/>
          <p:nvPr/>
        </p:nvSpPr>
        <p:spPr>
          <a:xfrm>
            <a:off x="2209680" y="2057400"/>
            <a:ext cx="1067040" cy="83808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4"/>
          <p:cNvSpPr/>
          <p:nvPr/>
        </p:nvSpPr>
        <p:spPr>
          <a:xfrm>
            <a:off x="3886200" y="1295280"/>
            <a:ext cx="1371600" cy="1295640"/>
          </a:xfrm>
          <a:prstGeom prst="ellipse">
            <a:avLst/>
          </a:prstGeom>
          <a:noFill/>
          <a:ln cap="rnd" w="15840">
            <a:solidFill>
              <a:srgbClr val="ffff9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5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9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1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5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9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1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3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5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7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9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1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56390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中宋"/>
              </a:rPr>
              <a:t>选读课文，理解句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676160" y="3352680"/>
            <a:ext cx="563868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世界上最著名的肖像画”点明了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蒙娜丽莎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的艺术价值。能亲睹她的风采真是一种荣幸，也是一种享受，于是就有了纽约大都会博物馆前慕名而来的长龙一样的队伍，于是队伍之长远远超出了“我”的想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066680" y="19810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华文仿宋"/>
              </a:rPr>
              <a:t>①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华文仿宋"/>
              </a:rPr>
              <a:t>《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蒙娜丽莎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华文仿宋"/>
              </a:rPr>
              <a:t>》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是世界上最杰出的肖像画，世界上有多少人能亲睹她的风采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5280" y="121932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华文仿宋"/>
              </a:rPr>
              <a:t>②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华文仿宋"/>
              </a:rPr>
              <a:t>我随着队伍慢慢地走近她，心中涌起一种奇异的感觉。近了，更近了，蒙娜丽莎就像真人一样慢慢走近你。我终于跟她面对面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980720" y="4038480"/>
            <a:ext cx="541044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段话集中体现了作者迫不及待地想见到“蒙娜丽莎”的心情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12952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华文仿宋"/>
              </a:rPr>
              <a:t>③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那微笑，有时让人觉得舒畅温柔，有时让人觉得略含哀伤，有时让人觉得十分亲切，有时又让人觉得有几分矜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7760" y="3276720"/>
            <a:ext cx="56386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当我们凝视达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·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芬奇的传世名画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蒙娜丽莎</a:t>
            </a:r>
            <a:r>
              <a:rPr b="1" lang="en-US" sz="3200" spc="-1" strike="noStrike">
                <a:solidFill>
                  <a:srgbClr val="3366ff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3366ff"/>
                </a:solidFill>
                <a:latin typeface="Arial"/>
              </a:rPr>
              <a:t>时，常常被那带有三分柔情、七分迷离的微笑所迷惑。她的微笑时隐时现，难以捉摸，引发了人们无尽的猜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mnls"/>
          <p:cNvPicPr/>
          <p:nvPr/>
        </p:nvPicPr>
        <p:blipFill>
          <a:blip r:embed="rId2"/>
          <a:stretch/>
        </p:blipFill>
        <p:spPr>
          <a:xfrm>
            <a:off x="685800" y="3352680"/>
            <a:ext cx="22096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1066680"/>
            <a:ext cx="6705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Arial"/>
                <a:ea typeface="华文仿宋"/>
              </a:rPr>
              <a:t>④</a:t>
            </a:r>
            <a:r>
              <a:rPr b="1" lang="zh-CN" sz="3600" spc="-1" strike="noStrike">
                <a:solidFill>
                  <a:srgbClr val="3366ff"/>
                </a:solidFill>
                <a:latin typeface="Arial"/>
                <a:ea typeface="华文仿宋"/>
              </a:rPr>
              <a:t>她已经成了我灵魂的一部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600200" y="2286000"/>
            <a:ext cx="60199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我”亲睹了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蒙娜丽莎</a:t>
            </a: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33cc"/>
                </a:solidFill>
                <a:latin typeface="Arial"/>
              </a:rPr>
              <a:t>，感受到了她的魅力。她的生动，她的温柔，她的美丽，她的神秘，在“我”的心底留下了永不磨灭的印象，她已经成了我灵魂的一部分。这句话写出了蒙娜丽莎给人带来的心灵的震撼以及深刻的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1391535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32448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3809880" y="5105520"/>
            <a:ext cx="4419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中宋"/>
              </a:rPr>
              <a:t>课外拓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04920" y="1219320"/>
            <a:ext cx="84582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Arial"/>
                <a:ea typeface="华文仿宋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课文下面还有一幅图，也是达</a:t>
            </a:r>
            <a:r>
              <a:rPr b="1" lang="en-US" sz="3200" spc="-1" strike="noStrike">
                <a:solidFill>
                  <a:srgbClr val="ffffff"/>
                </a:solidFill>
                <a:latin typeface="华文仿宋"/>
                <a:ea typeface="华文仿宋"/>
              </a:rPr>
              <a:t>·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芬奇的作品，叫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仿宋"/>
              </a:rPr>
              <a:t>《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最后的晚餐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华文仿宋"/>
              </a:rPr>
              <a:t>》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华文仿宋"/>
              </a:rPr>
              <a:t>，它是世界最著名的宗教画。关于这幅画还有一个非常有趣的故事呢，请同学们课后去查找有关的资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2" descr="c9a886c65d4755d89008a9d4027451df_m"/>
          <p:cNvPicPr/>
          <p:nvPr/>
        </p:nvPicPr>
        <p:blipFill>
          <a:blip r:embed="rId2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7"/>
          <p:cNvSpPr txBox="1"/>
          <p:nvPr/>
        </p:nvSpPr>
        <p:spPr>
          <a:xfrm>
            <a:off x="2590920" y="1905120"/>
            <a:ext cx="2971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cc00"/>
                  </a:solidFill>
                  <a:round/>
                </a:ln>
                <a:solidFill>
                  <a:srgbClr val="ff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仿宋"/>
              </a:rPr>
              <a:t>再见</a:t>
            </a:r>
            <a:endParaRPr b="1" lang="en-US" sz="1800" spc="1" strike="noStrike">
              <a:ln w="12600">
                <a:solidFill>
                  <a:srgbClr val="ffcc00"/>
                </a:solidFill>
                <a:round/>
              </a:ln>
              <a:solidFill>
                <a:srgbClr val="ff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仿宋"/>
              <a:ea typeface="华文仿宋"/>
            </a:endParaRPr>
          </a:p>
        </p:txBody>
      </p:sp>
    </p:spTree>
  </p:cSld>
  <p:transition spd="slow">
    <p:circle/>
  </p:transition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6150-482A-4CF0-A542-1411D32219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6"/>
          <p:cNvSpPr/>
          <p:nvPr/>
        </p:nvSpPr>
        <p:spPr>
          <a:xfrm>
            <a:off x="762120" y="24382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114440" y="1447920"/>
            <a:ext cx="3048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黑体"/>
              </a:rPr>
              <a:t>达</a:t>
            </a:r>
            <a:r>
              <a:rPr b="1" lang="en-US" sz="4400" spc="-1" strike="noStrike">
                <a:solidFill>
                  <a:srgbClr val="800080"/>
                </a:solidFill>
                <a:latin typeface="Arial"/>
                <a:ea typeface="黑体"/>
              </a:rPr>
              <a:t>·</a:t>
            </a:r>
            <a:r>
              <a:rPr b="1" lang="zh-CN" sz="4400" spc="-1" strike="noStrike">
                <a:solidFill>
                  <a:srgbClr val="800080"/>
                </a:solidFill>
                <a:latin typeface="Arial"/>
                <a:ea typeface="黑体"/>
              </a:rPr>
              <a:t>芬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19520" y="2514600"/>
            <a:ext cx="5943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达</a:t>
            </a:r>
            <a:r>
              <a:rPr b="0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·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芬奇</a:t>
            </a:r>
            <a:r>
              <a:rPr b="0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(1452—1519)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是意大利文艺复兴时期的一位画家，也是整个欧洲文艺复兴时期最杰出的代表人物之一。他是一位思想深邃、学识渊博、多才多艺的艺术大师、科学巨匠、文艺理论家、大哲学家、诗人、音乐家、工程师和发明家。</a:t>
            </a:r>
            <a:r>
              <a:rPr b="0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《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蒙娜丽莎</a:t>
            </a:r>
            <a:r>
              <a:rPr b="0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》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和</a:t>
            </a:r>
            <a:r>
              <a:rPr b="0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《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最后的晚餐</a:t>
            </a:r>
            <a:r>
              <a:rPr b="0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》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这两件誉满全球的作品，使达</a:t>
            </a:r>
            <a:r>
              <a:rPr b="0" lang="en-US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·</a:t>
            </a:r>
            <a:r>
              <a:rPr b="0" lang="zh-CN" sz="28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芬奇的名字永垂青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6"/>
          <p:cNvGrpSpPr/>
          <p:nvPr/>
        </p:nvGrpSpPr>
        <p:grpSpPr>
          <a:xfrm>
            <a:off x="457200" y="1295280"/>
            <a:ext cx="2286000" cy="4981680"/>
            <a:chOff x="457200" y="1295280"/>
            <a:chExt cx="2286000" cy="4981680"/>
          </a:xfrm>
        </p:grpSpPr>
        <p:pic>
          <p:nvPicPr>
            <p:cNvPr id="50" name="Picture 4" descr="W020061205351714374448"/>
            <p:cNvPicPr/>
            <p:nvPr/>
          </p:nvPicPr>
          <p:blipFill>
            <a:blip r:embed="rId2"/>
            <a:stretch/>
          </p:blipFill>
          <p:spPr>
            <a:xfrm>
              <a:off x="457200" y="1295280"/>
              <a:ext cx="2286000" cy="304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5" descr="1391535"/>
            <p:cNvPicPr/>
            <p:nvPr/>
          </p:nvPicPr>
          <p:blipFill>
            <a:blip r:embed="rId3"/>
            <a:stretch/>
          </p:blipFill>
          <p:spPr>
            <a:xfrm>
              <a:off x="457200" y="4419720"/>
              <a:ext cx="2286000" cy="1857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4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mnls"/>
          <p:cNvPicPr/>
          <p:nvPr/>
        </p:nvPicPr>
        <p:blipFill>
          <a:blip r:embed="rId2"/>
          <a:stretch/>
        </p:blipFill>
        <p:spPr>
          <a:xfrm>
            <a:off x="3657600" y="1143000"/>
            <a:ext cx="4876920" cy="5181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80880" y="1371600"/>
            <a:ext cx="3276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世界名画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800080"/>
                </a:solidFill>
                <a:latin typeface="Arial"/>
              </a:rPr>
              <a:t>蒙娜丽莎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19720" y="30492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cc"/>
                </a:solidFill>
                <a:latin typeface="Arial"/>
                <a:ea typeface="楷体_GB2312"/>
              </a:rPr>
              <a:t>字词正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523880" y="2057400"/>
            <a:ext cx="472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探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访  交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涉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采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赴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523880" y="33526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雅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捉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摸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衬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托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幻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447920" y="469260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深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远  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朝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一日  大洋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彼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447920" y="1447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t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2971800" y="1447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sh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191120" y="144792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cǎ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5029200" y="14479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f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981080" y="26668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y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2666880" y="266688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zhu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3809880" y="266688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ch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4952880" y="2666880"/>
            <a:ext cx="12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h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1219320" y="408312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shē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2819520" y="4083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zh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5638680" y="408312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宋体"/>
              </a:rPr>
              <a:t>b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1"/>
          <p:cNvSpPr/>
          <p:nvPr/>
        </p:nvSpPr>
        <p:spPr>
          <a:xfrm>
            <a:off x="689040" y="6319800"/>
            <a:ext cx="746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76720" y="1294920"/>
            <a:ext cx="3047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Arial"/>
                <a:ea typeface="华文中宋"/>
              </a:rPr>
              <a:t>词语积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00611632939449"/>
          <p:cNvPicPr/>
          <p:nvPr/>
        </p:nvPicPr>
        <p:blipFill>
          <a:blip r:embed="rId2"/>
          <a:stretch/>
        </p:blipFill>
        <p:spPr>
          <a:xfrm>
            <a:off x="304920" y="762120"/>
            <a:ext cx="1447560" cy="1447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057400" y="2209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交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4114800" y="22096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互相商量，解决彼此间相关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2057400" y="4191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耐人寻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191120" y="419112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耐，禁得起；寻味，仔细体会。形容意味深长，值得细细体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2057400" y="32004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转瞬即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191120" y="320040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瞬，一眨眼，转眼；逝，消失。形容一眨眼就消失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057400" y="5638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璀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191120" y="56386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形容玉石的光泽鲜艳夺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华文中宋"/>
              </a:rPr>
              <a:t>初读课文，理解大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742840" y="3276360"/>
            <a:ext cx="60958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课文先是描述了大家在纽约大都会博物馆前排队等候欣赏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蒙娜丽莎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的情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接着具体介绍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蒙娜丽莎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画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最后说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蒙娜丽莎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给人带来了心灵的震撼，给人留下了永不磨灭的印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2971800" y="2362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楷体_GB2312"/>
              </a:rPr>
              <a:t>课文主要讲了什么内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mnls"/>
          <p:cNvPicPr/>
          <p:nvPr/>
        </p:nvPicPr>
        <p:blipFill>
          <a:blip r:embed="rId2"/>
          <a:stretch/>
        </p:blipFill>
        <p:spPr>
          <a:xfrm>
            <a:off x="533520" y="2438280"/>
            <a:ext cx="18288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63244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仿宋"/>
              </a:rPr>
              <a:t>质疑：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仿宋"/>
              </a:rPr>
              <a:t>课文以介绍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华文仿宋"/>
              </a:rPr>
              <a:t>《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仿宋"/>
              </a:rPr>
              <a:t>蒙娜丽莎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华文仿宋"/>
              </a:rPr>
              <a:t>》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华文仿宋"/>
              </a:rPr>
              <a:t>为写作目的，为什么还要写大家排队等候欣赏画像的情景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2209680" y="3733920"/>
            <a:ext cx="4419720" cy="1523880"/>
            <a:chOff x="2209680" y="3733920"/>
            <a:chExt cx="4419720" cy="1523880"/>
          </a:xfrm>
        </p:grpSpPr>
        <p:sp>
          <p:nvSpPr>
            <p:cNvPr id="86" name="WordArt 3"/>
            <p:cNvSpPr txBox="1"/>
            <p:nvPr/>
          </p:nvSpPr>
          <p:spPr>
            <a:xfrm>
              <a:off x="5334120" y="3733920"/>
              <a:ext cx="1295280" cy="1371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？</a:t>
              </a:r>
              <a:endPara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87" name="Picture 4" descr="127657089132968750_78386907"/>
            <p:cNvPicPr/>
            <p:nvPr/>
          </p:nvPicPr>
          <p:blipFill>
            <a:blip r:embed="rId2"/>
            <a:stretch/>
          </p:blipFill>
          <p:spPr>
            <a:xfrm>
              <a:off x="2209680" y="3733920"/>
              <a:ext cx="259092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447920"/>
            <a:ext cx="47242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华文中宋"/>
                <a:ea typeface="华文中宋"/>
              </a:rPr>
              <a:t>朗读１</a:t>
            </a:r>
            <a:r>
              <a:rPr b="1" lang="en-US" sz="4000" spc="-1" strike="noStrike">
                <a:solidFill>
                  <a:srgbClr val="ff33cc"/>
                </a:solidFill>
                <a:latin typeface="华文中宋"/>
                <a:ea typeface="华文中宋"/>
              </a:rPr>
              <a:t>-</a:t>
            </a:r>
            <a:r>
              <a:rPr b="1" lang="zh-CN" sz="4000" spc="-1" strike="noStrike">
                <a:solidFill>
                  <a:srgbClr val="ff33cc"/>
                </a:solidFill>
                <a:latin typeface="华文中宋"/>
                <a:ea typeface="华文中宋"/>
              </a:rPr>
              <a:t>４自然段，</a:t>
            </a:r>
            <a:br>
              <a:rPr sz="4000"/>
            </a:br>
            <a:r>
              <a:rPr b="1" lang="zh-CN" sz="4000" spc="-1" strike="noStrike">
                <a:solidFill>
                  <a:srgbClr val="ff33cc"/>
                </a:solidFill>
                <a:latin typeface="华文中宋"/>
                <a:ea typeface="华文中宋"/>
              </a:rPr>
              <a:t>细心体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981080" y="3428640"/>
            <a:ext cx="51818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仿宋"/>
              </a:rPr>
              <a:t>文章通过人们的等待的情景来衬托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华文仿宋"/>
              </a:rPr>
              <a:t>《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仿宋"/>
              </a:rPr>
              <a:t>蒙娜丽莎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华文仿宋"/>
              </a:rPr>
              <a:t>》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华文仿宋"/>
              </a:rPr>
              <a:t>的巨大魅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nls"/>
          <p:cNvPicPr/>
          <p:nvPr/>
        </p:nvPicPr>
        <p:blipFill>
          <a:blip r:embed="rId2"/>
          <a:stretch/>
        </p:blipFill>
        <p:spPr>
          <a:xfrm>
            <a:off x="5257800" y="9144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77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5" dur="770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7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9" dur="77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2362320"/>
            <a:ext cx="670536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朗读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5-7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自然段，</a:t>
            </a:r>
            <a:br>
              <a:rPr sz="4000"/>
            </a:b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感受名画的魅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2286000" y="41911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课文是怎样介绍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蒙娜丽莎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这幅名画的呢？请指出作者介绍的顺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xinsrc_33204020714081712627267"/>
          <p:cNvPicPr/>
          <p:nvPr/>
        </p:nvPicPr>
        <p:blipFill>
          <a:blip r:embed="rId2"/>
          <a:stretch/>
        </p:blipFill>
        <p:spPr>
          <a:xfrm>
            <a:off x="685800" y="1219320"/>
            <a:ext cx="80010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09:40:03Z</dcterms:created>
  <dc:creator>六十铺中小学教育网http://www.lspjy.com</dc:creator>
  <dc:description>第一PPT模板网-WWW.1PPT.COM</dc:description>
  <cp:keywords>六十铺中小学教育网http://www.lspjy.com</cp:keywords>
  <dc:language>en-US</dc:language>
  <cp:lastModifiedBy>xinxing</cp:lastModifiedBy>
  <dcterms:modified xsi:type="dcterms:W3CDTF">2017-04-16T16:08:05Z</dcterms:modified>
  <cp:revision>480</cp:revision>
  <dc:subject>六十铺中小学教育网http://www.lspjy.com</dc:subject>
  <dc:title>六十铺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