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275D-14D7-4C67-90B4-2D702A5A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B62B-C0C1-47F4-A05F-9CF80236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F12-F79E-4A1E-BC51-7F0762FF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7DEC-513E-4B15-A921-521DF11D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75A3-6548-4386-BCDB-F18E3706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2D3F-CBDB-489C-816D-0656ECC9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CC82-A777-47D4-BF06-FE4E919D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730B-3556-4DC8-8EF4-2ADE4635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8250-A8C8-40B9-8ED7-CD2C02E0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C57C-89EA-46A8-9C2C-1376E67A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98CD-C6FA-4524-8988-63D6AA82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DACB-88B7-4873-8940-15D7E9BF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9901-5DEA-4B3B-8580-130BD8DE4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3.xml"/><Relationship Id="rId11" Type="http://schemas.openxmlformats.org/officeDocument/2006/relationships/slide" Target="slide5.xml"/><Relationship Id="rId12" Type="http://schemas.openxmlformats.org/officeDocument/2006/relationships/hyperlink" Target="file:///usr/lib/libreoffice/share/gallery/sounds/laser.wav" TargetMode="Externa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" Target="slide5.xm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.xml"/><Relationship Id="rId10" Type="http://schemas.openxmlformats.org/officeDocument/2006/relationships/image" Target="../media/image4.gi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" Target="slide5.xm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" Target="slide5.xm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" Target="slide5.xm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" Target="slide5.xm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142920" y="64468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1440" y="907560"/>
            <a:ext cx="7989840" cy="4681800"/>
          </a:xfrm>
          <a:prstGeom prst="rect">
            <a:avLst/>
          </a:prstGeom>
          <a:solidFill>
            <a:srgbClr val="cc99ff">
              <a:alpha val="1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cc99ff"/>
                </a:solidFill>
                <a:latin typeface="Arial"/>
                <a:ea typeface="华文行楷"/>
              </a:rPr>
              <a:t>难忘的一天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843120" y="3031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小学语文第三册第八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logo16"/>
          <p:cNvPicPr/>
          <p:nvPr/>
        </p:nvPicPr>
        <p:blipFill>
          <a:blip r:embed="rId1"/>
          <a:stretch/>
        </p:blipFill>
        <p:spPr>
          <a:xfrm>
            <a:off x="179280" y="6321600"/>
            <a:ext cx="1008000" cy="355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logo16"/>
          <p:cNvPicPr/>
          <p:nvPr/>
        </p:nvPicPr>
        <p:blipFill>
          <a:blip r:embed="rId2"/>
          <a:stretch/>
        </p:blipFill>
        <p:spPr>
          <a:xfrm>
            <a:off x="1476360" y="6308640"/>
            <a:ext cx="1008000" cy="355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logo16"/>
          <p:cNvPicPr/>
          <p:nvPr/>
        </p:nvPicPr>
        <p:blipFill>
          <a:blip r:embed="rId3"/>
          <a:stretch/>
        </p:blipFill>
        <p:spPr>
          <a:xfrm>
            <a:off x="2771640" y="6308640"/>
            <a:ext cx="1008360" cy="355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logo16"/>
          <p:cNvPicPr/>
          <p:nvPr/>
        </p:nvPicPr>
        <p:blipFill>
          <a:blip r:embed="rId4"/>
          <a:stretch/>
        </p:blipFill>
        <p:spPr>
          <a:xfrm>
            <a:off x="4067280" y="6313320"/>
            <a:ext cx="1008000" cy="355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logo16"/>
          <p:cNvPicPr/>
          <p:nvPr/>
        </p:nvPicPr>
        <p:blipFill>
          <a:blip r:embed="rId5"/>
          <a:stretch/>
        </p:blipFill>
        <p:spPr>
          <a:xfrm>
            <a:off x="5364000" y="6308640"/>
            <a:ext cx="1008360" cy="355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logo16"/>
          <p:cNvPicPr/>
          <p:nvPr/>
        </p:nvPicPr>
        <p:blipFill>
          <a:blip r:embed="rId6"/>
          <a:stretch/>
        </p:blipFill>
        <p:spPr>
          <a:xfrm>
            <a:off x="7885080" y="6308640"/>
            <a:ext cx="1008000" cy="355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logo16"/>
          <p:cNvPicPr/>
          <p:nvPr/>
        </p:nvPicPr>
        <p:blipFill>
          <a:blip r:embed="rId7"/>
          <a:stretch/>
        </p:blipFill>
        <p:spPr>
          <a:xfrm>
            <a:off x="6659640" y="6308640"/>
            <a:ext cx="1008000" cy="355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3">
            <a:hlinkClick r:id="" action="ppaction://hlinkshowjump?jump=nextslide"/>
          </p:cNvPr>
          <p:cNvSpPr/>
          <p:nvPr/>
        </p:nvSpPr>
        <p:spPr>
          <a:xfrm>
            <a:off x="3082320" y="630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>
            <a:hlinkClick r:id="rId8" action="ppaction://hlinksldjump"/>
          </p:cNvPr>
          <p:cNvSpPr/>
          <p:nvPr/>
        </p:nvSpPr>
        <p:spPr>
          <a:xfrm>
            <a:off x="1713960" y="630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生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>
            <a:hlinkClick r:id="rId9" action="ppaction://hlinksldjump"/>
          </p:cNvPr>
          <p:cNvSpPr/>
          <p:nvPr/>
        </p:nvSpPr>
        <p:spPr>
          <a:xfrm>
            <a:off x="6898680" y="630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写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>
            <a:hlinkClick r:id="rId10" action="ppaction://hlinksldjump"/>
          </p:cNvPr>
          <p:cNvSpPr/>
          <p:nvPr/>
        </p:nvSpPr>
        <p:spPr>
          <a:xfrm>
            <a:off x="5603400" y="6302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词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>
            <a:hlinkClick r:id="rId11" action="ppaction://hlinksldjump"/>
          </p:cNvPr>
          <p:cNvSpPr/>
          <p:nvPr/>
        </p:nvSpPr>
        <p:spPr>
          <a:xfrm>
            <a:off x="4309560" y="630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朗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9">
            <a:hlinkClick r:id="rId12"/>
          </p:cNvPr>
          <p:cNvSpPr/>
          <p:nvPr/>
        </p:nvSpPr>
        <p:spPr>
          <a:xfrm>
            <a:off x="8125920" y="6302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音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>
            <a:off x="2504160" y="55897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0" y="981000"/>
            <a:ext cx="8748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离开展览馆，我兴奋地走在回家的路上。天，仿佛格外的蓝；阳光，仿佛更加灿烂。我忘不了这一天，忘不了肩上担负的责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X1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32000" y="5084640"/>
            <a:ext cx="5724720" cy="1554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图片1"/>
          <p:cNvPicPr/>
          <p:nvPr/>
        </p:nvPicPr>
        <p:blipFill>
          <a:blip r:embed="rId3"/>
          <a:stretch/>
        </p:blipFill>
        <p:spPr>
          <a:xfrm>
            <a:off x="2627280" y="4797360"/>
            <a:ext cx="6143760" cy="1155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dw29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1"/>
          <p:cNvSpPr/>
          <p:nvPr/>
        </p:nvSpPr>
        <p:spPr>
          <a:xfrm>
            <a:off x="412920" y="6437160"/>
            <a:ext cx="58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0" descr="tnpic041"/>
          <p:cNvPicPr/>
          <p:nvPr/>
        </p:nvPicPr>
        <p:blipFill>
          <a:blip r:embed="rId1"/>
          <a:stretch/>
        </p:blipFill>
        <p:spPr>
          <a:xfrm>
            <a:off x="-547560" y="-171360"/>
            <a:ext cx="1059156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766800" y="6858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443320" y="6858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119480" y="6858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796000" y="6858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7396200" y="6858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766800" y="243828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443320" y="243828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119480" y="243828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796000" y="243828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396200" y="243828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66800" y="43434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443320" y="43434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119480" y="43434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5796000" y="43434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7396200" y="43434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186"/>
          <p:cNvSpPr/>
          <p:nvPr/>
        </p:nvSpPr>
        <p:spPr>
          <a:xfrm>
            <a:off x="7524720" y="24559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7"/>
          <p:cNvSpPr/>
          <p:nvPr/>
        </p:nvSpPr>
        <p:spPr>
          <a:xfrm>
            <a:off x="4152960" y="242100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8"/>
          <p:cNvSpPr/>
          <p:nvPr/>
        </p:nvSpPr>
        <p:spPr>
          <a:xfrm>
            <a:off x="4211640" y="72720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89"/>
          <p:cNvSpPr/>
          <p:nvPr/>
        </p:nvSpPr>
        <p:spPr>
          <a:xfrm>
            <a:off x="5796000" y="65556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90"/>
          <p:cNvSpPr/>
          <p:nvPr/>
        </p:nvSpPr>
        <p:spPr>
          <a:xfrm>
            <a:off x="7537320" y="6922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91"/>
          <p:cNvSpPr/>
          <p:nvPr/>
        </p:nvSpPr>
        <p:spPr>
          <a:xfrm>
            <a:off x="861840" y="245592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2"/>
          <p:cNvSpPr/>
          <p:nvPr/>
        </p:nvSpPr>
        <p:spPr>
          <a:xfrm>
            <a:off x="2519280" y="24382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93"/>
          <p:cNvSpPr/>
          <p:nvPr/>
        </p:nvSpPr>
        <p:spPr>
          <a:xfrm>
            <a:off x="2565360" y="765000"/>
            <a:ext cx="114300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怦                                                                                                   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94"/>
          <p:cNvSpPr/>
          <p:nvPr/>
        </p:nvSpPr>
        <p:spPr>
          <a:xfrm>
            <a:off x="5910120" y="2421000"/>
            <a:ext cx="118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5"/>
          <p:cNvSpPr/>
          <p:nvPr/>
        </p:nvSpPr>
        <p:spPr>
          <a:xfrm>
            <a:off x="826920" y="6922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96"/>
          <p:cNvSpPr/>
          <p:nvPr/>
        </p:nvSpPr>
        <p:spPr>
          <a:xfrm>
            <a:off x="831960" y="436572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7"/>
          <p:cNvSpPr/>
          <p:nvPr/>
        </p:nvSpPr>
        <p:spPr>
          <a:xfrm>
            <a:off x="2565360" y="432756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8"/>
          <p:cNvSpPr/>
          <p:nvPr/>
        </p:nvSpPr>
        <p:spPr>
          <a:xfrm>
            <a:off x="7532640" y="432756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1" descr="dw29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D94B-079F-421B-8294-EBBAAF82E7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ff9"/>
            </a:gs>
            <a:gs pos="100000">
              <a:srgbClr val="99ff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7"/>
          <p:cNvGrpSpPr/>
          <p:nvPr/>
        </p:nvGrpSpPr>
        <p:grpSpPr>
          <a:xfrm>
            <a:off x="831960" y="0"/>
            <a:ext cx="8312040" cy="6858000"/>
            <a:chOff x="831960" y="0"/>
            <a:chExt cx="8312040" cy="6858000"/>
          </a:xfrm>
        </p:grpSpPr>
        <p:pic>
          <p:nvPicPr>
            <p:cNvPr id="59" name="Picture 4" descr="8"/>
            <p:cNvPicPr/>
            <p:nvPr/>
          </p:nvPicPr>
          <p:blipFill>
            <a:blip r:embed="rId1"/>
            <a:stretch/>
          </p:blipFill>
          <p:spPr>
            <a:xfrm>
              <a:off x="2498760" y="0"/>
              <a:ext cx="6645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5"/>
            <p:cNvSpPr/>
            <p:nvPr/>
          </p:nvSpPr>
          <p:spPr>
            <a:xfrm>
              <a:off x="831960" y="765000"/>
              <a:ext cx="1185840" cy="55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600" spc="-1" strike="noStrike">
                  <a:solidFill>
                    <a:srgbClr val="f2fff9"/>
                  </a:solidFill>
                  <a:latin typeface="Arial"/>
                  <a:ea typeface="华文行楷"/>
                </a:rPr>
                <a:t>难忘的一天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6" descr="dw29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050920" y="6381720"/>
              <a:ext cx="476280" cy="4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AutoShape 8"/>
          <p:cNvSpPr/>
          <p:nvPr/>
        </p:nvSpPr>
        <p:spPr>
          <a:xfrm>
            <a:off x="4067280" y="3933720"/>
            <a:ext cx="4681440" cy="2735280"/>
          </a:xfrm>
          <a:prstGeom prst="wedgeEllipseCallout">
            <a:avLst>
              <a:gd name="adj1" fmla="val -87504"/>
              <a:gd name="adj2" fmla="val -89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图上画了谁，还有谁，他们在做什么？你是怎么知道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63640" y="620640"/>
            <a:ext cx="137808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方正舒体"/>
              </a:rPr>
              <a:t>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284720" y="2208240"/>
            <a:ext cx="4788000" cy="3385800"/>
          </a:xfrm>
          <a:prstGeom prst="rect">
            <a:avLst/>
          </a:prstGeom>
          <a:solidFill>
            <a:srgbClr val="ccffcc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兴地 仔细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切地 紧紧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顺利地 兴奋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赞许地 沉着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4920" y="2208240"/>
            <a:ext cx="4033800" cy="3385800"/>
          </a:xfrm>
          <a:prstGeom prst="rect">
            <a:avLst/>
          </a:prstGeom>
          <a:solidFill>
            <a:srgbClr val="ffff9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冒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计算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握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 展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览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容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怦怦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普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492360" y="260280"/>
            <a:ext cx="1656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00"/>
                </a:solidFill>
                <a:latin typeface="Arial"/>
                <a:ea typeface="方正舒体"/>
              </a:rPr>
              <a:t>会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5292720" y="0"/>
            <a:ext cx="158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00"/>
                </a:solidFill>
                <a:latin typeface="Arial"/>
                <a:ea typeface="方正舒体"/>
              </a:rPr>
              <a:t>读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dw29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2096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9933ff"/>
                </a:solidFill>
                <a:latin typeface="Arial"/>
                <a:ea typeface="方正舒体"/>
              </a:rPr>
              <a:t>我会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69560" y="1784160"/>
            <a:ext cx="6489720" cy="3949560"/>
          </a:xfrm>
          <a:prstGeom prst="rect">
            <a:avLst/>
          </a:prstGeom>
          <a:solidFill>
            <a:srgbClr val="ccffff">
              <a:alpha val="90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计  算  冒  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馆  紧  怦  握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容  普  奋  灿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dw29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X18"/>
          <p:cNvPicPr/>
          <p:nvPr/>
        </p:nvPicPr>
        <p:blipFill>
          <a:blip r:embed="rId1"/>
          <a:stretch/>
        </p:blipFill>
        <p:spPr>
          <a:xfrm>
            <a:off x="317520" y="171360"/>
            <a:ext cx="4038480" cy="10969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6920" y="-27000"/>
            <a:ext cx="41259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ff"/>
                </a:solidFill>
                <a:latin typeface="Arial"/>
                <a:ea typeface="华文行楷"/>
              </a:rPr>
              <a:t>难忘的一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8642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        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那天早晨，我冒着严寒，快步走到工业展览馆。想到马上就要见到邓爷爷，我又紧张又激动，心怦怦地跳个不停。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>
            <a:hlinkClick r:id="rId5" action="ppaction://hlinksldjump"/>
          </p:cNvPr>
          <p:cNvSpPr/>
          <p:nvPr/>
        </p:nvSpPr>
        <p:spPr>
          <a:xfrm>
            <a:off x="144360" y="1773360"/>
            <a:ext cx="8748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邓爷爷来啦！他带着慈祥的微笑向我走来。我连忙敬了个队礼，说：“邓爷爷，您好！”邓爷爷高兴地点点头，紧紧地握住我的手。看着邓爷爷和蔼可亲的样子，我紧张的心情一下子平静了下来。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>
            <a:hlinkClick r:id="rId6" action="ppaction://hlinksldjump"/>
          </p:cNvPr>
          <p:cNvSpPr/>
          <p:nvPr/>
        </p:nvSpPr>
        <p:spPr>
          <a:xfrm>
            <a:off x="144360" y="3286080"/>
            <a:ext cx="8748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始表演了。我沉着地操纵着计算机，顺利地打出各种各样的图形来。邓爷爷仔细地看了我的表演，脸上露出了满意的笑容。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>
            <a:hlinkClick r:id="rId7" action="ppaction://hlinksldjump"/>
          </p:cNvPr>
          <p:cNvSpPr/>
          <p:nvPr/>
        </p:nvSpPr>
        <p:spPr>
          <a:xfrm>
            <a:off x="144360" y="4437000"/>
            <a:ext cx="87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演过后，邓爷爷还亲切地问了我的年龄。我说刚满十岁。邓爷爷听了，赞许地再一次和我握手，并对身边的人说：“计算机普及要从娃娃抓起。”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>
            <a:hlinkClick r:id="rId8" action="ppaction://hlinksldjump"/>
          </p:cNvPr>
          <p:cNvSpPr/>
          <p:nvPr/>
        </p:nvSpPr>
        <p:spPr>
          <a:xfrm>
            <a:off x="144360" y="5589720"/>
            <a:ext cx="874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离开展览馆，我兴奋地走在回家的路上。天，仿佛格外的蓝；阳光，仿佛更加灿烂。我忘不了这一天，忘不了肩上担负的责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dw29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108000" y="1052640"/>
            <a:ext cx="85694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那天早晨，我冒着严寒，快步走到工业展览馆。想到马上就要见到邓爷爷，我又紧张又激动，心怦怦地跳个不停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X1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32000" y="5084640"/>
            <a:ext cx="5724720" cy="1554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图片1"/>
          <p:cNvPicPr/>
          <p:nvPr/>
        </p:nvPicPr>
        <p:blipFill>
          <a:blip r:embed="rId3"/>
          <a:stretch/>
        </p:blipFill>
        <p:spPr>
          <a:xfrm>
            <a:off x="2627280" y="4797360"/>
            <a:ext cx="6143760" cy="1155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dw29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79280" y="549360"/>
            <a:ext cx="8748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邓爷爷来啦！他带着慈祥的微笑向我走来。我连忙敬了个队礼，说：“邓爷爷，您好！”邓爷爷高兴地点点头，紧紧地握住我的手。看着邓爷爷和蔼可亲的样子，我紧张的心情一下子平静了下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X1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32000" y="5084640"/>
            <a:ext cx="5724720" cy="1554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图片1"/>
          <p:cNvPicPr/>
          <p:nvPr/>
        </p:nvPicPr>
        <p:blipFill>
          <a:blip r:embed="rId3"/>
          <a:stretch/>
        </p:blipFill>
        <p:spPr>
          <a:xfrm>
            <a:off x="2627280" y="4797360"/>
            <a:ext cx="6143760" cy="1155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dw29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108000" y="1125360"/>
            <a:ext cx="874872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表演了。我沉着地操纵着计算机，顺利地打出各种各样的图形来。邓爷爷仔细地看了我的表演，脸上露出了满意的笑容。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X1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32000" y="5084640"/>
            <a:ext cx="5724720" cy="1554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图片1"/>
          <p:cNvPicPr/>
          <p:nvPr/>
        </p:nvPicPr>
        <p:blipFill>
          <a:blip r:embed="rId3"/>
          <a:stretch/>
        </p:blipFill>
        <p:spPr>
          <a:xfrm>
            <a:off x="2627280" y="4797360"/>
            <a:ext cx="6143760" cy="1155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dw29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79280" y="1052640"/>
            <a:ext cx="8748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演过后，邓爷爷还亲切地问了我的年龄。我说刚满十岁。邓爷爷听了，赞许地再一次和我握手，并对身边的人说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机普及要从娃娃抓起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X1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32000" y="5084640"/>
            <a:ext cx="5724720" cy="1554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图片1"/>
          <p:cNvPicPr/>
          <p:nvPr/>
        </p:nvPicPr>
        <p:blipFill>
          <a:blip r:embed="rId3"/>
          <a:stretch/>
        </p:blipFill>
        <p:spPr>
          <a:xfrm>
            <a:off x="2627280" y="4797360"/>
            <a:ext cx="6143760" cy="1155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dw29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3:56:35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6:12:10Z</dcterms:modified>
  <cp:revision>10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