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4CA-67FA-41D8-87A0-0E04BA82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766-7117-4DA5-929A-410FA1F6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EDB-AF04-4959-8F18-A2635595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8BD-D11D-4994-BC5B-3580DB0C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1C4-584A-415E-BA3E-50A09B43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671-7787-4852-A596-50214985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365-3CF0-4D91-9514-D193196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230-6EC4-45E9-89CA-A0D9299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3E9-FBDF-482F-A38E-EF7A101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36C-8135-4FEE-8407-A260F3B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6BA-2975-4E94-BD47-D3C6925E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CA3-766D-4E60-8F1E-570C73A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DDE5-B18F-4F49-9DCF-7864A67B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Documents and Settings\baixiuli\My Documents\编辑\1年级\成文件\第七单元\6哪座房子最漂亮\p78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834560" y="1916280"/>
            <a:ext cx="52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方正特粗光辉简体"/>
                <a:ea typeface="方正特粗光辉简体"/>
              </a:rPr>
              <a:t>  </a:t>
            </a:r>
            <a:r>
              <a:rPr b="0" lang="zh-CN" sz="8000" spc="-1" strike="noStrike">
                <a:solidFill>
                  <a:srgbClr val="ffff00"/>
                </a:solidFill>
                <a:latin typeface="方正特粗光辉简体"/>
                <a:ea typeface="方正特粗光辉简体"/>
              </a:rPr>
              <a:t>哪座房子最漂亮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84240" y="63165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5680" y="1447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</a:rPr>
              <a:t>白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505320" y="1447920"/>
            <a:ext cx="172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</a:rPr>
              <a:t>水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867280" y="13716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</a:rPr>
              <a:t>两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62120" y="304812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</a:rPr>
              <a:t>果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743200" y="30481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</a:rPr>
              <a:t>青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724280" y="30481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</a:rPr>
              <a:t>前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629400" y="29718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</a:rPr>
              <a:t>开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521360" y="1752480"/>
            <a:ext cx="6037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imes New Roman"/>
              </a:rPr>
              <a:t>（         ）（         ）的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imes New Roman"/>
              </a:rPr>
              <a:t>（         ）（         ）的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imes New Roman"/>
              </a:rPr>
              <a:t>（         ） （         ）的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67760" y="167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786920" y="167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967760" y="3352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786920" y="3352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96776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86324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544680" y="361800"/>
            <a:ext cx="63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7079-154E-4564-A6FD-7C59A5D34C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1:17:20Z</dcterms:created>
  <dc:creator>baixiuli</dc:creator>
  <dc:description/>
  <cp:keywords/>
  <dc:language>en-US</dc:language>
  <cp:lastModifiedBy>xinxing</cp:lastModifiedBy>
  <dcterms:modified xsi:type="dcterms:W3CDTF">2017-04-16T15:25:32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