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D36-F886-4EFE-BC57-FE25C677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0AB-0C9E-4A05-8366-C9939142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41D-926E-4B7D-962A-0423E8D3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012-716D-4316-B698-28E04AD0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AA25-D022-4EBF-AD14-A0C44AA0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2D1E-82A7-48E7-AE87-5AE4F552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3846-46F6-4AAC-BBCE-866F356C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3876-501E-436F-ABAA-09C46168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2B54-13D4-4F2C-8000-B081A69C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53EE-6E82-41D5-8F56-46425AF3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6E05-320C-4C50-B30F-96B003AC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C2B-1520-4734-BFB3-3A994A89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4662-DD55-4EC4-8F58-82BD766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137A-4FF3-4BDA-B879-2B85E292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1640-0FFF-4982-BDDD-9FB7D61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F945-718D-4C1F-9852-3BA7D178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CF45-5579-455E-947F-EDAB6079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C56-1F54-4B69-968A-0D469C46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FDA-6BA2-4A9B-88F3-9A84048B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BE2-8C82-4F86-A50B-BA11369A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96E-C025-4C95-B978-B6F87756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DB7-9D84-4341-9D13-CAFC160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0BB-B9DD-4EE9-9464-E3F0C165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6D1-CD73-4E49-911C-F0231519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F180-B3F1-468B-B266-41D1E12CC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1926-F4C5-4057-B689-0B0152DE3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" Target="slide13.xm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425520" y="1413000"/>
            <a:ext cx="8677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稚艺简体"/>
                <a:ea typeface="方正稚艺简体"/>
              </a:rPr>
              <a:t>跑进家来的</a:t>
            </a:r>
            <a:r>
              <a:rPr b="1" lang="zh-CN" sz="16600" spc="-1" strike="noStrike">
                <a:solidFill>
                  <a:srgbClr val="ff0000"/>
                </a:solidFill>
                <a:latin typeface="华康娃娃体W5(P)"/>
                <a:ea typeface="华康娃娃体W5(P)"/>
              </a:rPr>
              <a:t>松鼠</a:t>
            </a:r>
            <a:endParaRPr b="0" lang="en-US" sz="1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352600" y="33336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隶书"/>
              </a:rPr>
              <a:t>义务教育课程标准实验教科书语文六年级上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258372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16000" y="83664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哈哈大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我怎么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咱们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松鼠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天性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咱们的松鼠自然也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不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落后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3">
            <a:hlinkClick r:id="rId1" action="ppaction://hlinksldjump"/>
          </p:cNvPr>
          <p:cNvSpPr/>
          <p:nvPr/>
        </p:nvSpPr>
        <p:spPr>
          <a:xfrm>
            <a:off x="8028000" y="6165720"/>
            <a:ext cx="466560" cy="322560"/>
          </a:xfrm>
          <a:custGeom>
            <a:avLst/>
            <a:gdLst>
              <a:gd name="textAreaLeft" fmla="*/ 20880 w 466560"/>
              <a:gd name="textAreaRight" fmla="*/ 445680 w 46656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1232" h="21600">
                <a:moveTo>
                  <a:pt x="0" y="0"/>
                </a:moveTo>
                <a:lnTo>
                  <a:pt x="31232" y="0"/>
                </a:lnTo>
                <a:lnTo>
                  <a:pt x="31232" y="21600"/>
                </a:lnTo>
                <a:lnTo>
                  <a:pt x="0" y="21600"/>
                </a:lnTo>
                <a:close/>
              </a:path>
              <a:path fill="lightenLess" w="31232" h="21600">
                <a:moveTo>
                  <a:pt x="0" y="0"/>
                </a:moveTo>
                <a:lnTo>
                  <a:pt x="31232" y="0"/>
                </a:lnTo>
                <a:lnTo>
                  <a:pt x="29832" y="1400"/>
                </a:lnTo>
                <a:lnTo>
                  <a:pt x="1400" y="1400"/>
                </a:lnTo>
                <a:close/>
              </a:path>
              <a:path fill="darken" w="31232" h="21600">
                <a:moveTo>
                  <a:pt x="31232" y="0"/>
                </a:moveTo>
                <a:lnTo>
                  <a:pt x="31232" y="21600"/>
                </a:lnTo>
                <a:lnTo>
                  <a:pt x="29832" y="20200"/>
                </a:lnTo>
                <a:lnTo>
                  <a:pt x="29832" y="1400"/>
                </a:lnTo>
                <a:close/>
              </a:path>
              <a:path fill="darkenLess" w="31232" h="21600">
                <a:moveTo>
                  <a:pt x="31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2" y="20200"/>
                </a:lnTo>
                <a:close/>
              </a:path>
              <a:path fill="lighten" w="31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2" h="21600">
                <a:moveTo>
                  <a:pt x="8610" y="10800"/>
                </a:moveTo>
                <a:lnTo>
                  <a:pt x="22623" y="3794"/>
                </a:lnTo>
                <a:lnTo>
                  <a:pt x="226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1042920" y="177336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一天，它干脆失踪了，哪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也找不到。也许它跑到花园或森林里去了吧？我们心里空落落的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042920" y="177336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一天，它干脆失踪了，哪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也找不到。也许它跑到花园或森林里去了吧？我们心里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空落落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3">
            <a:hlinkClick r:id="rId1" action="ppaction://hlinksldjump"/>
          </p:cNvPr>
          <p:cNvSpPr/>
          <p:nvPr/>
        </p:nvSpPr>
        <p:spPr>
          <a:xfrm>
            <a:off x="8244000" y="6308640"/>
            <a:ext cx="395280" cy="250920"/>
          </a:xfrm>
          <a:custGeom>
            <a:avLst/>
            <a:gdLst>
              <a:gd name="textAreaLeft" fmla="*/ 16200 w 395280"/>
              <a:gd name="textAreaRight" fmla="*/ 379080 w 3952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34009" h="21600">
                <a:moveTo>
                  <a:pt x="0" y="0"/>
                </a:moveTo>
                <a:lnTo>
                  <a:pt x="34009" y="0"/>
                </a:lnTo>
                <a:lnTo>
                  <a:pt x="34009" y="21600"/>
                </a:lnTo>
                <a:lnTo>
                  <a:pt x="0" y="21600"/>
                </a:lnTo>
                <a:close/>
              </a:path>
              <a:path fill="lightenLess" w="34009" h="21600">
                <a:moveTo>
                  <a:pt x="0" y="0"/>
                </a:moveTo>
                <a:lnTo>
                  <a:pt x="34009" y="0"/>
                </a:lnTo>
                <a:lnTo>
                  <a:pt x="32609" y="1400"/>
                </a:lnTo>
                <a:lnTo>
                  <a:pt x="1400" y="1400"/>
                </a:lnTo>
                <a:close/>
              </a:path>
              <a:path fill="darken" w="34009" h="21600">
                <a:moveTo>
                  <a:pt x="34009" y="0"/>
                </a:moveTo>
                <a:lnTo>
                  <a:pt x="34009" y="21600"/>
                </a:lnTo>
                <a:lnTo>
                  <a:pt x="32609" y="20200"/>
                </a:lnTo>
                <a:lnTo>
                  <a:pt x="32609" y="1400"/>
                </a:lnTo>
                <a:close/>
              </a:path>
              <a:path fill="darkenLess" w="34009" h="21600">
                <a:moveTo>
                  <a:pt x="34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09" y="20200"/>
                </a:lnTo>
                <a:close/>
              </a:path>
              <a:path fill="lighten" w="34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09" h="21600">
                <a:moveTo>
                  <a:pt x="9998" y="10800"/>
                </a:moveTo>
                <a:lnTo>
                  <a:pt x="24011" y="3794"/>
                </a:lnTo>
                <a:lnTo>
                  <a:pt x="2401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文本框 1"/>
          <p:cNvSpPr/>
          <p:nvPr/>
        </p:nvSpPr>
        <p:spPr>
          <a:xfrm>
            <a:off x="2751120" y="4967280"/>
            <a:ext cx="63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826920" y="549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26920" y="907920"/>
            <a:ext cx="7704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它整天满屋乱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跑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在橱柜和架子上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跳来跳去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动作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灵活得惊人，从来没有碰掉过一样东西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有时，松鼠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跳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到我的肩上，用小嘴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蹭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的脸，还轻轻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咬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的耳朵，我想它是又想吃糖了。可我又上哪儿给它找去呢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爸爸哈哈大笑，说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怎么没想到这一点呢！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咱们家的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松鼠是在储备冬粮呢。森林里的松鼠到了秋天，就要开始储备冬粮。这是松鼠的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天性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咱们的松鼠也自然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不甘落后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有一天，它干脆失踪了，哪儿也找不到。也许它跑到花园或森林里去了吧？我们心里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空落落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6">
            <a:hlinkClick r:id="rId1" action="ppaction://hlinksldjump"/>
          </p:cNvPr>
          <p:cNvSpPr/>
          <p:nvPr/>
        </p:nvSpPr>
        <p:spPr>
          <a:xfrm>
            <a:off x="8028000" y="6237360"/>
            <a:ext cx="395280" cy="322200"/>
          </a:xfrm>
          <a:custGeom>
            <a:avLst/>
            <a:gdLst>
              <a:gd name="textAreaLeft" fmla="*/ 20880 w 395280"/>
              <a:gd name="textAreaRight" fmla="*/ 374400 w 395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26494" h="21600">
                <a:moveTo>
                  <a:pt x="0" y="0"/>
                </a:moveTo>
                <a:lnTo>
                  <a:pt x="26494" y="0"/>
                </a:lnTo>
                <a:lnTo>
                  <a:pt x="26494" y="21600"/>
                </a:lnTo>
                <a:lnTo>
                  <a:pt x="0" y="21600"/>
                </a:lnTo>
                <a:close/>
              </a:path>
              <a:path fill="lightenLess" w="26494" h="21600">
                <a:moveTo>
                  <a:pt x="0" y="0"/>
                </a:moveTo>
                <a:lnTo>
                  <a:pt x="26494" y="0"/>
                </a:lnTo>
                <a:lnTo>
                  <a:pt x="25094" y="1400"/>
                </a:lnTo>
                <a:lnTo>
                  <a:pt x="1400" y="1400"/>
                </a:lnTo>
                <a:close/>
              </a:path>
              <a:path fill="darken" w="26494" h="21600">
                <a:moveTo>
                  <a:pt x="26494" y="0"/>
                </a:moveTo>
                <a:lnTo>
                  <a:pt x="26494" y="21600"/>
                </a:lnTo>
                <a:lnTo>
                  <a:pt x="25094" y="20200"/>
                </a:lnTo>
                <a:lnTo>
                  <a:pt x="25094" y="1400"/>
                </a:lnTo>
                <a:close/>
              </a:path>
              <a:path fill="darkenLess" w="26494" h="21600">
                <a:moveTo>
                  <a:pt x="26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4" y="20200"/>
                </a:lnTo>
                <a:close/>
              </a:path>
              <a:path fill="lighten" w="26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94" h="21600">
                <a:moveTo>
                  <a:pt x="6240" y="10800"/>
                </a:moveTo>
                <a:lnTo>
                  <a:pt x="20253" y="3794"/>
                </a:lnTo>
                <a:lnTo>
                  <a:pt x="2025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755640" y="765000"/>
            <a:ext cx="280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66"/>
                </a:solidFill>
                <a:latin typeface="Comic Sans MS"/>
              </a:rPr>
              <a:t>小练笔</a:t>
            </a:r>
            <a:r>
              <a:rPr b="1" lang="en-US" sz="4000" spc="-1" strike="noStrike">
                <a:solidFill>
                  <a:srgbClr val="00cc66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42920" y="2133720"/>
            <a:ext cx="66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学习本文的写法，写一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自己与动物或别人与动物的真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故事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6">
            <a:hlinkClick r:id="rId1" action="ppaction://hlinksldjump"/>
          </p:cNvPr>
          <p:cNvSpPr/>
          <p:nvPr/>
        </p:nvSpPr>
        <p:spPr>
          <a:xfrm>
            <a:off x="8101080" y="6453360"/>
            <a:ext cx="393480" cy="250560"/>
          </a:xfrm>
          <a:custGeom>
            <a:avLst/>
            <a:gdLst>
              <a:gd name="textAreaLeft" fmla="*/ 16200 w 393480"/>
              <a:gd name="textAreaRight" fmla="*/ 377280 w 3934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33903" h="21600">
                <a:moveTo>
                  <a:pt x="0" y="0"/>
                </a:moveTo>
                <a:lnTo>
                  <a:pt x="33903" y="0"/>
                </a:lnTo>
                <a:lnTo>
                  <a:pt x="33903" y="21600"/>
                </a:lnTo>
                <a:lnTo>
                  <a:pt x="0" y="21600"/>
                </a:lnTo>
                <a:close/>
              </a:path>
              <a:path fill="lightenLess" w="33903" h="21600">
                <a:moveTo>
                  <a:pt x="0" y="0"/>
                </a:moveTo>
                <a:lnTo>
                  <a:pt x="33903" y="0"/>
                </a:lnTo>
                <a:lnTo>
                  <a:pt x="32503" y="1400"/>
                </a:lnTo>
                <a:lnTo>
                  <a:pt x="1400" y="1400"/>
                </a:lnTo>
                <a:close/>
              </a:path>
              <a:path fill="darken" w="33903" h="21600">
                <a:moveTo>
                  <a:pt x="33903" y="0"/>
                </a:moveTo>
                <a:lnTo>
                  <a:pt x="33903" y="21600"/>
                </a:lnTo>
                <a:lnTo>
                  <a:pt x="32503" y="20200"/>
                </a:lnTo>
                <a:lnTo>
                  <a:pt x="32503" y="1400"/>
                </a:lnTo>
                <a:close/>
              </a:path>
              <a:path fill="darkenLess" w="33903" h="21600">
                <a:moveTo>
                  <a:pt x="33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3" y="20200"/>
                </a:lnTo>
                <a:close/>
              </a:path>
              <a:path fill="lighten" w="33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3" h="21600">
                <a:moveTo>
                  <a:pt x="9945" y="10800"/>
                </a:moveTo>
                <a:lnTo>
                  <a:pt x="23958" y="3794"/>
                </a:lnTo>
                <a:lnTo>
                  <a:pt x="2395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1F73-AA5E-4AD3-8043-610FB748BC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4"/>
          <p:cNvSpPr/>
          <p:nvPr/>
        </p:nvSpPr>
        <p:spPr>
          <a:xfrm>
            <a:off x="1241280" y="981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41320" y="3716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66cc"/>
                </a:solidFill>
                <a:latin typeface="Comic Sans MS"/>
              </a:rPr>
              <a:t>读读课文，说说松鼠在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66cc"/>
                </a:solidFill>
                <a:latin typeface="Comic Sans MS"/>
              </a:rPr>
              <a:t>我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66cc"/>
                </a:solidFill>
                <a:latin typeface="Comic Sans MS"/>
              </a:rPr>
              <a:t>家做了哪些事？你从中体会到了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6">
            <a:hlinkClick r:id="" action="ppaction://hlinkshowjump?jump=nextslide"/>
          </p:cNvPr>
          <p:cNvSpPr/>
          <p:nvPr/>
        </p:nvSpPr>
        <p:spPr>
          <a:xfrm>
            <a:off x="2124000" y="6381720"/>
            <a:ext cx="393840" cy="250920"/>
          </a:xfrm>
          <a:custGeom>
            <a:avLst/>
            <a:gdLst>
              <a:gd name="textAreaLeft" fmla="*/ 16200 w 393840"/>
              <a:gd name="textAreaRight" fmla="*/ 377640 w 3938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33885" h="21600">
                <a:moveTo>
                  <a:pt x="0" y="0"/>
                </a:moveTo>
                <a:lnTo>
                  <a:pt x="33885" y="0"/>
                </a:lnTo>
                <a:lnTo>
                  <a:pt x="33885" y="21600"/>
                </a:lnTo>
                <a:lnTo>
                  <a:pt x="0" y="21600"/>
                </a:lnTo>
                <a:close/>
              </a:path>
              <a:path fill="lightenLess" w="33885" h="21600">
                <a:moveTo>
                  <a:pt x="0" y="0"/>
                </a:moveTo>
                <a:lnTo>
                  <a:pt x="33885" y="0"/>
                </a:lnTo>
                <a:lnTo>
                  <a:pt x="32485" y="1400"/>
                </a:lnTo>
                <a:lnTo>
                  <a:pt x="1400" y="1400"/>
                </a:lnTo>
                <a:close/>
              </a:path>
              <a:path fill="darken" w="33885" h="21600">
                <a:moveTo>
                  <a:pt x="33885" y="0"/>
                </a:moveTo>
                <a:lnTo>
                  <a:pt x="33885" y="21600"/>
                </a:lnTo>
                <a:lnTo>
                  <a:pt x="32485" y="20200"/>
                </a:lnTo>
                <a:lnTo>
                  <a:pt x="32485" y="1400"/>
                </a:lnTo>
                <a:close/>
              </a:path>
              <a:path fill="darkenLess" w="33885" h="21600">
                <a:moveTo>
                  <a:pt x="33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5" y="20200"/>
                </a:lnTo>
                <a:close/>
              </a:path>
              <a:path fill="lighten" w="33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8">
            <a:hlinkClick r:id="rId1" action="ppaction://hlinksldjump"/>
          </p:cNvPr>
          <p:cNvSpPr/>
          <p:nvPr/>
        </p:nvSpPr>
        <p:spPr>
          <a:xfrm>
            <a:off x="3635280" y="630864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3794"/>
                </a:moveTo>
                <a:lnTo>
                  <a:pt x="23240" y="10800"/>
                </a:lnTo>
                <a:lnTo>
                  <a:pt x="92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9">
            <a:hlinkClick r:id="rId2" action="ppaction://hlinksldjump"/>
          </p:cNvPr>
          <p:cNvSpPr/>
          <p:nvPr/>
        </p:nvSpPr>
        <p:spPr>
          <a:xfrm>
            <a:off x="4356000" y="6308640"/>
            <a:ext cx="432000" cy="3222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28953" h="21600">
                <a:moveTo>
                  <a:pt x="0" y="0"/>
                </a:moveTo>
                <a:lnTo>
                  <a:pt x="28953" y="0"/>
                </a:lnTo>
                <a:lnTo>
                  <a:pt x="28953" y="21600"/>
                </a:lnTo>
                <a:lnTo>
                  <a:pt x="0" y="21600"/>
                </a:lnTo>
                <a:close/>
              </a:path>
              <a:path fill="lightenLess" w="28953" h="21600">
                <a:moveTo>
                  <a:pt x="0" y="0"/>
                </a:moveTo>
                <a:lnTo>
                  <a:pt x="28953" y="0"/>
                </a:lnTo>
                <a:lnTo>
                  <a:pt x="27553" y="1400"/>
                </a:lnTo>
                <a:lnTo>
                  <a:pt x="1400" y="1400"/>
                </a:lnTo>
                <a:close/>
              </a:path>
              <a:path fill="darken" w="28953" h="21600">
                <a:moveTo>
                  <a:pt x="28953" y="0"/>
                </a:moveTo>
                <a:lnTo>
                  <a:pt x="28953" y="21600"/>
                </a:lnTo>
                <a:lnTo>
                  <a:pt x="27553" y="20200"/>
                </a:lnTo>
                <a:lnTo>
                  <a:pt x="27553" y="1400"/>
                </a:lnTo>
                <a:close/>
              </a:path>
              <a:path fill="darkenLess" w="28953" h="21600">
                <a:moveTo>
                  <a:pt x="28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53" y="20200"/>
                </a:lnTo>
                <a:close/>
              </a:path>
              <a:path fill="lighten" w="28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53" h="21600">
                <a:moveTo>
                  <a:pt x="7470" y="3794"/>
                </a:moveTo>
                <a:lnTo>
                  <a:pt x="21483" y="10800"/>
                </a:lnTo>
                <a:lnTo>
                  <a:pt x="747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10">
            <a:hlinkClick r:id="rId3" action="ppaction://hlinksldjump"/>
          </p:cNvPr>
          <p:cNvSpPr/>
          <p:nvPr/>
        </p:nvSpPr>
        <p:spPr>
          <a:xfrm>
            <a:off x="5076720" y="6308640"/>
            <a:ext cx="432000" cy="324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90" y="3794"/>
                </a:moveTo>
                <a:lnTo>
                  <a:pt x="21402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11">
            <a:hlinkClick r:id="rId4" action="ppaction://hlinksldjump"/>
          </p:cNvPr>
          <p:cNvSpPr/>
          <p:nvPr/>
        </p:nvSpPr>
        <p:spPr>
          <a:xfrm>
            <a:off x="5724360" y="6308640"/>
            <a:ext cx="432000" cy="324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90" y="3794"/>
                </a:moveTo>
                <a:lnTo>
                  <a:pt x="21402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14">
            <a:hlinkClick r:id="rId5" action="ppaction://hlinksldjump"/>
          </p:cNvPr>
          <p:cNvSpPr/>
          <p:nvPr/>
        </p:nvSpPr>
        <p:spPr>
          <a:xfrm>
            <a:off x="7093080" y="6308640"/>
            <a:ext cx="431640" cy="324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8768" h="21600">
                <a:moveTo>
                  <a:pt x="0" y="0"/>
                </a:moveTo>
                <a:lnTo>
                  <a:pt x="28768" y="0"/>
                </a:lnTo>
                <a:lnTo>
                  <a:pt x="28768" y="21600"/>
                </a:lnTo>
                <a:lnTo>
                  <a:pt x="0" y="21600"/>
                </a:lnTo>
                <a:close/>
              </a:path>
              <a:path fill="lightenLess" w="28768" h="21600">
                <a:moveTo>
                  <a:pt x="0" y="0"/>
                </a:moveTo>
                <a:lnTo>
                  <a:pt x="28768" y="0"/>
                </a:lnTo>
                <a:lnTo>
                  <a:pt x="27368" y="1400"/>
                </a:lnTo>
                <a:lnTo>
                  <a:pt x="1400" y="1400"/>
                </a:lnTo>
                <a:close/>
              </a:path>
              <a:path fill="darken" w="28768" h="21600">
                <a:moveTo>
                  <a:pt x="28768" y="0"/>
                </a:moveTo>
                <a:lnTo>
                  <a:pt x="28768" y="21600"/>
                </a:lnTo>
                <a:lnTo>
                  <a:pt x="27368" y="20200"/>
                </a:lnTo>
                <a:lnTo>
                  <a:pt x="27368" y="1400"/>
                </a:lnTo>
                <a:close/>
              </a:path>
              <a:path fill="darkenLess" w="28768" h="21600">
                <a:moveTo>
                  <a:pt x="28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8" y="20200"/>
                </a:lnTo>
                <a:close/>
              </a:path>
              <a:path fill="lighten" w="28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8" h="21600">
                <a:moveTo>
                  <a:pt x="7378" y="3794"/>
                </a:moveTo>
                <a:lnTo>
                  <a:pt x="21390" y="10800"/>
                </a:lnTo>
                <a:lnTo>
                  <a:pt x="737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15">
            <a:hlinkClick r:id="rId6" action="ppaction://hlinksldjump"/>
          </p:cNvPr>
          <p:cNvSpPr/>
          <p:nvPr/>
        </p:nvSpPr>
        <p:spPr>
          <a:xfrm>
            <a:off x="2843280" y="6308640"/>
            <a:ext cx="216000" cy="395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95280"/>
              <a:gd name="textAreaBottom" fmla="*/ 381600 h 395280"/>
            </a:gdLst>
            <a:ahLst/>
            <a:rect l="textAreaLeft" t="textAreaTop" r="textAreaRight" b="textAreaBottom"/>
            <a:pathLst>
              <a:path w="21600" h="39498">
                <a:moveTo>
                  <a:pt x="0" y="0"/>
                </a:moveTo>
                <a:lnTo>
                  <a:pt x="21600" y="0"/>
                </a:lnTo>
                <a:lnTo>
                  <a:pt x="21600" y="39498"/>
                </a:lnTo>
                <a:lnTo>
                  <a:pt x="0" y="39498"/>
                </a:lnTo>
                <a:close/>
              </a:path>
              <a:path fill="lightenLess" w="21600" h="394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498">
                <a:moveTo>
                  <a:pt x="21600" y="0"/>
                </a:moveTo>
                <a:lnTo>
                  <a:pt x="21600" y="39498"/>
                </a:lnTo>
                <a:lnTo>
                  <a:pt x="20200" y="38098"/>
                </a:lnTo>
                <a:lnTo>
                  <a:pt x="20200" y="1400"/>
                </a:lnTo>
                <a:close/>
              </a:path>
              <a:path fill="darkenLess" w="21600" h="39498">
                <a:moveTo>
                  <a:pt x="21600" y="39498"/>
                </a:moveTo>
                <a:lnTo>
                  <a:pt x="0" y="39498"/>
                </a:lnTo>
                <a:lnTo>
                  <a:pt x="1400" y="38098"/>
                </a:lnTo>
                <a:lnTo>
                  <a:pt x="20200" y="38098"/>
                </a:lnTo>
                <a:close/>
              </a:path>
              <a:path fill="lighten" w="21600" h="39498">
                <a:moveTo>
                  <a:pt x="0" y="394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809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6">
            <a:hlinkClick r:id="rId7" action="ppaction://hlinksldjump"/>
          </p:cNvPr>
          <p:cNvSpPr/>
          <p:nvPr/>
        </p:nvSpPr>
        <p:spPr>
          <a:xfrm>
            <a:off x="6443640" y="6237360"/>
            <a:ext cx="216000" cy="395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95280"/>
              <a:gd name="textAreaBottom" fmla="*/ 381600 h 395280"/>
            </a:gdLst>
            <a:ahLst/>
            <a:rect l="textAreaLeft" t="textAreaTop" r="textAreaRight" b="textAreaBottom"/>
            <a:pathLst>
              <a:path w="21600" h="39498">
                <a:moveTo>
                  <a:pt x="0" y="0"/>
                </a:moveTo>
                <a:lnTo>
                  <a:pt x="21600" y="0"/>
                </a:lnTo>
                <a:lnTo>
                  <a:pt x="21600" y="39498"/>
                </a:lnTo>
                <a:lnTo>
                  <a:pt x="0" y="39498"/>
                </a:lnTo>
                <a:close/>
              </a:path>
              <a:path fill="lightenLess" w="21600" h="394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498">
                <a:moveTo>
                  <a:pt x="21600" y="0"/>
                </a:moveTo>
                <a:lnTo>
                  <a:pt x="21600" y="39498"/>
                </a:lnTo>
                <a:lnTo>
                  <a:pt x="20200" y="38098"/>
                </a:lnTo>
                <a:lnTo>
                  <a:pt x="20200" y="1400"/>
                </a:lnTo>
                <a:close/>
              </a:path>
              <a:path fill="darkenLess" w="21600" h="39498">
                <a:moveTo>
                  <a:pt x="21600" y="39498"/>
                </a:moveTo>
                <a:lnTo>
                  <a:pt x="0" y="39498"/>
                </a:lnTo>
                <a:lnTo>
                  <a:pt x="1400" y="38098"/>
                </a:lnTo>
                <a:lnTo>
                  <a:pt x="20200" y="38098"/>
                </a:lnTo>
                <a:close/>
              </a:path>
              <a:path fill="lighten" w="21600" h="39498">
                <a:moveTo>
                  <a:pt x="0" y="394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809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8"/>
          <a:stretch/>
        </p:blipFill>
        <p:spPr>
          <a:xfrm>
            <a:off x="227160" y="333360"/>
            <a:ext cx="50511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835280" y="1125360"/>
            <a:ext cx="352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学习提纲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 快速读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找出趣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思考体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交流感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领悟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7">
            <a:hlinkClick r:id="rId1" action="ppaction://hlinksldjump"/>
          </p:cNvPr>
          <p:cNvSpPr/>
          <p:nvPr/>
        </p:nvSpPr>
        <p:spPr>
          <a:xfrm>
            <a:off x="7885080" y="6237360"/>
            <a:ext cx="466920" cy="322200"/>
          </a:xfrm>
          <a:custGeom>
            <a:avLst/>
            <a:gdLst>
              <a:gd name="textAreaLeft" fmla="*/ 20880 w 466920"/>
              <a:gd name="textAreaRight" fmla="*/ 446040 w 4669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1291" h="21600">
                <a:moveTo>
                  <a:pt x="0" y="0"/>
                </a:moveTo>
                <a:lnTo>
                  <a:pt x="31291" y="0"/>
                </a:lnTo>
                <a:lnTo>
                  <a:pt x="31291" y="21600"/>
                </a:lnTo>
                <a:lnTo>
                  <a:pt x="0" y="21600"/>
                </a:lnTo>
                <a:close/>
              </a:path>
              <a:path fill="lightenLess" w="31291" h="21600">
                <a:moveTo>
                  <a:pt x="0" y="0"/>
                </a:moveTo>
                <a:lnTo>
                  <a:pt x="31291" y="0"/>
                </a:lnTo>
                <a:lnTo>
                  <a:pt x="29891" y="1400"/>
                </a:lnTo>
                <a:lnTo>
                  <a:pt x="1400" y="1400"/>
                </a:lnTo>
                <a:close/>
              </a:path>
              <a:path fill="darken" w="31291" h="21600">
                <a:moveTo>
                  <a:pt x="31291" y="0"/>
                </a:moveTo>
                <a:lnTo>
                  <a:pt x="31291" y="21600"/>
                </a:lnTo>
                <a:lnTo>
                  <a:pt x="29891" y="20200"/>
                </a:lnTo>
                <a:lnTo>
                  <a:pt x="29891" y="1400"/>
                </a:lnTo>
                <a:close/>
              </a:path>
              <a:path fill="darkenLess" w="31291" h="21600">
                <a:moveTo>
                  <a:pt x="31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91" y="20200"/>
                </a:lnTo>
                <a:close/>
              </a:path>
              <a:path fill="lighten" w="31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971640" y="1413000"/>
            <a:ext cx="691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读读记记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储备    干脆    失踪    空落落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不甘落后   千方百计   哭笑不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5">
            <a:hlinkClick r:id="rId1" action="ppaction://hlinksldjump"/>
          </p:cNvPr>
          <p:cNvSpPr/>
          <p:nvPr/>
        </p:nvSpPr>
        <p:spPr>
          <a:xfrm>
            <a:off x="7380360" y="602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187280" y="177336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它整天满屋乱跑，在橱柜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架子上跳来跳去，动作灵活得惊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人，从来没有碰掉过一样东西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187280" y="177336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它整天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满屋乱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在橱柜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架子上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跳来跳去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动作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灵活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惊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从来没有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碰掉过一样东西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3">
            <a:hlinkClick r:id="rId1" action="ppaction://hlinksldjump"/>
          </p:cNvPr>
          <p:cNvSpPr/>
          <p:nvPr/>
        </p:nvSpPr>
        <p:spPr>
          <a:xfrm>
            <a:off x="7885080" y="6093000"/>
            <a:ext cx="466920" cy="323640"/>
          </a:xfrm>
          <a:custGeom>
            <a:avLst/>
            <a:gdLst>
              <a:gd name="textAreaLeft" fmla="*/ 20880 w 466920"/>
              <a:gd name="textAreaRight" fmla="*/ 446040 w 4669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1152" h="21600">
                <a:moveTo>
                  <a:pt x="0" y="0"/>
                </a:moveTo>
                <a:lnTo>
                  <a:pt x="31152" y="0"/>
                </a:lnTo>
                <a:lnTo>
                  <a:pt x="31152" y="21600"/>
                </a:lnTo>
                <a:lnTo>
                  <a:pt x="0" y="21600"/>
                </a:lnTo>
                <a:close/>
              </a:path>
              <a:path fill="lightenLess" w="31152" h="21600">
                <a:moveTo>
                  <a:pt x="0" y="0"/>
                </a:moveTo>
                <a:lnTo>
                  <a:pt x="31152" y="0"/>
                </a:lnTo>
                <a:lnTo>
                  <a:pt x="29752" y="1400"/>
                </a:lnTo>
                <a:lnTo>
                  <a:pt x="1400" y="1400"/>
                </a:lnTo>
                <a:close/>
              </a:path>
              <a:path fill="darken" w="31152" h="21600">
                <a:moveTo>
                  <a:pt x="31152" y="0"/>
                </a:moveTo>
                <a:lnTo>
                  <a:pt x="31152" y="21600"/>
                </a:lnTo>
                <a:lnTo>
                  <a:pt x="29752" y="20200"/>
                </a:lnTo>
                <a:lnTo>
                  <a:pt x="29752" y="1400"/>
                </a:lnTo>
                <a:close/>
              </a:path>
              <a:path fill="darkenLess" w="31152" h="21600">
                <a:moveTo>
                  <a:pt x="31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52" y="20200"/>
                </a:lnTo>
                <a:close/>
              </a:path>
              <a:path fill="lighten" w="31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52" h="21600">
                <a:moveTo>
                  <a:pt x="8570" y="10800"/>
                </a:moveTo>
                <a:lnTo>
                  <a:pt x="22582" y="3794"/>
                </a:lnTo>
                <a:lnTo>
                  <a:pt x="22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900000" y="1700280"/>
            <a:ext cx="741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时，松鼠跳到我的肩上，用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小嘴蹭我的脸，还轻轻咬我的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朵，我想它是又想吃糖了。可我又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上哪儿给它找去呢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00000" y="1700280"/>
            <a:ext cx="741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时，松鼠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跳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到我的肩上，用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小嘴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蹭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我的脸，还轻轻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咬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我的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朵，我想它是又想吃糖了。可我又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上哪儿给它找去呢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7885080" y="6237360"/>
            <a:ext cx="466920" cy="322200"/>
          </a:xfrm>
          <a:custGeom>
            <a:avLst/>
            <a:gdLst>
              <a:gd name="textAreaLeft" fmla="*/ 20880 w 466920"/>
              <a:gd name="textAreaRight" fmla="*/ 446040 w 4669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1291" h="21600">
                <a:moveTo>
                  <a:pt x="0" y="0"/>
                </a:moveTo>
                <a:lnTo>
                  <a:pt x="31291" y="0"/>
                </a:lnTo>
                <a:lnTo>
                  <a:pt x="31291" y="21600"/>
                </a:lnTo>
                <a:lnTo>
                  <a:pt x="0" y="21600"/>
                </a:lnTo>
                <a:close/>
              </a:path>
              <a:path fill="lightenLess" w="31291" h="21600">
                <a:moveTo>
                  <a:pt x="0" y="0"/>
                </a:moveTo>
                <a:lnTo>
                  <a:pt x="31291" y="0"/>
                </a:lnTo>
                <a:lnTo>
                  <a:pt x="29891" y="1400"/>
                </a:lnTo>
                <a:lnTo>
                  <a:pt x="1400" y="1400"/>
                </a:lnTo>
                <a:close/>
              </a:path>
              <a:path fill="darken" w="31291" h="21600">
                <a:moveTo>
                  <a:pt x="31291" y="0"/>
                </a:moveTo>
                <a:lnTo>
                  <a:pt x="31291" y="21600"/>
                </a:lnTo>
                <a:lnTo>
                  <a:pt x="29891" y="20200"/>
                </a:lnTo>
                <a:lnTo>
                  <a:pt x="29891" y="1400"/>
                </a:lnTo>
                <a:close/>
              </a:path>
              <a:path fill="darkenLess" w="31291" h="21600">
                <a:moveTo>
                  <a:pt x="31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91" y="20200"/>
                </a:lnTo>
                <a:close/>
              </a:path>
              <a:path fill="lighten" w="31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91" h="21600">
                <a:moveTo>
                  <a:pt x="8639" y="10800"/>
                </a:moveTo>
                <a:lnTo>
                  <a:pt x="22652" y="3794"/>
                </a:lnTo>
                <a:lnTo>
                  <a:pt x="2265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1116000" y="83664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哈哈大笑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我怎么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咱们家的松鼠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天性，咱们的松鼠自然也不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后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17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49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