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13.wmf" ContentType="image/x-wmf"/>
  <Override PartName="/ppt/media/image8.wmf" ContentType="image/x-wmf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1C9-3786-4F98-BC63-CE3D4363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F4D-267D-4349-8C23-92F2B3E1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2CE-118A-4B39-A102-965B9A12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BCC-27E4-46A2-9E2B-F319B893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6400-3655-4DCB-AFBE-EC54D0A7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F9E1-EAEA-4666-9F35-11D31097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DBDE-08EF-4FE9-80EC-8D63E5B5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5D5F-05C1-4F9C-967B-9D29B42A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65DB-92FB-4B78-81E1-6C314704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9264-AAD3-4266-AA1C-20E4022E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6199-B8F4-4C2A-98CA-6E0CA5F9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B1A-A28A-41E0-9C66-DFE1C3AB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CC62-34F2-4478-B1BC-C0CA0C4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E645-EDA8-4E5E-A68B-D6112FE0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42E8-9716-4B8C-8AE1-5FDF0860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9A40-1D73-4BC3-A01A-7DB387AF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8FF0-E89D-4C83-80E5-19A1FFD2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AA84-66E8-449C-A179-7DC209F6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656D-3E6D-4259-9709-FDBC3098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4ED6-A77E-4BAB-BA41-DEE40BD6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25C5-F8B6-4919-91E2-F1F1F725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49A4-6BD6-4F40-9513-DFA4DC25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41C-5B5B-49FF-BBEA-BA1BB6DB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2C51-E160-416D-BF79-BCDE4128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D3E9-3549-4AE7-8F71-B1511ACB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2E8F-5619-4EB7-84D7-A8CB1401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A75F6-9682-4563-BDE1-DF0E4861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F872-5520-4FD1-81A1-2AB42DF0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F855-F584-4D4B-8F55-0E6DE0B5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FDF8-C20C-49E8-B20D-099B1662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32071-3C97-4F12-A367-E3EA53A2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61A7-F6CC-41FE-835E-B7B7F0B4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CB11-C6B9-4C7A-BEA0-74FC9C6E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283-B760-4719-B64F-79C06437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A822-2BD6-49A3-BE19-077262E9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3F612-C517-4556-9DE7-EEA5D86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6E202-F6CA-477A-B512-80B4A6A7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D7EC-7BD9-47A8-AFA8-FE95944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1557-D39C-493A-9732-CEDF62F5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C25C-0409-40EF-8983-F27DE406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F7C9E-8981-4745-8745-C7674E3D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C09AC-BD00-40D9-95AC-2EE6662B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DBCC-9041-4D18-8D4B-BA32890B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A39F4-A415-4CD7-A425-890499B7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AEA-2150-40C0-AEA2-411AE83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C0EB7-FF1D-411F-8E58-BC0842D4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30618-E13F-4C87-A886-13C31CB9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76987-9FD7-4829-8E33-A121DCD9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9CB23-25BC-46EA-A888-70AD9C4B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92129-032F-4B59-A963-6FF24E08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6E758-4D34-419A-A1E3-47F6889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F20BC-8982-4328-A3C1-F852CC6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E4F82-B20A-4234-A386-2CA9BD4D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84DF-547D-4E58-B34A-22DD2014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3196-8E8C-4FD7-8658-2888BF10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4FC-18BE-4978-AE4E-AD0D3433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CF70-7E2A-4187-80A3-AF044E4C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4A4E-BABF-42D0-94C3-BBE492F3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E23F-0739-43B2-8BB5-3055C3F5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CB35E-E78F-4A1C-8BC9-33B73B57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6D1B5-07EE-4385-8AD3-FCDA33CB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C3DFE-2E6F-4017-8499-9EC102D1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DE34-ADB6-49CD-A9D5-84E8A380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03B4D-53AB-4A71-88ED-4A9B59D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B906-B3DC-4CC1-B839-D9E021E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3012-6042-425C-8FB6-7EE0A8D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294-9B97-4F43-ADC9-379A6C5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9ED4-2BC9-45E3-9567-E24103FB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1B34-5956-43A4-A8F3-4CB00EFE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39DD0-1FED-4D2F-97E0-09320505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63A57-7EAC-4F05-BB7F-81E63B31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02796-8F59-43FB-AE70-5A32BC40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3C725-8522-4B55-BCD4-3075357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B2502-A4CC-461C-9389-3FB675A0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8B9D-B5B5-4CF9-8DB4-482C4D60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95194-F428-42E2-B867-48EF6E48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749EF-5100-44BF-91EE-12F12C74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4D7-B09B-412B-91AD-3F99B0E5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E4F1D-D02B-4C11-8D8B-1E4E743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29D41-B95F-4464-9E2D-DFDBB000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DF503-AD83-43EF-B282-C1AD409F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21E48-074A-49FB-8E64-1047BC1C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BD9B-10DC-4618-9E0B-FFED35D1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CE718-8855-452D-AF91-A24EB020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DB013-0F23-40A4-BC9D-E8544DB6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6E46-8CB0-4178-8E0A-5668636A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DB0B9-BCA2-4C00-9976-8E77993A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CA562-2302-4A50-BFCD-2144C4B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21E-9E06-427F-88AA-F91C6E09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66794-2B0D-4752-9EDA-684A8CF5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2DA5D-770D-451C-8969-9EF04D1A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323A5-2CC4-44CF-9284-8176B4A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0BDF1-DF9D-4D53-BB8E-2C891E4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9917-A2F4-4141-BE17-C1F892C3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F693E-7C0A-491E-A1E2-51F769BE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D6A66-45B4-41D1-85A8-5C7444A8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6BC3-1BF4-4D42-8546-25E1B1280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3F2B-2AC3-4930-8217-EDA1C8B38E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E91A-3104-46EB-97C6-F1B99355BE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4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413B-F28A-492C-8488-E85B08B54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F24C-48CF-414D-BF5E-47D59219E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BB72-00D0-4D8B-8435-8C65DCBF0C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31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31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E49E-FDD2-4718-84CE-4D12E16214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6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6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7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30EB-04D5-4D9E-BBE1-2CEEB97514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20840;&#31561;&#19977;&#35282;&#24418;.gsp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900000" y="1773360"/>
            <a:ext cx="73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全等三角形的判定  （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矩形 5"/>
          <p:cNvSpPr/>
          <p:nvPr/>
        </p:nvSpPr>
        <p:spPr>
          <a:xfrm>
            <a:off x="649440" y="6278400"/>
            <a:ext cx="35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3780000" y="836640"/>
            <a:ext cx="504180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说明：有两边和其中一边的对角对应相等的两个三角形不一定全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2771640" y="692280"/>
            <a:ext cx="5688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5c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e4005c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三角形，它们有如下的关系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1B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2B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3B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1C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3C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△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其余三个三角形中的哪一个全等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60498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2268360" y="2565360"/>
            <a:ext cx="65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们把甲、乙、丙三个三角形移动后覆盖在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，使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2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3B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重合，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重合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落在直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，其中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6050160" cy="12859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"/>
          <p:cNvSpPr/>
          <p:nvPr/>
        </p:nvSpPr>
        <p:spPr>
          <a:xfrm>
            <a:off x="2303640" y="3500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66ff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9966ff"/>
                </a:solidFill>
                <a:latin typeface="Times New Roman"/>
              </a:rPr>
              <a:t>由于</a:t>
            </a:r>
            <a:r>
              <a:rPr b="1" lang="en-US" sz="2000" spc="-1" strike="noStrike">
                <a:solidFill>
                  <a:srgbClr val="9966ff"/>
                </a:solidFill>
                <a:latin typeface="Times New Roman"/>
              </a:rPr>
              <a:t>B1C1</a:t>
            </a:r>
            <a:r>
              <a:rPr b="1" lang="zh-CN" sz="2000" spc="-1" strike="noStrike">
                <a:solidFill>
                  <a:srgbClr val="9966ff"/>
                </a:solidFill>
                <a:latin typeface="Times New Roman"/>
              </a:rPr>
              <a:t>＜</a:t>
            </a:r>
            <a:r>
              <a:rPr b="1" lang="en-US" sz="2000" spc="-1" strike="noStrike">
                <a:solidFill>
                  <a:srgbClr val="9966ff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9966ff"/>
                </a:solidFill>
                <a:latin typeface="Times New Roman"/>
              </a:rPr>
              <a:t>，所以点</a:t>
            </a:r>
            <a:r>
              <a:rPr b="1" lang="en-US" sz="2000" spc="-1" strike="noStrike">
                <a:solidFill>
                  <a:srgbClr val="9966ff"/>
                </a:solidFill>
                <a:latin typeface="Times New Roman"/>
              </a:rPr>
              <a:t>C1</a:t>
            </a:r>
            <a:r>
              <a:rPr b="1" lang="zh-CN" sz="2000" spc="-1" strike="noStrike">
                <a:solidFill>
                  <a:srgbClr val="9966ff"/>
                </a:solidFill>
                <a:latin typeface="Times New Roman"/>
              </a:rPr>
              <a:t>在</a:t>
            </a:r>
            <a:r>
              <a:rPr b="1" lang="en-US" sz="2000" spc="-1" strike="noStrike">
                <a:solidFill>
                  <a:srgbClr val="9966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9966ff"/>
                </a:solidFill>
                <a:latin typeface="Times New Roman"/>
              </a:rPr>
              <a:t>的左侧，可知△</a:t>
            </a:r>
            <a:r>
              <a:rPr b="1" lang="en-US" sz="2000" spc="-1" strike="noStrike">
                <a:solidFill>
                  <a:srgbClr val="9966ff"/>
                </a:solidFill>
                <a:latin typeface="Times New Roman"/>
              </a:rPr>
              <a:t>A1B1C1</a:t>
            </a:r>
            <a:r>
              <a:rPr b="1" lang="zh-CN" sz="2000" spc="-1" strike="noStrike">
                <a:solidFill>
                  <a:srgbClr val="9966ff"/>
                </a:solidFill>
                <a:latin typeface="Times New Roman"/>
              </a:rPr>
              <a:t>和△</a:t>
            </a:r>
            <a:r>
              <a:rPr b="1" lang="en-US" sz="2000" spc="-1" strike="noStrike">
                <a:solidFill>
                  <a:srgbClr val="9966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9966ff"/>
                </a:solidFill>
                <a:latin typeface="Times New Roman"/>
              </a:rPr>
              <a:t>不全等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2340000" y="4292640"/>
            <a:ext cx="54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由于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3C3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＞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，所以点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3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在点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的右侧，可知△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3B3C3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和△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也不全等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2268360" y="4581360"/>
            <a:ext cx="6659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由于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B2C2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，所以点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C2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和点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重合，于是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B2C2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与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重合，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A2C2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CA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也重合，则可知△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A2B2C2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与△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重合，即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5c"/>
                </a:solidFill>
                <a:latin typeface="Times New Roman"/>
              </a:rPr>
              <a:t>△</a:t>
            </a:r>
            <a:r>
              <a:rPr b="1" lang="en-US" sz="2000" spc="-1" strike="noStrike">
                <a:solidFill>
                  <a:srgbClr val="e4005c"/>
                </a:solidFill>
                <a:latin typeface="Times New Roman"/>
              </a:rPr>
              <a:t>A2B2C2≌△ABC</a:t>
            </a:r>
            <a:r>
              <a:rPr b="0" lang="en-US" sz="2000" spc="-1" strike="noStrike">
                <a:solidFill>
                  <a:srgbClr val="e4005c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e4005c"/>
                </a:solidFill>
                <a:latin typeface="Times New Roman"/>
              </a:rPr>
              <a:t>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2"/>
          <p:cNvSpPr txBox="1"/>
          <p:nvPr/>
        </p:nvSpPr>
        <p:spPr>
          <a:xfrm>
            <a:off x="2556000" y="476280"/>
            <a:ext cx="14000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2627280" y="177336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如图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的正北方向。两车从路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一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出发，分别向东、向西进行相同的距离，到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两地。此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距离相等吗？为什么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2033640" cy="18763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3708360" y="321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270036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363528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4643280" y="5084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4572000" y="314172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e4005c"/>
                </a:solidFill>
                <a:latin typeface="Arial"/>
              </a:rPr>
              <a:t>证明</a:t>
            </a: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0"/>
          <p:cNvSpPr/>
          <p:nvPr/>
        </p:nvSpPr>
        <p:spPr>
          <a:xfrm>
            <a:off x="5364000" y="3860640"/>
            <a:ext cx="216000" cy="10591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7360 h 1059120"/>
              <a:gd name="textAreaBottom" fmla="*/ 1031760 h 105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5724360" y="3789360"/>
            <a:ext cx="20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=B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D=∠B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5542920" y="530064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则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≌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5364000" y="580536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5c"/>
                </a:solidFill>
                <a:latin typeface="Arial"/>
              </a:rPr>
              <a:t>即</a:t>
            </a: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BD=B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627280" y="76500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如图，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=C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D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∠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求证：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∠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627280" y="2882880"/>
            <a:ext cx="3313080" cy="162396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4"/>
          <p:cNvSpPr/>
          <p:nvPr/>
        </p:nvSpPr>
        <p:spPr>
          <a:xfrm>
            <a:off x="3348000" y="2708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4859280" y="2708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2556000" y="4292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3276720" y="4292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5003640" y="4365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5508720" y="4365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292720" y="1916280"/>
            <a:ext cx="3240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e4005c"/>
                </a:solidFill>
                <a:latin typeface="Arial"/>
              </a:rPr>
              <a:t>证明</a:t>
            </a: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F=BE+E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=CF+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=C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F=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5940360" y="3860640"/>
            <a:ext cx="320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5796000" y="4437000"/>
            <a:ext cx="216000" cy="10587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7360 h 1058760"/>
              <a:gd name="textAreaBottom" fmla="*/ 1031400 h 105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6084720" y="4365720"/>
            <a:ext cx="20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F=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∠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D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2879280" y="578016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则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≌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6227640" y="6004080"/>
            <a:ext cx="244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5c"/>
                </a:solidFill>
                <a:latin typeface="Arial"/>
              </a:rPr>
              <a:t>即∠</a:t>
            </a: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A=∠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2627280" y="549360"/>
            <a:ext cx="18669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例题拓广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771640" y="1773360"/>
            <a:ext cx="48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∥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   求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56000" y="3357720"/>
            <a:ext cx="295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提示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连结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由  △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≌△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故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Object 5" descr=""/>
          <p:cNvPicPr/>
          <p:nvPr/>
        </p:nvPicPr>
        <p:blipFill>
          <a:blip r:embed="rId1"/>
          <a:stretch/>
        </p:blipFill>
        <p:spPr>
          <a:xfrm>
            <a:off x="5651640" y="3068640"/>
            <a:ext cx="281916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395280" y="4762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小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755640" y="328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尺规作图：已知两边及其夹角的三角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55640" y="1628640"/>
            <a:ext cx="79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全等的条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边和它们的夹角对应相等的两个三角形全等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边角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2268360" y="2060640"/>
            <a:ext cx="5543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同步练习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268360" y="83664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布置作业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F02-E3A3-40B4-BE9C-110BC3936D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26"/>
          <p:cNvSpPr/>
          <p:nvPr/>
        </p:nvSpPr>
        <p:spPr>
          <a:xfrm>
            <a:off x="2340000" y="90792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4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027"/>
          <p:cNvSpPr/>
          <p:nvPr/>
        </p:nvSpPr>
        <p:spPr>
          <a:xfrm>
            <a:off x="1476360" y="2924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法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28"/>
          <p:cNvSpPr/>
          <p:nvPr/>
        </p:nvSpPr>
        <p:spPr>
          <a:xfrm>
            <a:off x="2411280" y="357336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射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截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 3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29"/>
          <p:cNvSpPr/>
          <p:nvPr/>
        </p:nvSpPr>
        <p:spPr>
          <a:xfrm>
            <a:off x="2411280" y="414972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射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截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=4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032"/>
          <p:cNvSpPr/>
          <p:nvPr/>
        </p:nvSpPr>
        <p:spPr>
          <a:xfrm>
            <a:off x="1676520" y="155736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样画出来的三角形与同桌所画的三角形进行比较，它们互相重合吗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33"/>
          <p:cNvSpPr/>
          <p:nvPr/>
        </p:nvSpPr>
        <p:spPr>
          <a:xfrm>
            <a:off x="2268360" y="24922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再加一个条件，使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45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画出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34"/>
          <p:cNvSpPr/>
          <p:nvPr/>
        </p:nvSpPr>
        <p:spPr>
          <a:xfrm>
            <a:off x="2411280" y="29973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画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= 45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35"/>
          <p:cNvSpPr/>
          <p:nvPr/>
        </p:nvSpPr>
        <p:spPr>
          <a:xfrm>
            <a:off x="2411280" y="4653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36"/>
          <p:cNvSpPr/>
          <p:nvPr/>
        </p:nvSpPr>
        <p:spPr>
          <a:xfrm>
            <a:off x="2362320" y="5157720"/>
            <a:ext cx="51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是所求的三角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37"/>
          <p:cNvSpPr/>
          <p:nvPr/>
        </p:nvSpPr>
        <p:spPr>
          <a:xfrm>
            <a:off x="1692360" y="5661000"/>
            <a:ext cx="72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你们所画的三角形剪下来与同桌所画的三角形进行比较，它们能互相重合吗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WordArt 1038"/>
          <p:cNvSpPr txBox="1"/>
          <p:nvPr/>
        </p:nvSpPr>
        <p:spPr>
          <a:xfrm>
            <a:off x="1763640" y="189000"/>
            <a:ext cx="1400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画一画</a:t>
            </a:r>
            <a:endParaRPr b="1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33526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468360" y="620640"/>
            <a:ext cx="78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任意画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=DE ,  AC=DF 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A=∠D 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画好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较，它们全等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38"/>
          <p:cNvGrpSpPr/>
          <p:nvPr/>
        </p:nvGrpSpPr>
        <p:grpSpPr>
          <a:xfrm>
            <a:off x="1187280" y="2276640"/>
            <a:ext cx="2952720" cy="2177640"/>
            <a:chOff x="1187280" y="2276640"/>
            <a:chExt cx="2952720" cy="2177640"/>
          </a:xfrm>
        </p:grpSpPr>
        <p:pic>
          <p:nvPicPr>
            <p:cNvPr id="434" name="Picture 28" descr=""/>
            <p:cNvPicPr/>
            <p:nvPr/>
          </p:nvPicPr>
          <p:blipFill>
            <a:blip r:embed="rId2"/>
            <a:stretch/>
          </p:blipFill>
          <p:spPr>
            <a:xfrm>
              <a:off x="1547640" y="2852640"/>
              <a:ext cx="19857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2052360" y="22766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1187280" y="3429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 Box 32"/>
            <p:cNvSpPr/>
            <p:nvPr/>
          </p:nvSpPr>
          <p:spPr>
            <a:xfrm>
              <a:off x="3348000" y="3933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Text Box 33"/>
          <p:cNvSpPr/>
          <p:nvPr/>
        </p:nvSpPr>
        <p:spPr>
          <a:xfrm>
            <a:off x="536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34"/>
          <p:cNvSpPr/>
          <p:nvPr/>
        </p:nvSpPr>
        <p:spPr>
          <a:xfrm>
            <a:off x="4500720" y="364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5"/>
          <p:cNvSpPr/>
          <p:nvPr/>
        </p:nvSpPr>
        <p:spPr>
          <a:xfrm>
            <a:off x="6732720" y="4005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6"/>
          <p:cNvSpPr/>
          <p:nvPr/>
        </p:nvSpPr>
        <p:spPr>
          <a:xfrm>
            <a:off x="2916360" y="4869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C≌△DE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37" descr=""/>
          <p:cNvPicPr/>
          <p:nvPr/>
        </p:nvPicPr>
        <p:blipFill>
          <a:blip r:embed="rId3"/>
          <a:stretch/>
        </p:blipFill>
        <p:spPr>
          <a:xfrm>
            <a:off x="4859280" y="2852640"/>
            <a:ext cx="1986120" cy="150516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1"/>
          <p:cNvSpPr/>
          <p:nvPr/>
        </p:nvSpPr>
        <p:spPr>
          <a:xfrm>
            <a:off x="25560" y="5937120"/>
            <a:ext cx="101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0093 L 0.36424 -0.00093 E">
                                      <p:cBhvr>
                                        <p:cTn id="6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755640" y="476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前边的作图比较过程，我们可以得出什么结论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826920" y="2637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符号语言表达为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403280" y="393372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780000" y="3429000"/>
            <a:ext cx="3047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=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∠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=D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826920" y="5589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≌△D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6629400" y="1981080"/>
            <a:ext cx="1828800" cy="1679040"/>
            <a:chOff x="6629400" y="1981080"/>
            <a:chExt cx="1828800" cy="1679040"/>
          </a:xfrm>
        </p:grpSpPr>
        <p:sp>
          <p:nvSpPr>
            <p:cNvPr id="450" name="Line 8"/>
            <p:cNvSpPr/>
            <p:nvPr/>
          </p:nvSpPr>
          <p:spPr>
            <a:xfrm flipH="1">
              <a:off x="7009920" y="2362320"/>
              <a:ext cx="11430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7010280" y="33526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0"/>
            <p:cNvSpPr/>
            <p:nvPr/>
          </p:nvSpPr>
          <p:spPr>
            <a:xfrm flipV="1">
              <a:off x="7848720" y="2361960"/>
              <a:ext cx="30456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 Box 11"/>
            <p:cNvSpPr/>
            <p:nvPr/>
          </p:nvSpPr>
          <p:spPr>
            <a:xfrm>
              <a:off x="784872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66294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13"/>
            <p:cNvSpPr/>
            <p:nvPr/>
          </p:nvSpPr>
          <p:spPr>
            <a:xfrm>
              <a:off x="77724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14"/>
          <p:cNvGrpSpPr/>
          <p:nvPr/>
        </p:nvGrpSpPr>
        <p:grpSpPr>
          <a:xfrm>
            <a:off x="6553080" y="3962520"/>
            <a:ext cx="1905120" cy="1602720"/>
            <a:chOff x="6553080" y="3962520"/>
            <a:chExt cx="1905120" cy="1602720"/>
          </a:xfrm>
        </p:grpSpPr>
        <p:sp>
          <p:nvSpPr>
            <p:cNvPr id="457" name="Line 15"/>
            <p:cNvSpPr/>
            <p:nvPr/>
          </p:nvSpPr>
          <p:spPr>
            <a:xfrm flipH="1">
              <a:off x="6933960" y="4267080"/>
              <a:ext cx="1143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6"/>
            <p:cNvSpPr/>
            <p:nvPr/>
          </p:nvSpPr>
          <p:spPr>
            <a:xfrm>
              <a:off x="6934320" y="5257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 flipV="1">
              <a:off x="7772400" y="4267080"/>
              <a:ext cx="3049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18"/>
            <p:cNvSpPr/>
            <p:nvPr/>
          </p:nvSpPr>
          <p:spPr>
            <a:xfrm>
              <a:off x="76960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Text Box 19"/>
            <p:cNvSpPr/>
            <p:nvPr/>
          </p:nvSpPr>
          <p:spPr>
            <a:xfrm>
              <a:off x="6553080" y="5105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20"/>
            <p:cNvSpPr/>
            <p:nvPr/>
          </p:nvSpPr>
          <p:spPr>
            <a:xfrm>
              <a:off x="7848720" y="5105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3" name="Object 21" descr="底色1"/>
          <p:cNvPicPr/>
          <p:nvPr/>
        </p:nvPicPr>
        <p:blipFill>
          <a:blip r:embed="rId2"/>
          <a:stretch/>
        </p:blipFill>
        <p:spPr>
          <a:xfrm>
            <a:off x="3780000" y="3357720"/>
            <a:ext cx="1576080" cy="21333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2"/>
          <p:cNvSpPr/>
          <p:nvPr/>
        </p:nvSpPr>
        <p:spPr>
          <a:xfrm>
            <a:off x="755640" y="1268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两边和它们的夹角对应相等的两个三角形全等。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简写成“边角边”或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2481120" y="3380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有一池塘，要测池塘两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距离，可先在平地上取一个可以直接到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延长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=CA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延长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E=CB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么量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就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距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6" descr=""/>
          <p:cNvPicPr/>
          <p:nvPr/>
        </p:nvPicPr>
        <p:blipFill>
          <a:blip r:embed="rId1"/>
          <a:stretch/>
        </p:blipFill>
        <p:spPr>
          <a:xfrm>
            <a:off x="5759280" y="2781360"/>
            <a:ext cx="3384720" cy="22320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7"/>
          <p:cNvSpPr/>
          <p:nvPr/>
        </p:nvSpPr>
        <p:spPr>
          <a:xfrm>
            <a:off x="2484360" y="299736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分析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能证明△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BC≌△DEC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就可以得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B=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2484360" y="4437000"/>
            <a:ext cx="43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△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中，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=CD , CB=CE 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能得出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B=∠DCE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 △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△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就全等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2739960" cy="172404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5"/>
          <p:cNvSpPr/>
          <p:nvPr/>
        </p:nvSpPr>
        <p:spPr>
          <a:xfrm>
            <a:off x="5867280" y="476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317080" y="476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658800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7956720" y="2060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5508720" y="198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2411280" y="549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6c03"/>
                </a:solidFill>
                <a:latin typeface="Times New Roman"/>
              </a:rPr>
              <a:t>证明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3995640" y="3068640"/>
            <a:ext cx="46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2627280" y="1413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3132000" y="2349360"/>
            <a:ext cx="3048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=C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B=∠D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=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Object 14" descr="底色1"/>
          <p:cNvPicPr/>
          <p:nvPr/>
        </p:nvPicPr>
        <p:blipFill>
          <a:blip r:embed="rId2"/>
          <a:stretch/>
        </p:blipFill>
        <p:spPr>
          <a:xfrm>
            <a:off x="2987640" y="2276640"/>
            <a:ext cx="1576440" cy="1989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5"/>
          <p:cNvSpPr/>
          <p:nvPr/>
        </p:nvSpPr>
        <p:spPr>
          <a:xfrm>
            <a:off x="3249720" y="4653000"/>
            <a:ext cx="41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≌△DE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3190320" y="544500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=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2124000" y="1628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如图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=C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D= ∠ CB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=C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D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平分∠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C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5"/>
          <p:cNvGrpSpPr/>
          <p:nvPr/>
        </p:nvGrpSpPr>
        <p:grpSpPr>
          <a:xfrm>
            <a:off x="2411280" y="3213000"/>
            <a:ext cx="2952360" cy="2194920"/>
            <a:chOff x="2411280" y="3213000"/>
            <a:chExt cx="2952360" cy="2194920"/>
          </a:xfrm>
        </p:grpSpPr>
        <p:sp>
          <p:nvSpPr>
            <p:cNvPr id="484" name="Line 6"/>
            <p:cNvSpPr/>
            <p:nvPr/>
          </p:nvSpPr>
          <p:spPr>
            <a:xfrm>
              <a:off x="2824560" y="4230360"/>
              <a:ext cx="200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7"/>
            <p:cNvSpPr/>
            <p:nvPr/>
          </p:nvSpPr>
          <p:spPr>
            <a:xfrm flipH="1" flipV="1">
              <a:off x="4320360" y="3332160"/>
              <a:ext cx="511560" cy="89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8"/>
            <p:cNvSpPr/>
            <p:nvPr/>
          </p:nvSpPr>
          <p:spPr>
            <a:xfrm flipH="1">
              <a:off x="4300920" y="4230360"/>
              <a:ext cx="531360" cy="89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9"/>
            <p:cNvSpPr/>
            <p:nvPr/>
          </p:nvSpPr>
          <p:spPr>
            <a:xfrm flipH="1">
              <a:off x="2824560" y="3332520"/>
              <a:ext cx="1476000" cy="89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0"/>
            <p:cNvSpPr/>
            <p:nvPr/>
          </p:nvSpPr>
          <p:spPr>
            <a:xfrm flipH="1" flipV="1">
              <a:off x="2824560" y="4230000"/>
              <a:ext cx="1476000" cy="89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11"/>
            <p:cNvSpPr/>
            <p:nvPr/>
          </p:nvSpPr>
          <p:spPr>
            <a:xfrm>
              <a:off x="4478040" y="3213000"/>
              <a:ext cx="5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12"/>
            <p:cNvSpPr/>
            <p:nvPr/>
          </p:nvSpPr>
          <p:spPr>
            <a:xfrm>
              <a:off x="2411280" y="3990960"/>
              <a:ext cx="5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13"/>
            <p:cNvSpPr/>
            <p:nvPr/>
          </p:nvSpPr>
          <p:spPr>
            <a:xfrm>
              <a:off x="4361040" y="4887360"/>
              <a:ext cx="5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14"/>
            <p:cNvSpPr/>
            <p:nvPr/>
          </p:nvSpPr>
          <p:spPr>
            <a:xfrm>
              <a:off x="4773600" y="4289040"/>
              <a:ext cx="59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Arc 15"/>
            <p:cNvSpPr/>
            <p:nvPr/>
          </p:nvSpPr>
          <p:spPr>
            <a:xfrm>
              <a:off x="3178800" y="3990960"/>
              <a:ext cx="117720" cy="226800"/>
            </a:xfrm>
            <a:custGeom>
              <a:avLst/>
              <a:gdLst/>
              <a:ahLst/>
              <a:rect l="l" t="t" r="r" b="b"/>
              <a:pathLst>
                <a:path fill="none" w="21600" h="2725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1"/>
                    <a:pt x="21346" y="25413"/>
                    <a:pt x="20845" y="27257"/>
                  </a:cubicBezTo>
                </a:path>
                <a:path stroke="0" w="21600" h="2725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1"/>
                    <a:pt x="21346" y="25413"/>
                    <a:pt x="20845" y="2725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Arc 16"/>
            <p:cNvSpPr/>
            <p:nvPr/>
          </p:nvSpPr>
          <p:spPr>
            <a:xfrm>
              <a:off x="3414960" y="4230360"/>
              <a:ext cx="124200" cy="358920"/>
            </a:xfrm>
            <a:custGeom>
              <a:avLst/>
              <a:gdLst/>
              <a:ahLst/>
              <a:rect l="l" t="t" r="r" b="b"/>
              <a:pathLst>
                <a:path fill="none" w="22830" h="43200">
                  <a:moveTo>
                    <a:pt x="1229" y="0"/>
                  </a:moveTo>
                  <a:cubicBezTo>
                    <a:pt x="13159" y="0"/>
                    <a:pt x="22830" y="9670"/>
                    <a:pt x="22830" y="21600"/>
                  </a:cubicBezTo>
                  <a:cubicBezTo>
                    <a:pt x="22830" y="-32007"/>
                    <a:pt x="13159" y="-22336"/>
                    <a:pt x="1230" y="-22336"/>
                  </a:cubicBezTo>
                  <a:cubicBezTo>
                    <a:pt x="819" y="-22336"/>
                    <a:pt x="409" y="-22348"/>
                    <a:pt x="0" y="-22372"/>
                  </a:cubicBezTo>
                </a:path>
                <a:path stroke="0" w="22830" h="43200">
                  <a:moveTo>
                    <a:pt x="1229" y="0"/>
                  </a:moveTo>
                  <a:cubicBezTo>
                    <a:pt x="13159" y="0"/>
                    <a:pt x="22830" y="9670"/>
                    <a:pt x="22830" y="21600"/>
                  </a:cubicBezTo>
                  <a:cubicBezTo>
                    <a:pt x="22830" y="-32007"/>
                    <a:pt x="13159" y="-22336"/>
                    <a:pt x="1230" y="-22336"/>
                  </a:cubicBezTo>
                  <a:cubicBezTo>
                    <a:pt x="819" y="-22336"/>
                    <a:pt x="409" y="-22348"/>
                    <a:pt x="0" y="-22372"/>
                  </a:cubicBezTo>
                  <a:lnTo>
                    <a:pt x="1230" y="21600"/>
                  </a:lnTo>
                  <a:lnTo>
                    <a:pt x="1229" y="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WordArt 17"/>
          <p:cNvSpPr txBox="1"/>
          <p:nvPr/>
        </p:nvSpPr>
        <p:spPr>
          <a:xfrm>
            <a:off x="2556000" y="260280"/>
            <a:ext cx="1866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例题推广</a:t>
            </a:r>
            <a:endParaRPr b="1" lang="en-US" sz="2800" spc="1" strike="noStrike">
              <a:ln w="936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6" name="Text Box 18"/>
          <p:cNvSpPr/>
          <p:nvPr/>
        </p:nvSpPr>
        <p:spPr>
          <a:xfrm>
            <a:off x="4896000" y="2852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Object 19" descr="底色1"/>
          <p:cNvPicPr/>
          <p:nvPr/>
        </p:nvPicPr>
        <p:blipFill>
          <a:blip r:embed="rId1"/>
          <a:stretch/>
        </p:blipFill>
        <p:spPr>
          <a:xfrm>
            <a:off x="5651640" y="3429000"/>
            <a:ext cx="1576080" cy="129708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20"/>
          <p:cNvSpPr/>
          <p:nvPr/>
        </p:nvSpPr>
        <p:spPr>
          <a:xfrm>
            <a:off x="6012000" y="3429000"/>
            <a:ext cx="45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=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D=∠CB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=B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5440680" y="4724280"/>
            <a:ext cx="35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D≌△C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2"/>
          <p:cNvSpPr/>
          <p:nvPr/>
        </p:nvSpPr>
        <p:spPr>
          <a:xfrm>
            <a:off x="5317920" y="5280120"/>
            <a:ext cx="21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=C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B=∠CD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5c"/>
                </a:solidFill>
                <a:latin typeface="Times New Roman"/>
              </a:rPr>
              <a:t>即</a:t>
            </a:r>
            <a:r>
              <a:rPr b="1" lang="en-US" sz="2400" spc="-1" strike="noStrike">
                <a:solidFill>
                  <a:srgbClr val="e4005c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e4005c"/>
                </a:solidFill>
                <a:latin typeface="Times New Roman"/>
              </a:rPr>
              <a:t>平分∠</a:t>
            </a:r>
            <a:r>
              <a:rPr b="1" lang="en-US" sz="2400" spc="-1" strike="noStrike">
                <a:solidFill>
                  <a:srgbClr val="e4005c"/>
                </a:solidFill>
                <a:latin typeface="Times New Roman"/>
              </a:rPr>
              <a:t>AD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971640" y="907920"/>
            <a:ext cx="69120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全等三角形的对应角相等，对应边相等，所以，证明分别属于两个三角形的线段相等或角相等的问题，常常通过证明两个三角形全等来解决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42920" y="1052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由前边两个题目可以看出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探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116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两边和它们的夹角对应相等的两个三角形全等。由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两边及其中一边的对角对应相等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的条件能判定两个三角形全等吗？为什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4">
            <a:hlinkClick r:id="rId1"/>
          </p:cNvPr>
          <p:cNvSpPr/>
          <p:nvPr/>
        </p:nvSpPr>
        <p:spPr>
          <a:xfrm>
            <a:off x="2843280" y="4941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画演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4:51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1:02Z</dcterms:modified>
  <cp:revision>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