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3.png" ContentType="image/png"/>
  <Override PartName="/ppt/media/image5.jpeg" ContentType="image/jpeg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7DF7-4378-4511-9297-DC218C71FF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4263-C421-4A38-8989-8F3C86B991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DBF-0AB8-4EE6-A5F8-830E3E32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365-7038-40B2-AA8F-D9DF6FCF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B0B-C729-464D-9BC1-4501A16A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23A-DB75-46E6-BCAF-5DBB1ADC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29E-C356-4816-8919-133963FD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D09-EC69-424F-BDAF-3A21931C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E99-48BC-444C-A949-18439D97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4F6-D55E-41DB-B0F1-0BA06F86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99D-52CC-475D-B80C-66AF1CD0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76C-D077-4357-B35A-9AACD442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67A-3AF1-448E-A6E8-19D53A44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761-D126-4255-AD8A-27BB11EC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B32D-4970-4A3E-A10C-9C7B40B39E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971640" y="2205000"/>
            <a:ext cx="720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中宋"/>
              </a:rPr>
              <a:t>桥的形状和结构</a:t>
            </a:r>
            <a:endParaRPr b="1" lang="en-US" sz="6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971640" y="768240"/>
            <a:ext cx="7056360" cy="5814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教科版小学科学六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220932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009910152154785"/>
          <p:cNvPicPr/>
          <p:nvPr/>
        </p:nvPicPr>
        <p:blipFill>
          <a:blip r:embed="rId1"/>
          <a:stretch/>
        </p:blipFill>
        <p:spPr>
          <a:xfrm>
            <a:off x="-30240" y="1440"/>
            <a:ext cx="9236160" cy="6885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24000" y="260280"/>
            <a:ext cx="62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阴长江公路大桥为钢悬索桥，跨度达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38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米，为同类桥梁中国第一、世界第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4920" y="0"/>
            <a:ext cx="909324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299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7926" t="8658" r="9391" b="86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1"/>
          <p:cNvSpPr/>
          <p:nvPr/>
        </p:nvSpPr>
        <p:spPr>
          <a:xfrm>
            <a:off x="644400" y="5403960"/>
            <a:ext cx="63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26920" y="1628640"/>
            <a:ext cx="799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桥的结构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框架结构 拱形结构  钢索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CC72-A3F9-4658-A6B0-B00DCF9409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7176" t="7683" r="8660" b="7683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836720" y="2854440"/>
            <a:ext cx="2087640" cy="574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2050920" y="2997360"/>
            <a:ext cx="1584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拱形结构</a:t>
            </a:r>
            <a:endParaRPr b="0" lang="en-US" sz="18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911920" y="2925720"/>
            <a:ext cx="1901880" cy="49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5867280" y="6021360"/>
            <a:ext cx="1994040" cy="484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835280" y="6021360"/>
            <a:ext cx="1815840" cy="49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8"/>
          <p:cNvSpPr txBox="1"/>
          <p:nvPr/>
        </p:nvSpPr>
        <p:spPr>
          <a:xfrm>
            <a:off x="6013440" y="3041640"/>
            <a:ext cx="1584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条形结构</a:t>
            </a:r>
            <a:endParaRPr b="0" lang="en-US" sz="18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WordArt 9"/>
          <p:cNvSpPr txBox="1"/>
          <p:nvPr/>
        </p:nvSpPr>
        <p:spPr>
          <a:xfrm>
            <a:off x="2038320" y="6157800"/>
            <a:ext cx="158436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框架结构</a:t>
            </a:r>
            <a:endParaRPr b="0" lang="en-US" sz="18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WordArt 10"/>
          <p:cNvSpPr txBox="1"/>
          <p:nvPr/>
        </p:nvSpPr>
        <p:spPr>
          <a:xfrm>
            <a:off x="6308640" y="6173640"/>
            <a:ext cx="1584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钢索结构</a:t>
            </a:r>
            <a:endParaRPr b="0" lang="en-US" sz="18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3"/>
          <p:cNvSpPr txBox="1"/>
          <p:nvPr/>
        </p:nvSpPr>
        <p:spPr>
          <a:xfrm>
            <a:off x="1619280" y="5661000"/>
            <a:ext cx="6697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西藏拉萨铁路大桥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3"/>
          <p:cNvSpPr txBox="1"/>
          <p:nvPr/>
        </p:nvSpPr>
        <p:spPr>
          <a:xfrm>
            <a:off x="1619280" y="5661000"/>
            <a:ext cx="6697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法国加尔德桥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4920" y="0"/>
            <a:ext cx="9201240" cy="6858000"/>
          </a:xfrm>
          <a:prstGeom prst="rect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41400" y="0"/>
            <a:ext cx="90612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3"/>
          <p:cNvSpPr txBox="1"/>
          <p:nvPr/>
        </p:nvSpPr>
        <p:spPr>
          <a:xfrm>
            <a:off x="1619280" y="5661000"/>
            <a:ext cx="6697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扬州二十四桥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420497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3"/>
          <p:cNvSpPr txBox="1"/>
          <p:nvPr/>
        </p:nvSpPr>
        <p:spPr>
          <a:xfrm>
            <a:off x="1619280" y="5661000"/>
            <a:ext cx="6697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赵州桥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8000" y="117360"/>
            <a:ext cx="51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坐落在河北省赵县洨河上。建于隋代（公元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581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618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年）大业年间（公元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605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618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年），由著名匠师李春设计和建造，距今已有约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1400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年的历史，是当今世界上现存最早、保存最完善的古代敞肩石拱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266360" y="5299920"/>
            <a:ext cx="8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想一想这些桥梁的形状和结构上各有什么特点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82560" y="2852640"/>
            <a:ext cx="8064720" cy="2376720"/>
          </a:xfrm>
          <a:prstGeom prst="rect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108000" y="404640"/>
            <a:ext cx="3024000" cy="2160720"/>
          </a:xfrm>
          <a:prstGeom prst="rect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3151080" y="404640"/>
            <a:ext cx="2952720" cy="2163960"/>
          </a:xfrm>
          <a:prstGeom prst="rect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</p:pic>
      <p:pic>
        <p:nvPicPr>
          <p:cNvPr id="77" name="Picture 6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119640" y="404640"/>
            <a:ext cx="2953080" cy="2171880"/>
          </a:xfrm>
          <a:prstGeom prst="rect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</p:pic>
      <p:sp>
        <p:nvSpPr>
          <p:cNvPr id="78" name="Rectangle 7"/>
          <p:cNvSpPr/>
          <p:nvPr/>
        </p:nvSpPr>
        <p:spPr>
          <a:xfrm>
            <a:off x="1645920" y="58428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这些桥设计建造成这样，你认为有什么优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66560" y="836640"/>
            <a:ext cx="8498160" cy="33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桥面在拱上方拱桥的优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桥下空间高，便于船的通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桥面在拱下方拱桥的优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桥面低，与道路连接容易，桥面拉住拱足，能抵消拱面外推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0:16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9:41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