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chimes.wav" ContentType="audio/x-wav"/>
  <Override PartName="/ppt/media/image16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3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84D-373B-42D2-ACC4-1640B7B3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A23-D53C-4299-B272-A47CC008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110-0CDF-440E-85EB-6D2D127F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CA4-ED09-4C37-9467-E2CE49E3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0197-967D-4241-A405-71E0C93F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A31B-CB32-4E6A-9163-1D585E4E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5B8B-6DF0-44B0-9D8A-39D222F6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67BA-BDDB-4E7C-834E-602D3CE3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62EE-4645-4C50-9349-F7DC2F03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8755-957C-4FB8-9698-323DE540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AC3D-3F9D-4497-A652-02655D4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0F1-0A4B-45A2-96FC-20121915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BCBA-EEA3-444A-95EC-EDCD896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88FC-EDA9-43F3-B1BE-1980731D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CB77-9D05-4A62-B953-C4F401C1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F931-3550-4196-A463-A308C362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173B-E832-44F7-8663-90AC6A23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B4B4-9013-4F4A-8700-547A2189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D617-E693-44C6-8A4F-0A5DA220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C1B0-EF5A-45BA-B82C-1B3D88B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7685-BBF6-4080-9BFB-A1BE80B8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218C-6E04-45A3-ADCA-3AE97560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EC4-A287-45EA-B6B8-F4ADAE94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9B00-77B9-4580-B0A4-CFD6E48C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83ABF-84DE-4A13-AFA0-D2F71A7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E245-47B5-4468-8097-6EE1A3D5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80D0-F491-4051-9E30-1CAFBA76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33A1-CBDC-427D-822C-FD62A524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1849-E1C6-41FB-A3C1-30CE88C4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1AEA-1325-4A78-8DCC-3CDB544A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A71-7700-45F1-9088-043569B9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C51-578A-433F-BD72-779CAD65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489-061C-4490-9738-AB7AD4F6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9E8-FCF5-45BA-9A13-472FE161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FB1-05A2-4B2C-9A42-A8F5BF81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997-0A0B-4A44-B746-8189FAE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84BC-D35B-4B0E-9307-3A75526AC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4F50-C543-4D66-B546-5047C66D0A0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8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547-F5DC-4E4C-828E-8A5832C5D3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hyperlink" Target="file:///../../Local%20Settings/Temporary%20Internet%20Files/Content.IE5/Y8PTVZRN/&#31351;&#20154;.ppt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穷人1"/>
          <p:cNvPicPr/>
          <p:nvPr/>
        </p:nvPicPr>
        <p:blipFill>
          <a:blip r:embed="rId16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穷人2"/>
          <p:cNvPicPr/>
          <p:nvPr/>
        </p:nvPicPr>
        <p:blipFill>
          <a:blip r:embed="rId17"/>
          <a:stretch/>
        </p:blipFill>
        <p:spPr>
          <a:xfrm>
            <a:off x="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768760" y="61722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2700360" y="3068640"/>
            <a:ext cx="331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c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隶书"/>
              </a:rPr>
              <a:t>穷人</a:t>
            </a:r>
            <a:endParaRPr b="1" lang="en-US" sz="7200" spc="1" strike="noStrike">
              <a:ln w="17640">
                <a:solidFill>
                  <a:srgbClr val="ffffff"/>
                </a:solidFill>
                <a:miter/>
              </a:ln>
              <a:solidFill>
                <a:srgbClr val="c00000"/>
              </a:solidFill>
              <a:effectLst>
                <a:outerShdw dist="0" dir="0" blurRad="0" rotWithShape="0">
                  <a:srgbClr val="00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4" name="WordArt 6" descr=""/>
          <p:cNvPicPr/>
          <p:nvPr/>
        </p:nvPicPr>
        <p:blipFill>
          <a:blip r:embed="rId18"/>
          <a:stretch/>
        </p:blipFill>
        <p:spPr>
          <a:xfrm>
            <a:off x="2071800" y="352440"/>
            <a:ext cx="4713120" cy="147168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9" descr=""/>
          <p:cNvPicPr/>
          <p:nvPr/>
        </p:nvPicPr>
        <p:blipFill>
          <a:blip r:embed="rId19"/>
          <a:stretch/>
        </p:blipFill>
        <p:spPr>
          <a:xfrm>
            <a:off x="2333520" y="6294600"/>
            <a:ext cx="4597560" cy="42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677520" cy="683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1"/>
          <p:cNvSpPr/>
          <p:nvPr/>
        </p:nvSpPr>
        <p:spPr>
          <a:xfrm>
            <a:off x="3301920" y="310824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fejhqf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1"/>
          <p:cNvPicPr/>
          <p:nvPr/>
        </p:nvPicPr>
        <p:blipFill>
          <a:blip r:embed="rId1"/>
          <a:stretch/>
        </p:blipFill>
        <p:spPr>
          <a:xfrm>
            <a:off x="5257800" y="205740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2"/>
          <p:cNvPicPr/>
          <p:nvPr/>
        </p:nvPicPr>
        <p:blipFill>
          <a:blip r:embed="rId2"/>
          <a:stretch/>
        </p:blipFill>
        <p:spPr>
          <a:xfrm>
            <a:off x="0" y="2057400"/>
            <a:ext cx="525780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3"/>
          <p:cNvPicPr/>
          <p:nvPr/>
        </p:nvPicPr>
        <p:blipFill>
          <a:blip r:embed="rId3"/>
          <a:stretch/>
        </p:blipFill>
        <p:spPr>
          <a:xfrm>
            <a:off x="0" y="4419720"/>
            <a:ext cx="5257800" cy="2438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4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5"/>
          <p:cNvPicPr/>
          <p:nvPr/>
        </p:nvPicPr>
        <p:blipFill>
          <a:blip r:embed="rId5"/>
          <a:stretch/>
        </p:blipFill>
        <p:spPr>
          <a:xfrm>
            <a:off x="0" y="0"/>
            <a:ext cx="5257800" cy="2057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fejhq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4419720"/>
            <a:ext cx="388620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ACAE-DF90-48E1-8BF1-616E34C852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990720" y="20574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列夫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托尔斯泰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828—191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）：俄国作家。出身贵族。幼年父母双亡，由姑母抚养成人，曾就读于喀山大学东方语文系。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85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年去高加索从军，曾参加克里米亚的塞瓦斯托波尔战役，并在这里开始文学创作生涯。他擅长细腻的心理描写，善于表现人物心理，形象生动逼真，对欧洲和世界文学产生过巨大影响。他的代表作有：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安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卡列尼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复活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等。小说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穷人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选入小学语文课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834560" y="838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95280" y="505764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第三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（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2—27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节）：讲渔夫出海归来，听说西蒙死了，主动提出把西蒙的孩子抱过来抚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170720" y="6094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分段段意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295280" y="1905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第一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（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节）：讲桑娜在海上起风暴的夜晚，焦急等待着出海捕鱼的丈夫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295280" y="3276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第二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（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—1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节）：讲桑娜看望生病的邻居西蒙，发现西蒙病死，便把她的两个孩子抱回自己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195640" y="206064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作者给我们讲了一个什么故事？把最使你感动的地方画下来，写上几句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我会猜"/>
          <p:cNvPicPr/>
          <p:nvPr/>
        </p:nvPicPr>
        <p:blipFill>
          <a:blip r:embed="rId1"/>
          <a:stretch/>
        </p:blipFill>
        <p:spPr>
          <a:xfrm>
            <a:off x="971640" y="38160"/>
            <a:ext cx="1619280" cy="150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7[3]"/>
          <p:cNvPicPr/>
          <p:nvPr/>
        </p:nvPicPr>
        <p:blipFill>
          <a:blip r:embed="rId2"/>
          <a:stretch/>
        </p:blipFill>
        <p:spPr>
          <a:xfrm>
            <a:off x="2771640" y="476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042920" y="2060640"/>
            <a:ext cx="8101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桑娜脸色苍白，神情激动。她忐忑不安地想：“他会说什么呢？这是闹着玩的吗？自己的五个孩子已经够他受的了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是他来啦？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，还没来！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为什么把他们抱过来啊？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他会揍我的！那也活该，我自作自受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嗯，揍我一顿也好！”</a:t>
            </a:r>
            <a:r>
              <a:rPr b="1" lang="zh-CN" sz="3600" spc="-1" strike="noStrike">
                <a:solidFill>
                  <a:srgbClr val="d69b8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我会读pic_227543"/>
          <p:cNvPicPr/>
          <p:nvPr/>
        </p:nvPicPr>
        <p:blipFill>
          <a:blip r:embed="rId1"/>
          <a:stretch/>
        </p:blipFill>
        <p:spPr>
          <a:xfrm>
            <a:off x="1231920" y="101520"/>
            <a:ext cx="1619280" cy="1327320"/>
          </a:xfrm>
          <a:prstGeom prst="rect">
            <a:avLst/>
          </a:prstGeom>
          <a:ln w="0">
            <a:noFill/>
          </a:ln>
        </p:spPr>
      </p:pic>
      <p:sp>
        <p:nvSpPr>
          <p:cNvPr id="147" name="WordArt 4"/>
          <p:cNvSpPr txBox="1"/>
          <p:nvPr/>
        </p:nvSpPr>
        <p:spPr>
          <a:xfrm>
            <a:off x="3097080" y="6984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读一读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692360" y="2276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宋体"/>
              </a:rPr>
              <a:t>）读读这段话，想一想，这段话的大致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宋体"/>
              </a:rPr>
              <a:t>）这段话里出现了几个省略号？请你想象出桑娜的内心活动。</a:t>
            </a: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我会读pic_227543"/>
          <p:cNvPicPr/>
          <p:nvPr/>
        </p:nvPicPr>
        <p:blipFill>
          <a:blip r:embed="rId1"/>
          <a:stretch/>
        </p:blipFill>
        <p:spPr>
          <a:xfrm>
            <a:off x="1231920" y="101520"/>
            <a:ext cx="1619280" cy="1327320"/>
          </a:xfrm>
          <a:prstGeom prst="rect">
            <a:avLst/>
          </a:prstGeom>
          <a:ln w="0">
            <a:noFill/>
          </a:ln>
        </p:spPr>
      </p:pic>
      <p:sp>
        <p:nvSpPr>
          <p:cNvPr id="150" name="WordArt 4"/>
          <p:cNvSpPr txBox="1"/>
          <p:nvPr/>
        </p:nvSpPr>
        <p:spPr>
          <a:xfrm>
            <a:off x="3097080" y="6984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读一读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穷人1"/>
          <p:cNvPicPr/>
          <p:nvPr/>
        </p:nvPicPr>
        <p:blipFill>
          <a:blip r:embed="rId1"/>
          <a:stretch/>
        </p:blipFill>
        <p:spPr>
          <a:xfrm>
            <a:off x="7924680" y="1371600"/>
            <a:ext cx="1219320" cy="1600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22860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穷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28600" y="114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04920" y="5257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066680" y="1143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个孩子  勉强填饱肚子 光着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6002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桑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7524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渔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3716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邻居西蒙的孩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514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早到晚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74320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顾惜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4648320" y="228600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抱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10552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48320" y="3505320"/>
            <a:ext cx="5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抱回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能熬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16002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都有一颗善良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629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宁可自己受苦也要帮助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609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 flipV="1">
            <a:off x="609480" y="1600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5486400" y="1371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7696080" y="1371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9907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0666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4267080" y="5486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 flipV="1">
            <a:off x="7696080" y="3885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259092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>
            <a:off x="2590920" y="3200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45720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9"/>
          <p:cNvSpPr/>
          <p:nvPr/>
        </p:nvSpPr>
        <p:spPr>
          <a:xfrm flipV="1">
            <a:off x="45720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0"/>
          <p:cNvSpPr/>
          <p:nvPr/>
        </p:nvSpPr>
        <p:spPr>
          <a:xfrm>
            <a:off x="1371600" y="2514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1"/>
          <p:cNvSpPr/>
          <p:nvPr/>
        </p:nvSpPr>
        <p:spPr>
          <a:xfrm rot="10792800">
            <a:off x="7009920" y="281916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16"/>
                </a:lnTo>
                <a:cubicBezTo>
                  <a:pt x="10800" y="9716"/>
                  <a:pt x="5400" y="10616"/>
                  <a:pt x="0" y="10616"/>
                </a:cubicBezTo>
                <a:cubicBezTo>
                  <a:pt x="5400" y="10616"/>
                  <a:pt x="10800" y="11516"/>
                  <a:pt x="10800" y="124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2" descr=""/>
          <p:cNvPicPr/>
          <p:nvPr/>
        </p:nvPicPr>
        <p:blipFill>
          <a:blip r:embed="rId2"/>
          <a:stretch/>
        </p:blipFill>
        <p:spPr>
          <a:xfrm>
            <a:off x="2666880" y="419112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85800" y="175248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</a:rPr>
              <a:t>1.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宋体"/>
              </a:rPr>
              <a:t>她自己也不知道为什么要这样做，但是她觉得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非这样做不可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20574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西蒙死了，孩子总不能和死人呆在一起，如果没有人管他们，他们以后怎么办？所以说“她觉得非这样做不可”。但她做这件事情的时候，并没有多考虑，只是良心驱遣她本能地这样做了，所以说，“她自己也不知道为什么要这样做”。从这句朴实的话中，可以看出桑娜的心地多么善良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170720" y="53352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难句讲解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85800" y="3657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</a:rPr>
              <a:t>2.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宋体"/>
              </a:rPr>
              <a:t>他搔搔后脑勺说，“嗯，你看怎么办？得把他们抱来，同死人呆在一起怎么行！哦，我们，我们总能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熬过去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宋体"/>
              </a:rPr>
              <a:t>的！快去！别等他们醒来。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85800" y="46324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讲渔夫考虑怎样对待西蒙的孩子的过程。“他搔搔后脑勺”说明他在考虑问题。“嗯，你看怎么办？”这是在和桑娜商量。“得把他们抱来，同死人呆在一起怎么行！”这是从简单的做人道理出发来考虑，孩子同死人在一起是不行的。“哦，我们，我们总能熬过去的！”考虑自己的生活虽然会更苦一些，但“总能熬过去的”。“快去！别等他们醒来、”怕孩子醒来知道妈妈死了，心灵受创伤。这样的考虑过程合乎情理，说明渔夫的心灵和桑娜一样地善良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68580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佳句赏析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2057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上正起着风暴，外面又黑又冷，在这间渔家的小屋里却温暖而舒适。地扫得干干净净，炉子里的火还没有熄，食具在搁板上闪闪发亮。在挂着白色帐子的床上，五个孩子正在海风呼啸声中安静地睡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14300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她忐忑不安地想：“他会说什么呢？这是闹着玩的吗？自己的五个孩子已经够他受的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他来啦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，还没来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把他们抱回来啊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会揍我的！那也活该，我自作自受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嗯，揍我一顿也好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5:05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50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