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slide" Target="slide3.xml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1"/>
          <a:stretch/>
        </p:blipFill>
        <p:spPr>
          <a:xfrm>
            <a:off x="1400040" y="14288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835200" y="135252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认识钟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173160" y="5918040"/>
            <a:ext cx="44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160640" y="1514520"/>
            <a:ext cx="6796080" cy="5105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203040" y="6424560"/>
            <a:ext cx="52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611280" y="148608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表盘钟面时间认读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44640" y="23180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用钟表拨时间，学生说时间及认读方法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桌同学，一人用钟表拨时间，一人说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44640" y="6090120"/>
            <a:ext cx="74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这是小明的一天，他什么时间在做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154"/>
          <p:cNvPicPr/>
          <p:nvPr/>
        </p:nvPicPr>
        <p:blipFill>
          <a:blip r:embed="rId1"/>
          <a:stretch/>
        </p:blipFill>
        <p:spPr>
          <a:xfrm>
            <a:off x="2405160" y="2209680"/>
            <a:ext cx="433044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55760" y="474840"/>
            <a:ext cx="8688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学习时间的书写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195640" y="580392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记录时间的两种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学生在教科书上把时间写下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154"/>
          <p:cNvPicPr/>
          <p:nvPr/>
        </p:nvPicPr>
        <p:blipFill>
          <a:blip r:embed="rId1"/>
          <a:stretch/>
        </p:blipFill>
        <p:spPr>
          <a:xfrm>
            <a:off x="2260440" y="1557360"/>
            <a:ext cx="4619880" cy="41720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五、巩固提升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193840" y="5558040"/>
            <a:ext cx="56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什么时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说就更好一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155"/>
          <p:cNvPicPr/>
          <p:nvPr/>
        </p:nvPicPr>
        <p:blipFill>
          <a:blip r:embed="rId1"/>
          <a:stretch/>
        </p:blipFill>
        <p:spPr>
          <a:xfrm>
            <a:off x="1550880" y="1700280"/>
            <a:ext cx="5942160" cy="330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156"/>
          <p:cNvPicPr/>
          <p:nvPr/>
        </p:nvPicPr>
        <p:blipFill>
          <a:blip r:embed="rId2"/>
          <a:stretch/>
        </p:blipFill>
        <p:spPr>
          <a:xfrm>
            <a:off x="1547640" y="1728720"/>
            <a:ext cx="5507280" cy="3340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"/>
                            </p:stCondLst>
                            <p:childTnLst>
                              <p:par>
                                <p:cTn id="1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EF5-03B6-4BD8-8519-2377964D00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5"/>
          <p:cNvSpPr/>
          <p:nvPr/>
        </p:nvSpPr>
        <p:spPr>
          <a:xfrm>
            <a:off x="2843280" y="3429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55760" y="476280"/>
            <a:ext cx="868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感受认识钟表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26920" y="1484280"/>
            <a:ext cx="568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感知，认识钟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14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063880" y="2276640"/>
            <a:ext cx="5029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2040" y="304920"/>
            <a:ext cx="8350200" cy="6259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147"/>
          <p:cNvPicPr/>
          <p:nvPr/>
        </p:nvPicPr>
        <p:blipFill>
          <a:blip r:embed="rId1"/>
          <a:stretch/>
        </p:blipFill>
        <p:spPr>
          <a:xfrm>
            <a:off x="2516040" y="2133720"/>
            <a:ext cx="4000680" cy="3311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826920" y="1484280"/>
            <a:ext cx="511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感知，认识钟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139760" y="57009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红是什么时间起床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么知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26920" y="1484280"/>
            <a:ext cx="56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课题，明确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60640" y="5408280"/>
            <a:ext cx="78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主题：你们看钟表虽小，却与我们的生活有密切联系，它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我们时间，提醒我们工作和学习，这节课我们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起来认识钟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5760" y="476280"/>
            <a:ext cx="868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感受认识钟表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148"/>
          <p:cNvPicPr/>
          <p:nvPr/>
        </p:nvPicPr>
        <p:blipFill>
          <a:blip r:embed="rId1"/>
          <a:stretch/>
        </p:blipFill>
        <p:spPr>
          <a:xfrm>
            <a:off x="3135240" y="2313000"/>
            <a:ext cx="2873520" cy="2771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</a:rPr>
              <a:t>二、结合生活探究认读电子表上整时的方法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48960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认识电子表时刻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157400" y="529884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才有的同学说从这个钟表上可以看出这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你是怎么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在哪儿见过这样的钟表？这些钟表叫做电子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巩固电子表时刻认读方法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157400" y="5558040"/>
            <a:ext cx="77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钟表各表示的是几时？你是怎么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钟表上像这样表示的时间我们称它为整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857160" y="2214720"/>
            <a:ext cx="32004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4857840" y="2214720"/>
            <a:ext cx="316224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2786040" y="3943440"/>
            <a:ext cx="3162240" cy="13428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二、结合生活探究认读电子表上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147"/>
          <p:cNvPicPr/>
          <p:nvPr/>
        </p:nvPicPr>
        <p:blipFill>
          <a:blip r:embed="rId1"/>
          <a:stretch/>
        </p:blipFill>
        <p:spPr>
          <a:xfrm>
            <a:off x="1800360" y="1612800"/>
            <a:ext cx="4716360" cy="3903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95280" y="5478480"/>
            <a:ext cx="872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电子表外，还有同学从墙上的这个钟面上看出了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。你是怎么从钟面上看出这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157400" y="547992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认时间的时候用到了钟面上的指针和数。看来要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钟面上认读出时间，这些指针和数都非常重要。那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先来认识认识它们吧。你对钟面有什么了解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157400" y="5478840"/>
            <a:ext cx="79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认识了这些朋友，你能再说一说是怎样看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150-1"/>
          <p:cNvPicPr/>
          <p:nvPr/>
        </p:nvPicPr>
        <p:blipFill>
          <a:blip r:embed="rId2"/>
          <a:stretch/>
        </p:blipFill>
        <p:spPr>
          <a:xfrm>
            <a:off x="2486160" y="1593720"/>
            <a:ext cx="3670200" cy="3670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151"/>
          <p:cNvPicPr/>
          <p:nvPr/>
        </p:nvPicPr>
        <p:blipFill>
          <a:blip r:embed="rId3"/>
          <a:stretch/>
        </p:blipFill>
        <p:spPr>
          <a:xfrm>
            <a:off x="6227640" y="1387440"/>
            <a:ext cx="2665440" cy="1754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"/>
                            </p:stCondLst>
                            <p:childTnLst>
                              <p:par>
                                <p:cTn id="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219320" y="1581120"/>
            <a:ext cx="6624360" cy="4965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417600" y="54784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同桌同学互相说一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谁能来说一说你的发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1413000"/>
            <a:ext cx="453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157400" y="5478840"/>
            <a:ext cx="78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当分针指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，时针指着几，就是几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157400" y="548496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几时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知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305000" y="4624200"/>
            <a:ext cx="107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48120" y="4624200"/>
            <a:ext cx="10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591240" y="4624200"/>
            <a:ext cx="10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152"/>
          <p:cNvPicPr/>
          <p:nvPr/>
        </p:nvPicPr>
        <p:blipFill>
          <a:blip r:embed="rId1"/>
          <a:stretch/>
        </p:blipFill>
        <p:spPr>
          <a:xfrm>
            <a:off x="695160" y="2336760"/>
            <a:ext cx="7525080" cy="219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153"/>
          <p:cNvPicPr/>
          <p:nvPr/>
        </p:nvPicPr>
        <p:blipFill>
          <a:blip r:embed="rId2"/>
          <a:stretch/>
        </p:blipFill>
        <p:spPr>
          <a:xfrm>
            <a:off x="5364000" y="1341360"/>
            <a:ext cx="3527640" cy="1120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6:09:40Z</dcterms:modified>
  <cp:revision>29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